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2.wmf" ContentType="image/x-wmf"/>
  <Override PartName="/ppt/media/image19.png" ContentType="image/png"/>
  <Override PartName="/ppt/media/image21.jpeg" ContentType="image/jpeg"/>
  <Override PartName="/ppt/media/image26.jpeg" ContentType="image/jpeg"/>
  <Override PartName="/ppt/media/image20.wmf" ContentType="image/x-wmf"/>
  <Override PartName="/ppt/media/image17.png" ContentType="image/png"/>
  <Override PartName="/ppt/media/image32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39.jpeg" ContentType="image/jpeg"/>
  <Override PartName="/ppt/media/image8.png" ContentType="image/png"/>
  <Override PartName="/ppt/media/image30.jpeg" ContentType="image/jpeg"/>
  <Override PartName="/ppt/media/image24.jpeg" ContentType="image/jpeg"/>
  <Override PartName="/ppt/media/image31.wmf" ContentType="image/x-wmf"/>
  <Override PartName="/ppt/media/image38.jpeg" ContentType="image/jpeg"/>
  <Override PartName="/ppt/media/image40.jpeg" ContentType="image/jpeg"/>
  <Override PartName="/ppt/media/image34.wmf" ContentType="image/x-wmf"/>
  <Override PartName="/ppt/media/image13.png" ContentType="image/png"/>
  <Override PartName="/ppt/media/image33.wmf" ContentType="image/x-wmf"/>
  <Override PartName="/ppt/media/image3.jpeg" ContentType="image/jpeg"/>
  <Override PartName="/ppt/media/image37.jpeg" ContentType="image/jpeg"/>
  <Override PartName="/ppt/media/image36.wmf" ContentType="image/x-wmf"/>
  <Override PartName="/ppt/media/image16.png" ContentType="image/png"/>
  <Override PartName="/ppt/media/image6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11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2.png" ContentType="image/png"/>
  <Override PartName="/ppt/media/image29.wmf" ContentType="image/x-wmf"/>
  <Override PartName="/ppt/media/image1.png" ContentType="image/png"/>
  <Override PartName="/ppt/media/image1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5FB5-A1BD-4B1E-BAED-E4E19DF21C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B0AB-DBFD-4149-BC12-DDDA30F794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AA5-4DD2-4F25-A4ED-A546B33969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ыполнение плана по доходам произошло по всем видам доходов и составило 117% к план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его в суммовом выражении 980, т.р. Которые перешли на 2013г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НДФЛ план -2974,8 т.р. Факт 3452,9т.р. – 11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.на имущ. План 549,7т.р. Факт 691,2т.р. – 1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.налог план 400,0т.р. Факт 507,4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нда земли план 492,4т.р. Факт 575,6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жа имущ. План 475,0т.р. Факт-480,5т.р. – 10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EB3C-02AA-487B-8A0C-585B75C621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езвозмездных поступлений большую часть занимает поступление из ФСР на программу «сельское жилье» (37455,0т.р) и безвозмездные перечисления от организаций для участия в этой программе 11645,0т.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C43E-7416-4864-9566-BEADF7DAF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ую часть в структуре расходов занимает выплата з/пл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48,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  оплата коммунальных услуг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01,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.  увеличение стоимости основных сред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24,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т.р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одосн.Кирова85-116-1519,4  ГТС-1291,5)  содержание имущества 1880,0т.р. Это содержание дорог, ремонт обьектов коммун. Хоз/ва, Т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E5E8-4232-47C6-A286-FCC7183032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8316-42A4-4E60-A7FE-2A7D3675FF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расходы по разделам  на которые были распределены денежные средства …  Большая доля расходов к общему обьему отражена на культуру-29%  далее администрация-27% др.общег.вопросы – 14% на участие в инвестпроектах доля местного бюджета (25%) – 13% благоустройство -8% дорожное хоз/во – 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0293-BAA2-4E1B-B69B-B2584D82D5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23B-99F5-4B29-9C8B-89C92656F3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азделу оплачены расходы по испол.листу 1690,8т.р. Оплата нал.на имущ.-360,0т.р. Налог на землю 59,9т.р. Транс.налог 19,1т.р. Госпошлина 74,1т.р.взнос в МО 16,0т.р. Старосты 53,8 т.р. ДНД 60,5т.р. Паспортизация инвентаризация оформление права собственности 170,0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09C3-2CAF-4DA5-A696-DC554AFC3E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доля расходов по разделу приходится на расходы по уличному освещению это оплата э/эн. 1166,5т.р.и ТО 210,0т.р.  Свод тополей по ул.Ленина 25,0т.р. Содержание кладбища 36,0т.р. Уборка, сбор и вывоз мусора с мест общего пользования 49,7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F16F-2DAF-44B9-8B1D-8847B75C09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культура предусмотрены средства на содержание 2-х учреждений МАУК ФКСЦ факт 2800,0т.р. и библиотека 2123,1 т.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9E29-CABA-48DA-BF7D-AD97C6EE58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219-CC97-43C0-8E68-6945260F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87D-1109-4549-8717-AE1BDAED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61E-BEEC-4A77-A71E-F27B9644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240-4996-4D63-97B8-B4A0475D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704-7614-4CEC-A9C1-A6211C6F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014-0B28-49C6-9A1E-3228E716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FC2-FA32-4BBD-B13A-18E06460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487-6457-4A97-94BD-DAB31D09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234-4479-483D-845E-4BCA01C0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408-7AD6-445F-B6E7-9A68883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8B1-9337-41B8-92A3-17633849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EBA-F16B-4D8F-A0B8-D6C15FBE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1EE1-0E73-49EA-ADB1-B8ED85300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826920" y="4581360"/>
            <a:ext cx="77058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ОБ ИСПОЛНЕНИИ БЮДЖЕТА МО «Плеховский сельсовет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за 2021 ГО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384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Диаграмма 1"/>
          <p:cNvGraphicFramePr/>
          <p:nvPr/>
        </p:nvGraphicFramePr>
        <p:xfrm>
          <a:off x="219240" y="857160"/>
          <a:ext cx="872460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857160"/>
                    <a:ext cx="8724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поступления  доходов 20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http://cdn.fishki.net/upload/post/201504/28/1516231/skachannye-fajly.jpg"/>
          <p:cNvPicPr/>
          <p:nvPr/>
        </p:nvPicPr>
        <p:blipFill>
          <a:blip r:embed="rId3"/>
          <a:stretch/>
        </p:blipFill>
        <p:spPr>
          <a:xfrm>
            <a:off x="155520" y="4149720"/>
            <a:ext cx="71532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ление собственных доходов в 2021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Содержимое 3"/>
          <p:cNvGraphicFramePr/>
          <p:nvPr/>
        </p:nvGraphicFramePr>
        <p:xfrm>
          <a:off x="981000" y="1076400"/>
          <a:ext cx="7677360" cy="50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076400"/>
                    <a:ext cx="7677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и фактическое поступ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ходов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1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000" y="595008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Объект 1"/>
          <p:cNvGraphicFramePr/>
          <p:nvPr/>
        </p:nvGraphicFramePr>
        <p:xfrm>
          <a:off x="685800" y="762120"/>
          <a:ext cx="811548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811548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2997360"/>
          <a:ext cx="7172280" cy="2009520"/>
        </p:xfrm>
        <a:graphic>
          <a:graphicData uri="http://schemas.openxmlformats.org/drawingml/2006/table">
            <a:tbl>
              <a:tblPr/>
              <a:tblGrid>
                <a:gridCol w="5864040"/>
                <a:gridCol w="130824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лог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8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Рисунок 9" descr=""/>
          <p:cNvPicPr/>
          <p:nvPr/>
        </p:nvPicPr>
        <p:blipFill>
          <a:blip r:embed="rId1"/>
          <a:stretch/>
        </p:blipFill>
        <p:spPr>
          <a:xfrm>
            <a:off x="2987640" y="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5435640" y="31680"/>
            <a:ext cx="3240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Налоговые и неналоговые доходы 2021 г.     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6E99-9540-4C34-AFF9-2AB7C4F5C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pyriatyn.org.ua/data/photomanager/1485340793_big.jpg"/>
          <p:cNvPicPr/>
          <p:nvPr/>
        </p:nvPicPr>
        <p:blipFill>
          <a:blip r:embed="rId2"/>
          <a:stretch/>
        </p:blipFill>
        <p:spPr>
          <a:xfrm>
            <a:off x="0" y="189000"/>
            <a:ext cx="53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оступления безвозмездных перечислений в 202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Содержимое 3"/>
          <p:cNvGraphicFramePr/>
          <p:nvPr/>
        </p:nvGraphicFramePr>
        <p:xfrm>
          <a:off x="3057480" y="1628640"/>
          <a:ext cx="5257800" cy="39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7480" y="1628640"/>
                    <a:ext cx="525780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5" descr="http://gztslovo.ru/byudzhejpg"/>
          <p:cNvPicPr/>
          <p:nvPr/>
        </p:nvPicPr>
        <p:blipFill>
          <a:blip r:embed="rId3"/>
          <a:stretch/>
        </p:blipFill>
        <p:spPr>
          <a:xfrm>
            <a:off x="0" y="476280"/>
            <a:ext cx="29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3"/>
          <p:cNvSpPr/>
          <p:nvPr/>
        </p:nvSpPr>
        <p:spPr>
          <a:xfrm>
            <a:off x="2087640" y="5915160"/>
            <a:ext cx="6940440" cy="6318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Расходы бюджета поселения в расчете на душу населения в 2021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0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12"/>
          <p:cNvSpPr/>
          <p:nvPr/>
        </p:nvSpPr>
        <p:spPr>
          <a:xfrm>
            <a:off x="169920" y="954000"/>
            <a:ext cx="1131840" cy="10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3"/>
          <p:cNvSpPr/>
          <p:nvPr/>
        </p:nvSpPr>
        <p:spPr>
          <a:xfrm>
            <a:off x="2050920" y="1197000"/>
            <a:ext cx="6940800" cy="6318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4"/>
          <p:cNvSpPr/>
          <p:nvPr/>
        </p:nvSpPr>
        <p:spPr>
          <a:xfrm>
            <a:off x="1104840" y="94608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252360" y="1138320"/>
            <a:ext cx="9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4000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1104840" y="1119240"/>
            <a:ext cx="103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333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2255760" y="1284120"/>
            <a:ext cx="666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одного граждан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8"/>
          <p:cNvSpPr/>
          <p:nvPr/>
        </p:nvSpPr>
        <p:spPr>
          <a:xfrm>
            <a:off x="160200" y="2131920"/>
            <a:ext cx="1132200" cy="108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9"/>
          <p:cNvSpPr/>
          <p:nvPr/>
        </p:nvSpPr>
        <p:spPr>
          <a:xfrm>
            <a:off x="2066760" y="2359080"/>
            <a:ext cx="6940800" cy="6318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0"/>
          <p:cNvSpPr/>
          <p:nvPr/>
        </p:nvSpPr>
        <p:spPr>
          <a:xfrm>
            <a:off x="1054080" y="212400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1"/>
          <p:cNvSpPr/>
          <p:nvPr/>
        </p:nvSpPr>
        <p:spPr>
          <a:xfrm>
            <a:off x="279360" y="225108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669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2"/>
          <p:cNvSpPr/>
          <p:nvPr/>
        </p:nvSpPr>
        <p:spPr>
          <a:xfrm>
            <a:off x="1171440" y="2293920"/>
            <a:ext cx="93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139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2255760" y="2401920"/>
            <a:ext cx="666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160200" y="3297240"/>
            <a:ext cx="11322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5"/>
          <p:cNvSpPr/>
          <p:nvPr/>
        </p:nvSpPr>
        <p:spPr>
          <a:xfrm>
            <a:off x="2075040" y="3571920"/>
            <a:ext cx="6940440" cy="630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1114560" y="3351240"/>
            <a:ext cx="1116000" cy="1122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258840" y="347184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2061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1270080" y="347184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171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2332080" y="3624120"/>
            <a:ext cx="66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На Куль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32"/>
          <p:cNvSpPr/>
          <p:nvPr/>
        </p:nvSpPr>
        <p:spPr>
          <a:xfrm>
            <a:off x="160200" y="4441680"/>
            <a:ext cx="1132200" cy="108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3"/>
          <p:cNvSpPr/>
          <p:nvPr/>
        </p:nvSpPr>
        <p:spPr>
          <a:xfrm flipV="1">
            <a:off x="2050920" y="4723200"/>
            <a:ext cx="6940800" cy="73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38"/>
          <p:cNvSpPr/>
          <p:nvPr/>
        </p:nvSpPr>
        <p:spPr>
          <a:xfrm>
            <a:off x="108000" y="5661000"/>
            <a:ext cx="1131840" cy="10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40"/>
          <p:cNvSpPr/>
          <p:nvPr/>
        </p:nvSpPr>
        <p:spPr>
          <a:xfrm>
            <a:off x="1131840" y="5691240"/>
            <a:ext cx="1116000" cy="1120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1"/>
          <p:cNvSpPr/>
          <p:nvPr/>
        </p:nvSpPr>
        <p:spPr>
          <a:xfrm>
            <a:off x="236520" y="580392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14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48a54"/>
                </a:solidFill>
                <a:latin typeface="Tahoma"/>
                <a:ea typeface="Tahoma"/>
              </a:rPr>
              <a:t>в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2"/>
          <p:cNvSpPr/>
          <p:nvPr/>
        </p:nvSpPr>
        <p:spPr>
          <a:xfrm>
            <a:off x="1208160" y="5875200"/>
            <a:ext cx="9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12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ahoma"/>
                <a:ea typeface="Tahoma"/>
              </a:rPr>
              <a:t>в мес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2320920" y="596916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благо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1"/>
          <p:cNvSpPr/>
          <p:nvPr/>
        </p:nvSpPr>
        <p:spPr>
          <a:xfrm>
            <a:off x="655308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9A0C-83C1-428F-B9D0-C014B8EAC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расходов в разрезе основных статей в 202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Содержимое 3"/>
          <p:cNvGraphicFramePr/>
          <p:nvPr/>
        </p:nvGraphicFramePr>
        <p:xfrm>
          <a:off x="76320" y="2525760"/>
          <a:ext cx="863892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25760"/>
                    <a:ext cx="86389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Picture 7" descr="D:\Desktop\Accountant-300x281.jpg"/>
          <p:cNvPicPr/>
          <p:nvPr/>
        </p:nvPicPr>
        <p:blipFill>
          <a:blip r:embed="rId3"/>
          <a:stretch/>
        </p:blipFill>
        <p:spPr>
          <a:xfrm>
            <a:off x="5435640" y="0"/>
            <a:ext cx="3313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Финансирование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0"/>
          <p:cNvSpPr/>
          <p:nvPr/>
        </p:nvSpPr>
        <p:spPr>
          <a:xfrm>
            <a:off x="252360" y="1160640"/>
            <a:ext cx="863928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муниципального учреждения осуществлялось на основании «Дорожной карты», утвержденной Постановлением Администрации Плеховского сельсовета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му  учреждению установлено муниципальное задание на оказание муниципальных услуг с указанием показателей объёма и качества его выпол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Перечень муниципальных услуг (работ), оказываемых (выполняемых) муниципальными учреждениями утверждён администрацией МО «Плеховский сельсовет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ые услуги (работы), оказываемые (выполняемые) муниципальным учреждением в рамках муниципального задания предоставлялись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населению бесплатно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ование органов местного самоуправления,  и казённого учреждения (Дом культуры) осуществлялось согласно бюджетных смет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1CF7-3246-43B3-8790-727386112E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асходы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 разделам 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021год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Содержимое 3"/>
          <p:cNvGraphicFramePr/>
          <p:nvPr/>
        </p:nvGraphicFramePr>
        <p:xfrm>
          <a:off x="581040" y="1152360"/>
          <a:ext cx="8648640" cy="534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152360"/>
                    <a:ext cx="864864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Заголовок 1"/>
          <p:cNvSpPr/>
          <p:nvPr/>
        </p:nvSpPr>
        <p:spPr>
          <a:xfrm>
            <a:off x="5292720" y="31680"/>
            <a:ext cx="35989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лан и фактичекое исполнение  расходной части бюджета по разде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2349360"/>
          <a:ext cx="8929800" cy="4054680"/>
        </p:xfrm>
        <a:graphic>
          <a:graphicData uri="http://schemas.openxmlformats.org/drawingml/2006/table">
            <a:tbl>
              <a:tblPr/>
              <a:tblGrid>
                <a:gridCol w="218880"/>
                <a:gridCol w="3777840"/>
                <a:gridCol w="1695600"/>
                <a:gridCol w="1081080"/>
                <a:gridCol w="1328760"/>
                <a:gridCol w="827640"/>
              </a:tblGrid>
              <a:tr h="70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именование разд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Утвержденные бюджет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исполненные назна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оцент испол-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вичные меры пожарной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оммунальное хозя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Благоустрой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оц.поли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115C-613C-43D0-97F0-CE108213A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http://infoption.ru/images/0fc08bea911527378f9beb410b5a4de8"/>
          <p:cNvPicPr/>
          <p:nvPr/>
        </p:nvPicPr>
        <p:blipFill>
          <a:blip r:embed="rId1"/>
          <a:stretch/>
        </p:blipFill>
        <p:spPr>
          <a:xfrm>
            <a:off x="0" y="0"/>
            <a:ext cx="52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258920" y="336600"/>
            <a:ext cx="6121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важаемые жители Плеховского сельсове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едставляем вашему вниманию «Отчет для граждан», который познакомит вас с основными положениями отчета об исполнении бюджета МО «Плеховский сельсовет » за 2021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нформация в доступной форме знакомит вас с основными характеристиками отчета МО «Плеховский сельсовет», достигнутыми целями и  выполненными задачами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Разработка информационного ресурса «Отчет для граждан» является одним из важных направлений бюджетной политики, нацеленной на повышение прозрачности, открытости бюджета и бюджет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тчет для граждан» нацелен на получение обратной связи от населения, которому интересны проблемы и итоги деятельности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Аппарата управления администрации пос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Содержимое 3"/>
          <p:cNvGraphicFramePr/>
          <p:nvPr/>
        </p:nvGraphicFramePr>
        <p:xfrm>
          <a:off x="-1001880" y="3298680"/>
          <a:ext cx="113112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01880" y="3298680"/>
                    <a:ext cx="113112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5" descr="http://cherkasy-city.com/sites/default/files/images/news/2014/10/143123.jpg"/>
          <p:cNvPicPr/>
          <p:nvPr/>
        </p:nvPicPr>
        <p:blipFill>
          <a:blip r:embed="rId3"/>
          <a:stretch/>
        </p:blipFill>
        <p:spPr>
          <a:xfrm>
            <a:off x="155520" y="0"/>
            <a:ext cx="4129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государственные расх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Содержимое 3"/>
          <p:cNvGraphicFramePr/>
          <p:nvPr/>
        </p:nvGraphicFramePr>
        <p:xfrm>
          <a:off x="581040" y="1066680"/>
          <a:ext cx="8429760" cy="51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066680"/>
                    <a:ext cx="842976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на благоустрой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Содержимое 3"/>
          <p:cNvGraphicFramePr/>
          <p:nvPr/>
        </p:nvGraphicFramePr>
        <p:xfrm>
          <a:off x="824040" y="3067200"/>
          <a:ext cx="8839080" cy="294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3067200"/>
                    <a:ext cx="883908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Picture 6" descr="улица"/>
          <p:cNvPicPr/>
          <p:nvPr/>
        </p:nvPicPr>
        <p:blipFill>
          <a:blip r:embed="rId3"/>
          <a:stretch/>
        </p:blipFill>
        <p:spPr>
          <a:xfrm>
            <a:off x="1403280" y="692280"/>
            <a:ext cx="612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35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ходы на содержание учреждени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Содержимое 3"/>
          <p:cNvGraphicFramePr/>
          <p:nvPr/>
        </p:nvGraphicFramePr>
        <p:xfrm>
          <a:off x="533520" y="4543560"/>
          <a:ext cx="8267760" cy="183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43560"/>
                    <a:ext cx="82677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Picture 6" descr="клуб"/>
          <p:cNvPicPr/>
          <p:nvPr/>
        </p:nvPicPr>
        <p:blipFill>
          <a:blip r:embed="rId3"/>
          <a:stretch/>
        </p:blipFill>
        <p:spPr>
          <a:xfrm>
            <a:off x="1476360" y="620640"/>
            <a:ext cx="590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оловок 1"/>
          <p:cNvSpPr/>
          <p:nvPr/>
        </p:nvSpPr>
        <p:spPr>
          <a:xfrm>
            <a:off x="611280" y="31680"/>
            <a:ext cx="79930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таток средств на счетах администрации Плеховского сельсовета на 01.01.202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55640" y="1052640"/>
            <a:ext cx="76042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статок средств на едином счёте бюджета МО «Плеховского сельсовета» по состоянию на 1 января 2022 года составил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321,1 тыс. рубл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, из них целевых средств нет. Все средства свободные к  распределению в текущем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48AB-51A5-4629-A3C7-848CB64DC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http://ks-region69.com/wp-content/uploads/2015/03/bednye_zhiteli.jpg"/>
          <p:cNvPicPr/>
          <p:nvPr/>
        </p:nvPicPr>
        <p:blipFill>
          <a:blip r:embed="rId1"/>
          <a:stretch/>
        </p:blipFill>
        <p:spPr>
          <a:xfrm>
            <a:off x="90360" y="2637000"/>
            <a:ext cx="8934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Заголовок 1"/>
          <p:cNvSpPr/>
          <p:nvPr/>
        </p:nvSpPr>
        <p:spPr>
          <a:xfrm>
            <a:off x="712800" y="31680"/>
            <a:ext cx="74055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тоговые показатели отчета об исполнении бюджета за 202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8"/>
          <p:cNvSpPr/>
          <p:nvPr/>
        </p:nvSpPr>
        <p:spPr>
          <a:xfrm>
            <a:off x="255600" y="1125360"/>
            <a:ext cx="8639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712800" y="98100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доходной части бюджета составляет 3170,2 тыс. руб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расходной части бюджета составляет  3137,1 тыс. руб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B25E-3029-43F6-9220-6B736D33F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http://static6.depositphotos.com/1058973/537/i/950/depositphotos_5378781-Money-under-magnifying-glass.jpg"/>
          <p:cNvPicPr/>
          <p:nvPr/>
        </p:nvPicPr>
        <p:blipFill>
          <a:blip r:embed="rId1"/>
          <a:stretch/>
        </p:blipFill>
        <p:spPr>
          <a:xfrm>
            <a:off x="395280" y="2924280"/>
            <a:ext cx="8497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5" descr=""/>
          <p:cNvPicPr/>
          <p:nvPr/>
        </p:nvPicPr>
        <p:blipFill>
          <a:blip r:embed="rId1"/>
          <a:stretch/>
        </p:blipFill>
        <p:spPr>
          <a:xfrm>
            <a:off x="15840" y="0"/>
            <a:ext cx="696960" cy="8841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2"/>
          <p:cNvSpPr/>
          <p:nvPr/>
        </p:nvSpPr>
        <p:spPr>
          <a:xfrm>
            <a:off x="250920" y="4149720"/>
            <a:ext cx="86407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Отчет для граждан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подготовлен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Администрацией  МО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Плеховский сельсовет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, расположенным по адресу: ул.Новая, дом 4 с. Плехово Суджанский район Кур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телефон/факс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8(47143) 3-15-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E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mail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admplehovo@yandex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Отчет для граждан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подготовлен на основании решения собрания депутатов Плеховского сельсовета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Об утверждении отчета об исполнении бюджета за 2021год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  <a:ea typeface="Tahoma"/>
              </a:rPr>
              <a:t>»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 и размещён на сайте поселения по адрес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http://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Tahoma"/>
              </a:rPr>
              <a:t>плеховский-сельсовет.р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C36C-54E6-479D-BCBD-983DE87CD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администрация"/>
          <p:cNvPicPr/>
          <p:nvPr/>
        </p:nvPicPr>
        <p:blipFill>
          <a:blip r:embed="rId2"/>
          <a:stretch/>
        </p:blipFill>
        <p:spPr>
          <a:xfrm>
            <a:off x="539640" y="189000"/>
            <a:ext cx="8128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611280" y="5805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Численность  населения (по регистрации) на 01.01.2022 года составила 701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троица"/>
          <p:cNvPicPr/>
          <p:nvPr/>
        </p:nvPicPr>
        <p:blipFill>
          <a:blip r:embed="rId1"/>
          <a:stretch/>
        </p:blipFill>
        <p:spPr>
          <a:xfrm>
            <a:off x="900000" y="115920"/>
            <a:ext cx="78501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3"/>
          <p:cNvSpPr/>
          <p:nvPr/>
        </p:nvSpPr>
        <p:spPr>
          <a:xfrm>
            <a:off x="123840" y="1052640"/>
            <a:ext cx="2976480" cy="115884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179280" y="1474920"/>
            <a:ext cx="2876760" cy="68400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:\New Folder\самоуправление.png"/>
          <p:cNvPicPr/>
          <p:nvPr/>
        </p:nvPicPr>
        <p:blipFill>
          <a:blip r:embed="rId1"/>
          <a:stretch/>
        </p:blipFill>
        <p:spPr>
          <a:xfrm>
            <a:off x="284040" y="1428840"/>
            <a:ext cx="719280" cy="669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3"/>
          <p:cNvSpPr/>
          <p:nvPr/>
        </p:nvSpPr>
        <p:spPr>
          <a:xfrm>
            <a:off x="5164200" y="1052640"/>
            <a:ext cx="2976480" cy="114768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>
            <a:off x="5199120" y="1463760"/>
            <a:ext cx="2876400" cy="682560"/>
          </a:xfrm>
          <a:prstGeom prst="rect">
            <a:avLst/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828720" y="15526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орган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5929200" y="156528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муниципа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E:\New Folder\муниципальное.png"/>
          <p:cNvPicPr/>
          <p:nvPr/>
        </p:nvPicPr>
        <p:blipFill>
          <a:blip r:embed="rId2"/>
          <a:stretch/>
        </p:blipFill>
        <p:spPr>
          <a:xfrm>
            <a:off x="5249880" y="1392120"/>
            <a:ext cx="887400" cy="82404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40"/>
          <p:cNvSpPr/>
          <p:nvPr/>
        </p:nvSpPr>
        <p:spPr>
          <a:xfrm>
            <a:off x="5292720" y="234936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ввв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9"/>
          <p:cNvSpPr/>
          <p:nvPr/>
        </p:nvSpPr>
        <p:spPr>
          <a:xfrm>
            <a:off x="5292720" y="2349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1- Дом культуры      (1 фили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ый треугольник 30"/>
          <p:cNvSpPr/>
          <p:nvPr/>
        </p:nvSpPr>
        <p:spPr>
          <a:xfrm rot="12911400">
            <a:off x="756720" y="2562120"/>
            <a:ext cx="126396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ый треугольник 62"/>
          <p:cNvSpPr/>
          <p:nvPr/>
        </p:nvSpPr>
        <p:spPr>
          <a:xfrm rot="18925200">
            <a:off x="3665160" y="2139840"/>
            <a:ext cx="1263600" cy="208080"/>
          </a:xfrm>
          <a:prstGeom prst="rtTriangle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54"/>
          <p:cNvSpPr/>
          <p:nvPr/>
        </p:nvSpPr>
        <p:spPr>
          <a:xfrm>
            <a:off x="1798560" y="2700360"/>
            <a:ext cx="2352600" cy="235440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4"/>
          <p:cNvSpPr/>
          <p:nvPr/>
        </p:nvSpPr>
        <p:spPr>
          <a:xfrm>
            <a:off x="2187720" y="2747880"/>
            <a:ext cx="2195280" cy="2195640"/>
          </a:xfrm>
          <a:prstGeom prst="ellipse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5"/>
          <p:cNvSpPr/>
          <p:nvPr/>
        </p:nvSpPr>
        <p:spPr>
          <a:xfrm>
            <a:off x="1473480" y="3638520"/>
            <a:ext cx="368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з бюджета МО «Плеховский сель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Финансиру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E:\New Folder\город.png"/>
          <p:cNvPicPr/>
          <p:nvPr/>
        </p:nvPicPr>
        <p:blipFill>
          <a:blip r:embed="rId3"/>
          <a:stretch/>
        </p:blipFill>
        <p:spPr>
          <a:xfrm>
            <a:off x="2674800" y="2921040"/>
            <a:ext cx="1265400" cy="73332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3654360" y="31680"/>
            <a:ext cx="4805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Сеть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"/>
          <p:cNvPicPr/>
          <p:nvPr/>
        </p:nvPicPr>
        <p:blipFill>
          <a:blip r:embed="rId4"/>
          <a:stretch/>
        </p:blipFill>
        <p:spPr>
          <a:xfrm>
            <a:off x="15840" y="0"/>
            <a:ext cx="1243080" cy="884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720" y="1413000"/>
            <a:ext cx="446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пон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5E96-3DE7-44CA-9D50-D21104F2F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252360" y="2637000"/>
            <a:ext cx="863928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Бюджет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о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оступающие в бюджет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Расходы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выплачиваемые из бюджета денежные сред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Дефицит бюджет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расходов бюджета над его до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00"/>
                </a:solidFill>
                <a:uFillTx/>
                <a:latin typeface="Tahoma"/>
                <a:ea typeface="Tahoma"/>
              </a:rPr>
              <a:t>Профицит бюджет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  <a:ea typeface="Tahoma"/>
              </a:rPr>
              <a:t>- превышение доходов бюджета над его расход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files.kabobo.ru/tw_files2/urls_1632/9/d-8628/8628_html_m37268541.jpg"/>
          <p:cNvPicPr/>
          <p:nvPr/>
        </p:nvPicPr>
        <p:blipFill>
          <a:blip r:embed="rId2"/>
          <a:stretch/>
        </p:blipFill>
        <p:spPr>
          <a:xfrm>
            <a:off x="179280" y="0"/>
            <a:ext cx="381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54000" y="31680"/>
            <a:ext cx="531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Основные характеристики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24D6-17FB-4C62-AB3B-8332E941A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hmedova\Рабочий стол\New Folder\1.png"/>
          <p:cNvPicPr/>
          <p:nvPr/>
        </p:nvPicPr>
        <p:blipFill>
          <a:blip r:embed="rId2"/>
          <a:stretch/>
        </p:blipFill>
        <p:spPr>
          <a:xfrm>
            <a:off x="658800" y="995400"/>
            <a:ext cx="1866960" cy="20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ahmedova\Рабочий стол\New Folder\2.png"/>
          <p:cNvPicPr/>
          <p:nvPr/>
        </p:nvPicPr>
        <p:blipFill>
          <a:blip r:embed="rId3"/>
          <a:stretch/>
        </p:blipFill>
        <p:spPr>
          <a:xfrm>
            <a:off x="2282760" y="1190520"/>
            <a:ext cx="2001960" cy="23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ahmedova\Рабочий стол\New Folder\3.png"/>
          <p:cNvPicPr/>
          <p:nvPr/>
        </p:nvPicPr>
        <p:blipFill>
          <a:blip r:embed="rId4"/>
          <a:stretch/>
        </p:blipFill>
        <p:spPr>
          <a:xfrm>
            <a:off x="4711680" y="1179360"/>
            <a:ext cx="2130480" cy="246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ahmedova\Рабочий стол\New Folder\4.png"/>
          <p:cNvPicPr/>
          <p:nvPr/>
        </p:nvPicPr>
        <p:blipFill>
          <a:blip r:embed="rId5"/>
          <a:stretch/>
        </p:blipFill>
        <p:spPr>
          <a:xfrm>
            <a:off x="7113600" y="1141560"/>
            <a:ext cx="1440000" cy="178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867240" y="30672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2767680" y="37735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4967280" y="377352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7325280" y="30672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825480" y="4508640"/>
            <a:ext cx="3230640" cy="72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авильный пятиугольник 22"/>
          <p:cNvSpPr/>
          <p:nvPr/>
        </p:nvSpPr>
        <p:spPr>
          <a:xfrm rot="10800000">
            <a:off x="1511280" y="4586040"/>
            <a:ext cx="1873440" cy="1003320"/>
          </a:xfrm>
          <a:prstGeom prst="pentagon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1572840" y="4627440"/>
            <a:ext cx="175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е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рас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до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304920" y="5595840"/>
            <a:ext cx="4286160" cy="8906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411120" y="5543640"/>
            <a:ext cx="405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расходов над доходами принимается решение об источниках покрытия дефицита (привлечение кредитов, изменение остатков средст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6"/>
          <p:cNvSpPr/>
          <p:nvPr/>
        </p:nvSpPr>
        <p:spPr>
          <a:xfrm>
            <a:off x="5232240" y="4502160"/>
            <a:ext cx="3229200" cy="71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авильный пятиугольник 27"/>
          <p:cNvSpPr/>
          <p:nvPr/>
        </p:nvSpPr>
        <p:spPr>
          <a:xfrm rot="10800000">
            <a:off x="5916600" y="4566960"/>
            <a:ext cx="1874880" cy="1003320"/>
          </a:xfrm>
          <a:prstGeom prst="pentagon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6021360" y="4610160"/>
            <a:ext cx="166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офи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(доходы больш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с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"/>
          <p:cNvSpPr/>
          <p:nvPr/>
        </p:nvSpPr>
        <p:spPr>
          <a:xfrm>
            <a:off x="4711680" y="5576760"/>
            <a:ext cx="4194360" cy="920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4867200" y="5564160"/>
            <a:ext cx="397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ри превышении доходов над расходами принимается решение , как их использовать (погашать долг, накапливать остатки, направлять на развит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3280" y="836280"/>
            <a:ext cx="352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Приоритеты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54D1-F278-482A-BF81-BE20BEA96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50920" y="2924280"/>
          <a:ext cx="8496360" cy="3063600"/>
        </p:xfrm>
        <a:graphic>
          <a:graphicData uri="http://schemas.openxmlformats.org/drawingml/2006/table">
            <a:tbl>
              <a:tblPr/>
              <a:tblGrid>
                <a:gridCol w="360360"/>
                <a:gridCol w="3456000"/>
                <a:gridCol w="468000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сполнение действующих расходных обязатель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язательства муниципалитета по выплате заработной платы, начислений по оплате труда,  выполнены в полном объёме. Остальные расходы выполнены по факту потреб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ыполнение обязательств и задач, поставленных Указами Президента Российской Федерации от 07 мая 2012 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о Указу № 597 – показатели достигнут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еход на программный бюдж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ля программ в бюджете за 2020 год составляет 55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2" descr="D:\Desktop\kakoy-nalog-vyibrat-pri-otkryitii-IP.jpg"/>
          <p:cNvPicPr/>
          <p:nvPr/>
        </p:nvPicPr>
        <p:blipFill>
          <a:blip r:embed="rId2"/>
          <a:stretch/>
        </p:blipFill>
        <p:spPr>
          <a:xfrm>
            <a:off x="0" y="163440"/>
            <a:ext cx="38512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3654360" y="31680"/>
            <a:ext cx="495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Исполнение майских указов 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"/>
          <p:cNvPicPr/>
          <p:nvPr/>
        </p:nvPicPr>
        <p:blipFill>
          <a:blip r:embed="rId1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2"/>
          <p:cNvSpPr/>
          <p:nvPr/>
        </p:nvSpPr>
        <p:spPr>
          <a:xfrm>
            <a:off x="252360" y="2637000"/>
            <a:ext cx="86392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каз Президента Российской Федерации от 07 мая 2012 года № 597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«О мероприятиях по реализации государственной социальной политик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36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иняты «дорожные карты» (план развития) в сфере  культуры, согласно которым средняя заработная плата в МО «Плеховский сельсовет» 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8760" y="5027760"/>
          <a:ext cx="8208720" cy="1830240"/>
        </p:xfrm>
        <a:graphic>
          <a:graphicData uri="http://schemas.openxmlformats.org/drawingml/2006/table">
            <a:tbl>
              <a:tblPr/>
              <a:tblGrid>
                <a:gridCol w="2824200"/>
                <a:gridCol w="2692080"/>
                <a:gridCol w="269244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о средней заработной платы по экономике Курской области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сяц 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 учреждения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3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3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21" descr="D:\Desktop\1424541652474.jpg"/>
          <p:cNvPicPr/>
          <p:nvPr/>
        </p:nvPicPr>
        <p:blipFill>
          <a:blip r:embed="rId2"/>
          <a:stretch/>
        </p:blipFill>
        <p:spPr>
          <a:xfrm>
            <a:off x="395280" y="115920"/>
            <a:ext cx="295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3654360" y="31680"/>
            <a:ext cx="446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Tahoma"/>
                <a:ea typeface="Tahoma"/>
              </a:rPr>
              <a:t>Доходы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TextBox 8"/>
          <p:cNvGrpSpPr/>
          <p:nvPr/>
        </p:nvGrpSpPr>
        <p:grpSpPr>
          <a:xfrm>
            <a:off x="189000" y="1859040"/>
            <a:ext cx="3090600" cy="3511440"/>
            <a:chOff x="189000" y="1859040"/>
            <a:chExt cx="3090600" cy="3511440"/>
          </a:xfrm>
        </p:grpSpPr>
        <p:pic>
          <p:nvPicPr>
            <p:cNvPr id="112" name="TextBox 8" descr=""/>
            <p:cNvPicPr/>
            <p:nvPr/>
          </p:nvPicPr>
          <p:blipFill>
            <a:blip r:embed="rId1"/>
            <a:stretch/>
          </p:blipFill>
          <p:spPr>
            <a:xfrm>
              <a:off x="189000" y="1859040"/>
              <a:ext cx="3090600" cy="35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52360" y="1895400"/>
              <a:ext cx="297036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доходы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алог на имущество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Земельный нал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Прямоугольник 19"/>
          <p:cNvGrpSpPr/>
          <p:nvPr/>
        </p:nvGrpSpPr>
        <p:grpSpPr>
          <a:xfrm>
            <a:off x="189000" y="1006560"/>
            <a:ext cx="8759880" cy="541080"/>
            <a:chOff x="189000" y="1006560"/>
            <a:chExt cx="8759880" cy="541080"/>
          </a:xfrm>
        </p:grpSpPr>
        <p:pic>
          <p:nvPicPr>
            <p:cNvPr id="115" name="Прямоугольник 19" descr=""/>
            <p:cNvPicPr/>
            <p:nvPr/>
          </p:nvPicPr>
          <p:blipFill>
            <a:blip r:embed="rId2"/>
            <a:stretch/>
          </p:blipFill>
          <p:spPr>
            <a:xfrm>
              <a:off x="189000" y="1006560"/>
              <a:ext cx="875988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52360" y="1044720"/>
              <a:ext cx="8639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бюдже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Прямая соединительная линия 21"/>
          <p:cNvSpPr/>
          <p:nvPr/>
        </p:nvSpPr>
        <p:spPr>
          <a:xfrm>
            <a:off x="4724280" y="1476360"/>
            <a:ext cx="0" cy="42228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3"/>
          <p:cNvSpPr/>
          <p:nvPr/>
        </p:nvSpPr>
        <p:spPr>
          <a:xfrm flipV="1">
            <a:off x="1736640" y="1682640"/>
            <a:ext cx="0" cy="2160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5"/>
          <p:cNvSpPr/>
          <p:nvPr/>
        </p:nvSpPr>
        <p:spPr>
          <a:xfrm flipV="1">
            <a:off x="7758000" y="1703160"/>
            <a:ext cx="0" cy="2156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7"/>
          <p:cNvSpPr/>
          <p:nvPr/>
        </p:nvSpPr>
        <p:spPr>
          <a:xfrm flipV="1">
            <a:off x="1736640" y="1671120"/>
            <a:ext cx="6031080" cy="111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TextBox 33"/>
          <p:cNvGrpSpPr/>
          <p:nvPr/>
        </p:nvGrpSpPr>
        <p:grpSpPr>
          <a:xfrm>
            <a:off x="3297240" y="1852560"/>
            <a:ext cx="2901960" cy="3560760"/>
            <a:chOff x="3297240" y="1852560"/>
            <a:chExt cx="2901960" cy="3560760"/>
          </a:xfrm>
        </p:grpSpPr>
        <p:pic>
          <p:nvPicPr>
            <p:cNvPr id="122" name="TextBox 33" descr=""/>
            <p:cNvPicPr/>
            <p:nvPr/>
          </p:nvPicPr>
          <p:blipFill>
            <a:blip r:embed="rId3"/>
            <a:stretch/>
          </p:blipFill>
          <p:spPr>
            <a:xfrm>
              <a:off x="3297240" y="1852560"/>
              <a:ext cx="290196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357720" y="1893960"/>
              <a:ext cx="2790720" cy="34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Неналогов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использование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ходы от реализации имущества, находящегося в муниципальной собств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Штрафы, санкции, возмещение ущерб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TextBox 34"/>
          <p:cNvGrpSpPr/>
          <p:nvPr/>
        </p:nvGrpSpPr>
        <p:grpSpPr>
          <a:xfrm>
            <a:off x="6267600" y="1852560"/>
            <a:ext cx="2705040" cy="3512520"/>
            <a:chOff x="6267600" y="1852560"/>
            <a:chExt cx="2705040" cy="3512520"/>
          </a:xfrm>
        </p:grpSpPr>
        <p:pic>
          <p:nvPicPr>
            <p:cNvPr id="125" name="TextBox 34" descr=""/>
            <p:cNvPicPr/>
            <p:nvPr/>
          </p:nvPicPr>
          <p:blipFill>
            <a:blip r:embed="rId4"/>
            <a:stretch/>
          </p:blipFill>
          <p:spPr>
            <a:xfrm>
              <a:off x="6267600" y="1852560"/>
              <a:ext cx="2705040" cy="34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326280" y="1893960"/>
              <a:ext cx="2565360" cy="34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Безвозмездные поступ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Дот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сид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убвен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ные межбюджетные трансфе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Прочие безвозмездные поступления от юридических и физических ли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Рисунок 14" descr=""/>
          <p:cNvPicPr/>
          <p:nvPr/>
        </p:nvPicPr>
        <p:blipFill>
          <a:blip r:embed="rId5"/>
          <a:stretch/>
        </p:blipFill>
        <p:spPr>
          <a:xfrm>
            <a:off x="3222720" y="-9360"/>
            <a:ext cx="863640" cy="100476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4B12-54D7-48F9-B01E-301D0E6F0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1:50:12Z</dcterms:created>
  <dc:creator>Валентина</dc:creator>
  <dc:description/>
  <dc:language>en-US</dc:language>
  <cp:lastModifiedBy>Администратор</cp:lastModifiedBy>
  <dcterms:modified xsi:type="dcterms:W3CDTF">2022-02-17T13:04:01Z</dcterms:modified>
  <cp:revision>219</cp:revision>
  <dc:subject/>
  <dc:title>Исполнение бюджета фокинского сельского поселения</dc:title>
</cp:coreProperties>
</file>