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wmf" ContentType="image/x-wmf"/>
  <Override PartName="/ppt/media/image19.png" ContentType="image/png"/>
  <Override PartName="/ppt/media/image21.jpeg" ContentType="image/jpeg"/>
  <Override PartName="/ppt/media/image2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40.jpeg" ContentType="image/jpeg"/>
  <Override PartName="/ppt/media/image34.wmf" ContentType="image/x-wmf"/>
  <Override PartName="/ppt/media/image13.png" ContentType="image/png"/>
  <Override PartName="/ppt/media/image33.wmf" ContentType="image/x-wmf"/>
  <Override PartName="/ppt/media/image3.jpeg" ContentType="image/jpeg"/>
  <Override PartName="/ppt/media/image37.jpeg" ContentType="image/jpe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C30-E603-4EB5-9CD7-6765F04B1C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CA0-2642-4254-8448-6C61B1B8D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16B-0AC7-4986-913F-8B5DB062D5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ыполнение плана по доходам произошло по всем видам доходов и составило 117% к пл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его в суммовом выражении 980, т.р. Которые перешли на 2013г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НДФЛ план -2974,8 т.р. Факт 3452,9т.р. – 11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.на имущ. План 549,7т.р. Факт 691,2т.р. – 1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.налог план 400,0т.р. Факт 507,4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нда земли план 492,4т.р. Факт 575,6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жа имущ. План 475,0т.р. Факт-480,5т.р. – 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C5FD-784B-4B1F-B324-248378225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езвозмездных поступлений большую часть занимает поступление из ФСР на программу «сельское жилье» (37455,0т.р) и безвозмездные перечисления от организаций для участия в этой программе 11645,0т.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2BA8-4E0A-4412-B04E-4F57D6025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ую часть в структуре расходов занимает выплата з/пл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48,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  оплата коммунальных услуг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01,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  увеличение стоимости основных сред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24,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досн.Кирова85-116-1519,4  ГТС-1291,5)  содержание имущества 1880,0т.р. Это содержание дорог, ремонт обьектов коммун. Хоз/ва, Т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D90B-3398-4641-A524-FF9EBBA01F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5A2-4054-448E-A7EA-F7FF167214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расходы по разделам  на которые были распределены денежные средства …  Большая доля расходов к общему обьему отражена на культуру-29%  далее администрация-27% др.общег.вопросы – 14% на участие в инвестпроектах доля местного бюджета (25%) – 13% благоустройство -8% дорожное хоз/во – 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387F-A5ED-4EB6-8DDC-E07218AD8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F0C-0C82-47E8-9A34-571B1BD958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азделу оплачены расходы по испол.листу 1690,8т.р. Оплата нал.на имущ.-360,0т.р. Налог на землю 59,9т.р. Транс.налог 19,1т.р. Госпошлина 74,1т.р.взнос в МО 16,0т.р. Старосты 53,8 т.р. ДНД 60,5т.р. Паспортизация инвентаризация оформление права собственности 170,0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B1A-35A2-40B9-B1D7-9C42E0B96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доля расходов по разделу приходится на расходы по уличному освещению это оплата э/эн. 1166,5т.р.и ТО 210,0т.р.  Свод тополей по ул.Ленина 25,0т.р. Содержание кладбища 36,0т.р. Уборка, сбор и вывоз мусора с мест общего пользования 49,7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D0F-C38C-4675-ACF5-B692227661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культура предусмотрены средства на содержание 2-х учреждений МАУК ФКСЦ факт 2800,0т.р. и библиотека 2123,1 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B7E1-5897-4AFD-83BA-1927959D04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346-8BC0-456D-B0E0-9BFF826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81B-4B1A-4AB3-80C0-A80A68BB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DB6-3DA2-422B-BE4E-ED2CF835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AA9-0F98-429D-80EB-BF8111AB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F96-E5E0-4B8C-A7C4-5C798DBB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9C5-942A-4BD9-9771-1B9C83A0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293-B67A-43D2-9810-29B708EF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B8E-CC0E-4C40-A74F-7FBD67C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10D-39E6-4925-BECE-DCD58373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83B-BE04-40D5-87D3-1909A20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792-EF68-4FD7-B91F-979002F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CF9-4182-4C8F-A9BE-90D41D0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57D-EAE6-41C0-9ADE-750B66B06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26920" y="4581360"/>
            <a:ext cx="7705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ОБ ИСПОЛНЕНИИ БЮДЖЕТА МО «Плеховский сельсовет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за 2020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84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Диаграмма 1"/>
          <p:cNvGraphicFramePr/>
          <p:nvPr/>
        </p:nvGraphicFramePr>
        <p:xfrm>
          <a:off x="214200" y="857160"/>
          <a:ext cx="8458200" cy="33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857160"/>
                    <a:ext cx="845820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оступления  доходов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cdn.fishki.net/upload/post/201504/28/1516231/skachannye-fajly.jpg"/>
          <p:cNvPicPr/>
          <p:nvPr/>
        </p:nvPicPr>
        <p:blipFill>
          <a:blip r:embed="rId3"/>
          <a:stretch/>
        </p:blipFill>
        <p:spPr>
          <a:xfrm>
            <a:off x="155520" y="4149720"/>
            <a:ext cx="7153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ление собственных доходов в 2020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Содержимое 3"/>
          <p:cNvGraphicFramePr/>
          <p:nvPr/>
        </p:nvGraphicFramePr>
        <p:xfrm>
          <a:off x="981000" y="1000080"/>
          <a:ext cx="767736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000080"/>
                    <a:ext cx="76773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и фактическое по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ов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0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000" y="595008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Объект 1"/>
          <p:cNvGraphicFramePr/>
          <p:nvPr/>
        </p:nvGraphicFramePr>
        <p:xfrm>
          <a:off x="685800" y="762120"/>
          <a:ext cx="7877160" cy="44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8771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2997360"/>
          <a:ext cx="7172280" cy="2009520"/>
        </p:xfrm>
        <a:graphic>
          <a:graphicData uri="http://schemas.openxmlformats.org/drawingml/2006/table">
            <a:tbl>
              <a:tblPr/>
              <a:tblGrid>
                <a:gridCol w="5864040"/>
                <a:gridCol w="1308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3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Рисунок 9" descr=""/>
          <p:cNvPicPr/>
          <p:nvPr/>
        </p:nvPicPr>
        <p:blipFill>
          <a:blip r:embed="rId1"/>
          <a:stretch/>
        </p:blipFill>
        <p:spPr>
          <a:xfrm>
            <a:off x="2987640" y="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5435640" y="31680"/>
            <a:ext cx="324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Налоговые и неналоговые доходы 2020 г.    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70E-53A5-422A-B852-2B248BFEA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pyriatyn.org.ua/data/photomanager/1485340793_big.jpg"/>
          <p:cNvPicPr/>
          <p:nvPr/>
        </p:nvPicPr>
        <p:blipFill>
          <a:blip r:embed="rId2"/>
          <a:stretch/>
        </p:blipFill>
        <p:spPr>
          <a:xfrm>
            <a:off x="0" y="189000"/>
            <a:ext cx="53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оступления безвозмездных перечислений в 202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Содержимое 3"/>
          <p:cNvGraphicFramePr/>
          <p:nvPr/>
        </p:nvGraphicFramePr>
        <p:xfrm>
          <a:off x="3059280" y="1628640"/>
          <a:ext cx="54324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4324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5" descr="http://gztslovo.ru/byudzhejpg"/>
          <p:cNvPicPr/>
          <p:nvPr/>
        </p:nvPicPr>
        <p:blipFill>
          <a:blip r:embed="rId3"/>
          <a:stretch/>
        </p:blipFill>
        <p:spPr>
          <a:xfrm>
            <a:off x="0" y="476280"/>
            <a:ext cx="29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3"/>
          <p:cNvSpPr/>
          <p:nvPr/>
        </p:nvSpPr>
        <p:spPr>
          <a:xfrm>
            <a:off x="2087640" y="5915160"/>
            <a:ext cx="6940440" cy="631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Расходы бюджета поселения в расчете на душу населения в 202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0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2"/>
          <p:cNvSpPr/>
          <p:nvPr/>
        </p:nvSpPr>
        <p:spPr>
          <a:xfrm>
            <a:off x="169920" y="954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2050920" y="1197000"/>
            <a:ext cx="6940800" cy="631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4"/>
          <p:cNvSpPr/>
          <p:nvPr/>
        </p:nvSpPr>
        <p:spPr>
          <a:xfrm>
            <a:off x="1104840" y="94608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252360" y="1138320"/>
            <a:ext cx="9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400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1104840" y="1119240"/>
            <a:ext cx="10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333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2255760" y="12841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дного гражда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8"/>
          <p:cNvSpPr/>
          <p:nvPr/>
        </p:nvSpPr>
        <p:spPr>
          <a:xfrm>
            <a:off x="160200" y="2131920"/>
            <a:ext cx="1132200" cy="108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2066760" y="2359080"/>
            <a:ext cx="6940800" cy="631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0"/>
          <p:cNvSpPr/>
          <p:nvPr/>
        </p:nvSpPr>
        <p:spPr>
          <a:xfrm>
            <a:off x="1054080" y="212400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279360" y="22510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66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2"/>
          <p:cNvSpPr/>
          <p:nvPr/>
        </p:nvSpPr>
        <p:spPr>
          <a:xfrm>
            <a:off x="1171440" y="2293920"/>
            <a:ext cx="9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39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2255760" y="24019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160200" y="329724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5"/>
          <p:cNvSpPr/>
          <p:nvPr/>
        </p:nvSpPr>
        <p:spPr>
          <a:xfrm>
            <a:off x="2075040" y="3571920"/>
            <a:ext cx="6940440" cy="630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1114560" y="3351240"/>
            <a:ext cx="1116000" cy="1122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25884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2061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27008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71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332080" y="3624120"/>
            <a:ext cx="66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32"/>
          <p:cNvSpPr/>
          <p:nvPr/>
        </p:nvSpPr>
        <p:spPr>
          <a:xfrm>
            <a:off x="160200" y="444168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3"/>
          <p:cNvSpPr/>
          <p:nvPr/>
        </p:nvSpPr>
        <p:spPr>
          <a:xfrm flipV="1">
            <a:off x="2050920" y="4723200"/>
            <a:ext cx="6940800" cy="73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38"/>
          <p:cNvSpPr/>
          <p:nvPr/>
        </p:nvSpPr>
        <p:spPr>
          <a:xfrm>
            <a:off x="108000" y="5661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40"/>
          <p:cNvSpPr/>
          <p:nvPr/>
        </p:nvSpPr>
        <p:spPr>
          <a:xfrm>
            <a:off x="1131840" y="569124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1"/>
          <p:cNvSpPr/>
          <p:nvPr/>
        </p:nvSpPr>
        <p:spPr>
          <a:xfrm>
            <a:off x="236520" y="580392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4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2"/>
          <p:cNvSpPr/>
          <p:nvPr/>
        </p:nvSpPr>
        <p:spPr>
          <a:xfrm>
            <a:off x="1208160" y="587520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1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2320920" y="596916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благо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1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B9D8-28A0-46BA-A333-725BEBBE9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расходов в разрезе основных статей в 202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Содержимое 3"/>
          <p:cNvGraphicFramePr/>
          <p:nvPr/>
        </p:nvGraphicFramePr>
        <p:xfrm>
          <a:off x="0" y="2523960"/>
          <a:ext cx="895500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3960"/>
                    <a:ext cx="8955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7" descr="D:\Desktop\Accountant-300x281.jpg"/>
          <p:cNvPicPr/>
          <p:nvPr/>
        </p:nvPicPr>
        <p:blipFill>
          <a:blip r:embed="rId3"/>
          <a:stretch/>
        </p:blipFill>
        <p:spPr>
          <a:xfrm>
            <a:off x="5435640" y="0"/>
            <a:ext cx="331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Финансирование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0"/>
          <p:cNvSpPr/>
          <p:nvPr/>
        </p:nvSpPr>
        <p:spPr>
          <a:xfrm>
            <a:off x="252360" y="1160640"/>
            <a:ext cx="863928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муниципального учреждения осуществлялось на основании «Дорожной карты», утвержденной Постановлением Администрации Плеховского сельсовета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му  учреждению установлено муниципальное задание на оказание муниципальных услуг с указанием показателей объёма и качества его выпол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еречень муниципальных услуг (работ), оказываемых (выполняемых) муниципальными учреждениями утверждён администрацией МО «Плеховский сельсовет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е услуги (работы), оказываемые (выполняемые) муниципальным учреждением в рамках муниципального задания предоставлялись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ю бесплатно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органов местного самоуправления,  и казённого учреждения (Дом культуры) осуществлялось согласно бюджетных смет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75F-78C3-498F-85A3-E4FB6E96B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ходы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разделам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020год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Содержимое 3"/>
          <p:cNvGraphicFramePr/>
          <p:nvPr/>
        </p:nvGraphicFramePr>
        <p:xfrm>
          <a:off x="581040" y="1152360"/>
          <a:ext cx="8391600" cy="54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152360"/>
                    <a:ext cx="83916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оловок 1"/>
          <p:cNvSpPr/>
          <p:nvPr/>
        </p:nvSpPr>
        <p:spPr>
          <a:xfrm>
            <a:off x="5292720" y="31680"/>
            <a:ext cx="35989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лан и фактичекое исполнение  расходной части бюджета по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2349360"/>
          <a:ext cx="8929800" cy="4054680"/>
        </p:xfrm>
        <a:graphic>
          <a:graphicData uri="http://schemas.openxmlformats.org/drawingml/2006/table">
            <a:tbl>
              <a:tblPr/>
              <a:tblGrid>
                <a:gridCol w="218880"/>
                <a:gridCol w="3777840"/>
                <a:gridCol w="1695600"/>
                <a:gridCol w="1081080"/>
                <a:gridCol w="1328760"/>
                <a:gridCol w="82764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Утвержденные бюджет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исполнен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цент ис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вичные меры пожарной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мунальное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лагоустро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.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52CA-CA7A-4EDC-ACC7-7F2D131FD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http://infoption.ru/images/0fc08bea911527378f9beb410b5a4de8"/>
          <p:cNvPicPr/>
          <p:nvPr/>
        </p:nvPicPr>
        <p:blipFill>
          <a:blip r:embed="rId1"/>
          <a:stretch/>
        </p:blipFill>
        <p:spPr>
          <a:xfrm>
            <a:off x="0" y="0"/>
            <a:ext cx="52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58920" y="336600"/>
            <a:ext cx="61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важаемые жители Плех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ляем вашему вниманию «Отчет для граждан», который познакомит вас с основными положениями отчета об исполнении бюджета МО «Плеховский сельсовет » за 2020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я в доступной форме знакомит вас с основными характеристиками отчета МО «Плеховский сельсовет», достигнутыми целями и  выполненными задачами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ка информационного ресурса «Отчет для граждан» является одним из важных направлений бюджетной политики, нацеленной на повышение прозрачности, открытости бюджета 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нацелен на получение обратной связи от населения, которому интересны проблемы и итоги деятельности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Аппарата управления администрации по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Содержимое 3"/>
          <p:cNvGraphicFramePr/>
          <p:nvPr/>
        </p:nvGraphicFramePr>
        <p:xfrm>
          <a:off x="-1001880" y="3298680"/>
          <a:ext cx="113112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1880" y="3298680"/>
                    <a:ext cx="113112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5" descr="http://cherkasy-city.com/sites/default/files/images/news/2014/10/143123.jpg"/>
          <p:cNvPicPr/>
          <p:nvPr/>
        </p:nvPicPr>
        <p:blipFill>
          <a:blip r:embed="rId3"/>
          <a:stretch/>
        </p:blipFill>
        <p:spPr>
          <a:xfrm>
            <a:off x="155520" y="0"/>
            <a:ext cx="41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государственные расх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Содержимое 3"/>
          <p:cNvGraphicFramePr/>
          <p:nvPr/>
        </p:nvGraphicFramePr>
        <p:xfrm>
          <a:off x="581040" y="1066680"/>
          <a:ext cx="81342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8134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благоустрой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Содержимое 3"/>
          <p:cNvGraphicFramePr/>
          <p:nvPr/>
        </p:nvGraphicFramePr>
        <p:xfrm>
          <a:off x="546120" y="3067200"/>
          <a:ext cx="935496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3067200"/>
                    <a:ext cx="93549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6" descr="улица"/>
          <p:cNvPicPr/>
          <p:nvPr/>
        </p:nvPicPr>
        <p:blipFill>
          <a:blip r:embed="rId3"/>
          <a:stretch/>
        </p:blipFill>
        <p:spPr>
          <a:xfrm>
            <a:off x="1403280" y="692280"/>
            <a:ext cx="612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5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ходы на содержание учреждени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Содержимое 3"/>
          <p:cNvGraphicFramePr/>
          <p:nvPr/>
        </p:nvGraphicFramePr>
        <p:xfrm>
          <a:off x="534960" y="4543560"/>
          <a:ext cx="8435880" cy="202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543560"/>
                    <a:ext cx="8435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6" descr="клуб"/>
          <p:cNvPicPr/>
          <p:nvPr/>
        </p:nvPicPr>
        <p:blipFill>
          <a:blip r:embed="rId3"/>
          <a:stretch/>
        </p:blipFill>
        <p:spPr>
          <a:xfrm>
            <a:off x="1476360" y="62064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оловок 1"/>
          <p:cNvSpPr/>
          <p:nvPr/>
        </p:nvSpPr>
        <p:spPr>
          <a:xfrm>
            <a:off x="611280" y="3168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таток средств на счетах администрации Плеховского сельсовета на 01.01.20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55640" y="1052640"/>
            <a:ext cx="7604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таток средств на едином счёте бюджета МО «Плеховского сельсовета» по состоянию на 1 января 2021 года состави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288,0 тыс. руб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, из них целевых средств нет. Все средства свободные к  распределению в текуще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7A1-DD9E-4D9B-A36F-C05975F55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http://ks-region69.com/wp-content/uploads/2015/03/bednye_zhiteli.jpg"/>
          <p:cNvPicPr/>
          <p:nvPr/>
        </p:nvPicPr>
        <p:blipFill>
          <a:blip r:embed="rId1"/>
          <a:stretch/>
        </p:blipFill>
        <p:spPr>
          <a:xfrm>
            <a:off x="90360" y="2637000"/>
            <a:ext cx="893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Заголовок 1"/>
          <p:cNvSpPr/>
          <p:nvPr/>
        </p:nvSpPr>
        <p:spPr>
          <a:xfrm>
            <a:off x="712800" y="31680"/>
            <a:ext cx="74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тоговые показатели отчета об исполнении бюджета за 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12800" y="9810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ходной части бюджета составляет 2984,8 тыс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расходной части бюджета составляет  2832,1 тыс. руб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82C-F22C-4626-90E2-9A080417F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http://static6.depositphotos.com/1058973/537/i/950/depositphotos_5378781-Money-under-magnifying-glass.jpg"/>
          <p:cNvPicPr/>
          <p:nvPr/>
        </p:nvPicPr>
        <p:blipFill>
          <a:blip r:embed="rId1"/>
          <a:stretch/>
        </p:blipFill>
        <p:spPr>
          <a:xfrm>
            <a:off x="395280" y="2924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15840" y="0"/>
            <a:ext cx="696960" cy="8841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250920" y="4149720"/>
            <a:ext cx="8640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Администрацией  МО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 сельсовет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, расположенным по адресу: ул.Новая, дом 4 с. Плехово Суджанский район Кур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телефон/фак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8(47143) 3-15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mail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admplehovo@yandex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 на основании решения собрания депутатов Плеховского сельсовета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б утверждении отчета об исполнении бюджета за 2020год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и размещён на сайте поселения по адре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http://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-сельсовет.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5315-514E-4C95-8071-394D15EF8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администрация"/>
          <p:cNvPicPr/>
          <p:nvPr/>
        </p:nvPicPr>
        <p:blipFill>
          <a:blip r:embed="rId2"/>
          <a:stretch/>
        </p:blipFill>
        <p:spPr>
          <a:xfrm>
            <a:off x="539640" y="189000"/>
            <a:ext cx="8128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611280" y="580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 населения (по регистрации) на 01.01.2021 года составила 70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роица"/>
          <p:cNvPicPr/>
          <p:nvPr/>
        </p:nvPicPr>
        <p:blipFill>
          <a:blip r:embed="rId1"/>
          <a:stretch/>
        </p:blipFill>
        <p:spPr>
          <a:xfrm>
            <a:off x="900000" y="115920"/>
            <a:ext cx="785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3"/>
          <p:cNvSpPr/>
          <p:nvPr/>
        </p:nvSpPr>
        <p:spPr>
          <a:xfrm>
            <a:off x="123840" y="1052640"/>
            <a:ext cx="2976480" cy="115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79280" y="1474920"/>
            <a:ext cx="2876760" cy="68400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:\New Folder\самоуправление.png"/>
          <p:cNvPicPr/>
          <p:nvPr/>
        </p:nvPicPr>
        <p:blipFill>
          <a:blip r:embed="rId1"/>
          <a:stretch/>
        </p:blipFill>
        <p:spPr>
          <a:xfrm>
            <a:off x="284040" y="1428840"/>
            <a:ext cx="719280" cy="66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3"/>
          <p:cNvSpPr/>
          <p:nvPr/>
        </p:nvSpPr>
        <p:spPr>
          <a:xfrm>
            <a:off x="5164200" y="1052640"/>
            <a:ext cx="2976480" cy="114768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5199120" y="1463760"/>
            <a:ext cx="2876400" cy="68256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828720" y="15526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орган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5929200" y="15652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муниципа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:\New Folder\муниципальное.png"/>
          <p:cNvPicPr/>
          <p:nvPr/>
        </p:nvPicPr>
        <p:blipFill>
          <a:blip r:embed="rId2"/>
          <a:stretch/>
        </p:blipFill>
        <p:spPr>
          <a:xfrm>
            <a:off x="5249880" y="1392120"/>
            <a:ext cx="887400" cy="82404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40"/>
          <p:cNvSpPr/>
          <p:nvPr/>
        </p:nvSpPr>
        <p:spPr>
          <a:xfrm>
            <a:off x="5292720" y="234936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5292720" y="2349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1- Дом культуры      (1 фили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30"/>
          <p:cNvSpPr/>
          <p:nvPr/>
        </p:nvSpPr>
        <p:spPr>
          <a:xfrm rot="12911400">
            <a:off x="756720" y="2562120"/>
            <a:ext cx="126396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ый треугольник 62"/>
          <p:cNvSpPr/>
          <p:nvPr/>
        </p:nvSpPr>
        <p:spPr>
          <a:xfrm rot="18925200">
            <a:off x="3665160" y="2139840"/>
            <a:ext cx="126360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4"/>
          <p:cNvSpPr/>
          <p:nvPr/>
        </p:nvSpPr>
        <p:spPr>
          <a:xfrm>
            <a:off x="1798560" y="2700360"/>
            <a:ext cx="2352600" cy="235440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4"/>
          <p:cNvSpPr/>
          <p:nvPr/>
        </p:nvSpPr>
        <p:spPr>
          <a:xfrm>
            <a:off x="2187720" y="2747880"/>
            <a:ext cx="2195280" cy="219564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473480" y="3638520"/>
            <a:ext cx="368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 бюджета МО «Плеховский сель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New Folder\город.png"/>
          <p:cNvPicPr/>
          <p:nvPr/>
        </p:nvPicPr>
        <p:blipFill>
          <a:blip r:embed="rId3"/>
          <a:stretch/>
        </p:blipFill>
        <p:spPr>
          <a:xfrm>
            <a:off x="2674800" y="2921040"/>
            <a:ext cx="1265400" cy="7333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654360" y="31680"/>
            <a:ext cx="480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Сеть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15840" y="0"/>
            <a:ext cx="1243080" cy="884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141300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0641-9D64-45EE-8EF6-CBB8DC668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252360" y="2637000"/>
            <a:ext cx="8639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Бюджет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о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оступающие в бюджет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Рас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ефицит бюджет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расходов бюджета над его до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Профицит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доходов бюджета над его рас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les.kabobo.ru/tw_files2/urls_1632/9/d-8628/8628_html_m37268541.jpg"/>
          <p:cNvPicPr/>
          <p:nvPr/>
        </p:nvPicPr>
        <p:blipFill>
          <a:blip r:embed="rId2"/>
          <a:stretch/>
        </p:blipFill>
        <p:spPr>
          <a:xfrm>
            <a:off x="179280" y="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4000" y="31680"/>
            <a:ext cx="531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характеристики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271-80B6-458E-B6E1-A8EADDB6C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hmedova\Рабочий стол\New Folder\1.png"/>
          <p:cNvPicPr/>
          <p:nvPr/>
        </p:nvPicPr>
        <p:blipFill>
          <a:blip r:embed="rId2"/>
          <a:stretch/>
        </p:blipFill>
        <p:spPr>
          <a:xfrm>
            <a:off x="658800" y="995400"/>
            <a:ext cx="1866960" cy="20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hmedova\Рабочий стол\New Folder\2.png"/>
          <p:cNvPicPr/>
          <p:nvPr/>
        </p:nvPicPr>
        <p:blipFill>
          <a:blip r:embed="rId3"/>
          <a:stretch/>
        </p:blipFill>
        <p:spPr>
          <a:xfrm>
            <a:off x="2282760" y="1190520"/>
            <a:ext cx="2001960" cy="23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hmedova\Рабочий стол\New Folder\3.png"/>
          <p:cNvPicPr/>
          <p:nvPr/>
        </p:nvPicPr>
        <p:blipFill>
          <a:blip r:embed="rId4"/>
          <a:stretch/>
        </p:blipFill>
        <p:spPr>
          <a:xfrm>
            <a:off x="4711680" y="1179360"/>
            <a:ext cx="213048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hmedova\Рабочий стол\New Folder\4.png"/>
          <p:cNvPicPr/>
          <p:nvPr/>
        </p:nvPicPr>
        <p:blipFill>
          <a:blip r:embed="rId5"/>
          <a:stretch/>
        </p:blipFill>
        <p:spPr>
          <a:xfrm>
            <a:off x="7113600" y="1141560"/>
            <a:ext cx="1440000" cy="178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867240" y="30672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67680" y="3773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67280" y="3773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325280" y="30672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825480" y="4508640"/>
            <a:ext cx="3230640" cy="72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авильный пятиугольник 22"/>
          <p:cNvSpPr/>
          <p:nvPr/>
        </p:nvSpPr>
        <p:spPr>
          <a:xfrm rot="10800000">
            <a:off x="1511280" y="4586040"/>
            <a:ext cx="1873440" cy="1003320"/>
          </a:xfrm>
          <a:prstGeom prst="pentagon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1572840" y="4627440"/>
            <a:ext cx="17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е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рас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304920" y="5595840"/>
            <a:ext cx="4286160" cy="890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11120" y="5543640"/>
            <a:ext cx="405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расходов над доходами принимается решение об источниках покрытия дефицита (привлечение кредитов, изменение остатков средст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232240" y="4502160"/>
            <a:ext cx="3229200" cy="71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ильный пятиугольник 27"/>
          <p:cNvSpPr/>
          <p:nvPr/>
        </p:nvSpPr>
        <p:spPr>
          <a:xfrm rot="10800000">
            <a:off x="5916600" y="4566960"/>
            <a:ext cx="1874880" cy="1003320"/>
          </a:xfrm>
          <a:prstGeom prst="pentagon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6021360" y="461016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до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с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11680" y="5576760"/>
            <a:ext cx="4194360" cy="920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867200" y="5564160"/>
            <a:ext cx="397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доходов над расходами принимается решение , как их использовать (погашать долг, накапливать остатки, направлять на развит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52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риоритеты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9BB-4F84-4B09-8A3B-134549F06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50920" y="2924280"/>
          <a:ext cx="8496360" cy="3063600"/>
        </p:xfrm>
        <a:graphic>
          <a:graphicData uri="http://schemas.openxmlformats.org/drawingml/2006/table">
            <a:tbl>
              <a:tblPr/>
              <a:tblGrid>
                <a:gridCol w="360360"/>
                <a:gridCol w="3456000"/>
                <a:gridCol w="4680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 действующих расходных обязатель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язательства муниципалитета по выплате заработной платы, начислений по оплате труда,  выполнены в полном объёме. Остальные расходы выполнены по факту потре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ыполнение обязательств и задач, поставленных Указами Президента Российской Федерации от 07 мая 201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 Указу № 597 – показатели достигнут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на программный 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ля программ в бюджете за 2020 год составляет 55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2" descr="D:\Desktop\kakoy-nalog-vyibrat-pri-otkryitii-IP.jpg"/>
          <p:cNvPicPr/>
          <p:nvPr/>
        </p:nvPicPr>
        <p:blipFill>
          <a:blip r:embed="rId2"/>
          <a:stretch/>
        </p:blipFill>
        <p:spPr>
          <a:xfrm>
            <a:off x="0" y="163440"/>
            <a:ext cx="38512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654360" y="31680"/>
            <a:ext cx="495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сполнение майских указов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2"/>
          <p:cNvSpPr/>
          <p:nvPr/>
        </p:nvSpPr>
        <p:spPr>
          <a:xfrm>
            <a:off x="252360" y="2637000"/>
            <a:ext cx="86392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каз Президента Российской Федерации от 07 мая 2012 года № 597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 мероприятиях по реализации государственной социальной полити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няты «дорожные карты» (план развития) в сфере  культуры, согласно которым средняя заработная плата в МО «Плеховский сельсовет» 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5027760"/>
          <a:ext cx="8208720" cy="1830240"/>
        </p:xfrm>
        <a:graphic>
          <a:graphicData uri="http://schemas.openxmlformats.org/drawingml/2006/table">
            <a:tbl>
              <a:tblPr/>
              <a:tblGrid>
                <a:gridCol w="2824200"/>
                <a:gridCol w="2692080"/>
                <a:gridCol w="26924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средней заработной платы по экономике Курской области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 учреждения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5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5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1" descr="D:\Desktop\1424541652474.jpg"/>
          <p:cNvPicPr/>
          <p:nvPr/>
        </p:nvPicPr>
        <p:blipFill>
          <a:blip r:embed="rId2"/>
          <a:stretch/>
        </p:blipFill>
        <p:spPr>
          <a:xfrm>
            <a:off x="395280" y="1159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TextBox 8"/>
          <p:cNvGrpSpPr/>
          <p:nvPr/>
        </p:nvGrpSpPr>
        <p:grpSpPr>
          <a:xfrm>
            <a:off x="189000" y="1859040"/>
            <a:ext cx="3090600" cy="3511440"/>
            <a:chOff x="189000" y="1859040"/>
            <a:chExt cx="3090600" cy="3511440"/>
          </a:xfrm>
        </p:grpSpPr>
        <p:pic>
          <p:nvPicPr>
            <p:cNvPr id="112" name="TextBox 8" descr=""/>
            <p:cNvPicPr/>
            <p:nvPr/>
          </p:nvPicPr>
          <p:blipFill>
            <a:blip r:embed="rId1"/>
            <a:stretch/>
          </p:blipFill>
          <p:spPr>
            <a:xfrm>
              <a:off x="189000" y="1859040"/>
              <a:ext cx="309060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2360" y="1895400"/>
              <a:ext cx="297036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доходы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имущество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Земельный на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19"/>
          <p:cNvGrpSpPr/>
          <p:nvPr/>
        </p:nvGrpSpPr>
        <p:grpSpPr>
          <a:xfrm>
            <a:off x="189000" y="1006560"/>
            <a:ext cx="8759880" cy="541080"/>
            <a:chOff x="189000" y="1006560"/>
            <a:chExt cx="8759880" cy="541080"/>
          </a:xfrm>
        </p:grpSpPr>
        <p:pic>
          <p:nvPicPr>
            <p:cNvPr id="115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189000" y="1006560"/>
              <a:ext cx="87598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52360" y="1044720"/>
              <a:ext cx="863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бюдже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Прямая соединительная линия 21"/>
          <p:cNvSpPr/>
          <p:nvPr/>
        </p:nvSpPr>
        <p:spPr>
          <a:xfrm>
            <a:off x="4724280" y="1476360"/>
            <a:ext cx="0" cy="4222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3"/>
          <p:cNvSpPr/>
          <p:nvPr/>
        </p:nvSpPr>
        <p:spPr>
          <a:xfrm flipV="1">
            <a:off x="1736640" y="1682640"/>
            <a:ext cx="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5"/>
          <p:cNvSpPr/>
          <p:nvPr/>
        </p:nvSpPr>
        <p:spPr>
          <a:xfrm flipV="1">
            <a:off x="7758000" y="1703160"/>
            <a:ext cx="0" cy="215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7"/>
          <p:cNvSpPr/>
          <p:nvPr/>
        </p:nvSpPr>
        <p:spPr>
          <a:xfrm flipV="1">
            <a:off x="1736640" y="1671120"/>
            <a:ext cx="60310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TextBox 33"/>
          <p:cNvGrpSpPr/>
          <p:nvPr/>
        </p:nvGrpSpPr>
        <p:grpSpPr>
          <a:xfrm>
            <a:off x="3297240" y="1852560"/>
            <a:ext cx="2901960" cy="3560760"/>
            <a:chOff x="3297240" y="1852560"/>
            <a:chExt cx="2901960" cy="3560760"/>
          </a:xfrm>
        </p:grpSpPr>
        <p:pic>
          <p:nvPicPr>
            <p:cNvPr id="122" name="TextBox 33" descr=""/>
            <p:cNvPicPr/>
            <p:nvPr/>
          </p:nvPicPr>
          <p:blipFill>
            <a:blip r:embed="rId3"/>
            <a:stretch/>
          </p:blipFill>
          <p:spPr>
            <a:xfrm>
              <a:off x="3297240" y="1852560"/>
              <a:ext cx="290196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57720" y="1893960"/>
              <a:ext cx="279072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использование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реализации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34"/>
          <p:cNvGrpSpPr/>
          <p:nvPr/>
        </p:nvGrpSpPr>
        <p:grpSpPr>
          <a:xfrm>
            <a:off x="6267600" y="1852560"/>
            <a:ext cx="2705040" cy="3512520"/>
            <a:chOff x="6267600" y="1852560"/>
            <a:chExt cx="2705040" cy="3512520"/>
          </a:xfrm>
        </p:grpSpPr>
        <p:pic>
          <p:nvPicPr>
            <p:cNvPr id="125" name="TextBox 34" descr=""/>
            <p:cNvPicPr/>
            <p:nvPr/>
          </p:nvPicPr>
          <p:blipFill>
            <a:blip r:embed="rId4"/>
            <a:stretch/>
          </p:blipFill>
          <p:spPr>
            <a:xfrm>
              <a:off x="6267600" y="1852560"/>
              <a:ext cx="2705040" cy="34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326280" y="1893960"/>
              <a:ext cx="2565360" cy="34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Безвозмездные поступ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т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сид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вен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ые межбюджетные 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чие безвозмездные поступления от юридических и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Рисунок 14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344A-91CF-4CC3-B03F-0D6AF8D48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50:12Z</dcterms:created>
  <dc:creator>Валентина</dc:creator>
  <dc:description/>
  <dc:language>en-US</dc:language>
  <cp:lastModifiedBy>Администратор</cp:lastModifiedBy>
  <dcterms:modified xsi:type="dcterms:W3CDTF">2021-06-16T12:57:33Z</dcterms:modified>
  <cp:revision>215</cp:revision>
  <dc:subject/>
  <dc:title>Исполнение бюджета фокинского сельского поселения</dc:title>
</cp:coreProperties>
</file>