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15.jpeg" ContentType="image/jpeg"/>
  <Override PartName="/ppt/media/image22.wmf" ContentType="image/x-wmf"/>
  <Override PartName="/ppt/media/image19.png" ContentType="image/png"/>
  <Override PartName="/ppt/media/image21.jpeg" ContentType="image/jpeg"/>
  <Override PartName="/ppt/media/image26.jpeg" ContentType="image/jpeg"/>
  <Override PartName="/ppt/media/image20.wmf" ContentType="image/x-wmf"/>
  <Override PartName="/ppt/media/image17.png" ContentType="image/png"/>
  <Override PartName="/ppt/media/image32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39.jpeg" ContentType="image/jpeg"/>
  <Override PartName="/ppt/media/image8.png" ContentType="image/png"/>
  <Override PartName="/ppt/media/image30.jpeg" ContentType="image/jpeg"/>
  <Override PartName="/ppt/media/image24.jpeg" ContentType="image/jpeg"/>
  <Override PartName="/ppt/media/image31.wmf" ContentType="image/x-wmf"/>
  <Override PartName="/ppt/media/image38.jpeg" ContentType="image/jpeg"/>
  <Override PartName="/ppt/media/image40.jpeg" ContentType="image/jpeg"/>
  <Override PartName="/ppt/media/image34.wmf" ContentType="image/x-wmf"/>
  <Override PartName="/ppt/media/image13.png" ContentType="image/png"/>
  <Override PartName="/ppt/media/image33.wmf" ContentType="image/x-wmf"/>
  <Override PartName="/ppt/media/image3.jpeg" ContentType="image/jpeg"/>
  <Override PartName="/ppt/media/image37.jpeg" ContentType="image/jpeg"/>
  <Override PartName="/ppt/media/image36.wmf" ContentType="image/x-wmf"/>
  <Override PartName="/ppt/media/image16.png" ContentType="image/png"/>
  <Override PartName="/ppt/media/image6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4.png" ContentType="image/png"/>
  <Override PartName="/ppt/media/image11.png" ContentType="image/png"/>
  <Override PartName="/ppt/media/image9.jpeg" ContentType="image/jpeg"/>
  <Override PartName="/ppt/media/image28.jpeg" ContentType="image/jpeg"/>
  <Override PartName="/ppt/media/image23.wmf" ContentType="image/x-wmf"/>
  <Override PartName="/ppt/media/image2.png" ContentType="image/png"/>
  <Override PartName="/ppt/media/image29.wmf" ContentType="image/x-wmf"/>
  <Override PartName="/ppt/media/image1.png" ContentType="image/png"/>
  <Override PartName="/ppt/media/image1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B0CB-657B-4F37-A581-50DB709606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2550-C52B-4E91-9C12-AFE32B6E88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FDB5-D8BB-4FBD-B211-6D73D9C5E8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ыполнение плана по доходам произошло по всем видам доходов и составило 117% к план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сего в суммовом выражении 980, т.р. Которые перешли на 2013г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НДФЛ план -2974,8 т.р. Факт 3452,9т.р. – 11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.на имущ. План 549,7т.р. Факт 691,2т.р. – 1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ел.налог план 400,0т.р. Факт 507,4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нда земли план 492,4т.р. Факт 575,6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жа имущ. План 475,0т.р. Факт-480,5т.р. – 10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8557-CC45-4463-848B-1B9A57E226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безвозмездных поступлений большую часть занимает поступление из ФСР на программу «сельское жилье» (37455,0т.р) и безвозмездные перечисления от организаций для участия в этой программе 11645,0т.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18C9-1F92-4D6F-B568-0E3E81B132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ую часть в структуре расходов занимает выплата з/пл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48,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т.р  оплата коммунальных услуг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01,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т.р.  увеличение стоимости основных средст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24,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т.р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одосн.Кирова85-116-1519,4  ГТС-1291,5)  содержание имущества 1880,0т.р. Это содержание дорог, ремонт обьектов коммун. Хоз/ва, Т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CE65-1FB6-490C-BE81-528A9ED757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AEEC-94BB-4E43-A863-0451D3707D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ы расходы по разделам  на которые были распределены денежные средства …  Большая доля расходов к общему обьему отражена на культуру-29%  далее администрация-27% др.общег.вопросы – 14% на участие в инвестпроектах доля местного бюджета (25%) – 13% благоустройство -8% дорожное хоз/во – 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E4F6-63A6-4A62-8F54-17F5C28D1E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FF32-DBF3-42C2-A27C-3E8673F0AE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азделу оплачены расходы по испол.листу 1690,8т.р. Оплата нал.на имущ.-360,0т.р. Налог на землю 59,9т.р. Транс.налог 19,1т.р. Госпошлина 74,1т.р.взнос в МО 16,0т.р. Старосты 53,8 т.р. ДНД 60,5т.р. Паспортизация инвентаризация оформление права собственности 170,0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B784-5839-4C3A-B41C-2401CE1D19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доля расходов по разделу приходится на расходы по уличному освещению это оплата э/эн. 1166,5т.р.и ТО 210,0т.р.  Свод тополей по ул.Ленина 25,0т.р. Содержание кладбища 36,0т.р. Уборка, сбор и вывоз мусора с мест общего пользования 49,7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0112-34AB-4481-BC36-4E59892971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деле культура предусмотрены средства на содержание 2-х учреждений МАУК ФКСЦ факт 2800,0т.р. и библиотека 2123,1 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3D56-ADE2-4F5A-923D-C636DFFE82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714-5CA8-40AB-B40D-F607448B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E6F-1F51-4265-8EB7-38F003B8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C75-04CA-4A84-BDF2-5087B87B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62E-8AD4-445F-9588-B4FEFB3E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3A2-FAC1-4B76-95E3-4BC9FAF2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750-C8A8-44A3-8D80-DC288215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6C7-AFD3-4922-9620-46D8D0D1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898-DE1E-43CA-9557-D16923C0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D5A-BDF8-4863-8E2A-0186CD4C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C3C-3F28-47A7-A000-9E94FFF1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A411-BDC6-4914-AD38-1713AFBB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810-FDE0-4806-9F71-57BDA66F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C32D-83FB-49C8-8913-5AFD59782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826920" y="4581360"/>
            <a:ext cx="77058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ОБ ИСПОЛНЕНИИ БЮДЖЕТА МО «Плеховский сельсовет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за 2018 ГОД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6384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Диаграмма 1"/>
          <p:cNvGraphicFramePr/>
          <p:nvPr/>
        </p:nvGraphicFramePr>
        <p:xfrm>
          <a:off x="181080" y="838080"/>
          <a:ext cx="8458200" cy="33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838080"/>
                    <a:ext cx="845820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поступления  доходов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http://cdn.fishki.net/upload/post/201504/28/1516231/skachannye-fajly.jpg"/>
          <p:cNvPicPr/>
          <p:nvPr/>
        </p:nvPicPr>
        <p:blipFill>
          <a:blip r:embed="rId3"/>
          <a:stretch/>
        </p:blipFill>
        <p:spPr>
          <a:xfrm>
            <a:off x="155520" y="4149720"/>
            <a:ext cx="71532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упление собственных доходов в 2018 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Содержимое 3"/>
          <p:cNvGraphicFramePr/>
          <p:nvPr/>
        </p:nvGraphicFramePr>
        <p:xfrm>
          <a:off x="981000" y="1000080"/>
          <a:ext cx="7677360" cy="520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000080"/>
                    <a:ext cx="767736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 и фактическое поступл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ы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ходов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8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58770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Объект 1"/>
          <p:cNvGraphicFramePr/>
          <p:nvPr/>
        </p:nvGraphicFramePr>
        <p:xfrm>
          <a:off x="752400" y="981000"/>
          <a:ext cx="7877160" cy="417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981000"/>
                    <a:ext cx="787716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50920" y="2997360"/>
          <a:ext cx="7172280" cy="2009520"/>
        </p:xfrm>
        <a:graphic>
          <a:graphicData uri="http://schemas.openxmlformats.org/drawingml/2006/table">
            <a:tbl>
              <a:tblPr/>
              <a:tblGrid>
                <a:gridCol w="5864040"/>
                <a:gridCol w="130824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18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лог на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3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" name="Рисунок 9" descr=""/>
          <p:cNvPicPr/>
          <p:nvPr/>
        </p:nvPicPr>
        <p:blipFill>
          <a:blip r:embed="rId1"/>
          <a:stretch/>
        </p:blipFill>
        <p:spPr>
          <a:xfrm>
            <a:off x="2987640" y="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5435640" y="31680"/>
            <a:ext cx="3240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Налоговые и неналоговые доходы 2018 гг.     тыс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56CB-74BF-4985-BA3E-70C108CB3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://pyriatyn.org.ua/data/photomanager/1485340793_big.jpg"/>
          <p:cNvPicPr/>
          <p:nvPr/>
        </p:nvPicPr>
        <p:blipFill>
          <a:blip r:embed="rId2"/>
          <a:stretch/>
        </p:blipFill>
        <p:spPr>
          <a:xfrm>
            <a:off x="0" y="189000"/>
            <a:ext cx="536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оступления безвозмездных перечислений в 2018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Содержимое 3"/>
          <p:cNvGraphicFramePr/>
          <p:nvPr/>
        </p:nvGraphicFramePr>
        <p:xfrm>
          <a:off x="2771640" y="1628640"/>
          <a:ext cx="5688000" cy="39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628640"/>
                    <a:ext cx="5688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Picture 5" descr="http://gztslovo.ru/byudzhejpg"/>
          <p:cNvPicPr/>
          <p:nvPr/>
        </p:nvPicPr>
        <p:blipFill>
          <a:blip r:embed="rId3"/>
          <a:stretch/>
        </p:blipFill>
        <p:spPr>
          <a:xfrm>
            <a:off x="0" y="0"/>
            <a:ext cx="2627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43"/>
          <p:cNvSpPr/>
          <p:nvPr/>
        </p:nvSpPr>
        <p:spPr>
          <a:xfrm>
            <a:off x="2087640" y="5915160"/>
            <a:ext cx="6940440" cy="6318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3654360" y="31680"/>
            <a:ext cx="446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Расходы бюджета поселения в расчете на душу населения в 2018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10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53" name="Овал 12"/>
          <p:cNvSpPr/>
          <p:nvPr/>
        </p:nvSpPr>
        <p:spPr>
          <a:xfrm>
            <a:off x="169920" y="954000"/>
            <a:ext cx="1131840" cy="108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3"/>
          <p:cNvSpPr/>
          <p:nvPr/>
        </p:nvSpPr>
        <p:spPr>
          <a:xfrm>
            <a:off x="2050920" y="1197000"/>
            <a:ext cx="6940800" cy="6318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4"/>
          <p:cNvSpPr/>
          <p:nvPr/>
        </p:nvSpPr>
        <p:spPr>
          <a:xfrm>
            <a:off x="1104840" y="946080"/>
            <a:ext cx="1116000" cy="11206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252360" y="1138320"/>
            <a:ext cx="97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3282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"/>
          <p:cNvSpPr/>
          <p:nvPr/>
        </p:nvSpPr>
        <p:spPr>
          <a:xfrm>
            <a:off x="1104840" y="1119240"/>
            <a:ext cx="103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27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2255760" y="1284120"/>
            <a:ext cx="666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На одного граждан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8"/>
          <p:cNvSpPr/>
          <p:nvPr/>
        </p:nvSpPr>
        <p:spPr>
          <a:xfrm>
            <a:off x="160200" y="2131920"/>
            <a:ext cx="1132200" cy="108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9"/>
          <p:cNvSpPr/>
          <p:nvPr/>
        </p:nvSpPr>
        <p:spPr>
          <a:xfrm>
            <a:off x="2066760" y="2359080"/>
            <a:ext cx="6940800" cy="6318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0"/>
          <p:cNvSpPr/>
          <p:nvPr/>
        </p:nvSpPr>
        <p:spPr>
          <a:xfrm>
            <a:off x="1054080" y="2124000"/>
            <a:ext cx="1116000" cy="11206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279360" y="225108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1730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2"/>
          <p:cNvSpPr/>
          <p:nvPr/>
        </p:nvSpPr>
        <p:spPr>
          <a:xfrm>
            <a:off x="1171440" y="2293920"/>
            <a:ext cx="93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14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3"/>
          <p:cNvSpPr/>
          <p:nvPr/>
        </p:nvSpPr>
        <p:spPr>
          <a:xfrm>
            <a:off x="2255760" y="2401920"/>
            <a:ext cx="666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На Общегосударственные вопро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4"/>
          <p:cNvSpPr/>
          <p:nvPr/>
        </p:nvSpPr>
        <p:spPr>
          <a:xfrm>
            <a:off x="160200" y="3297240"/>
            <a:ext cx="1132200" cy="108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5"/>
          <p:cNvSpPr/>
          <p:nvPr/>
        </p:nvSpPr>
        <p:spPr>
          <a:xfrm>
            <a:off x="2075040" y="3571920"/>
            <a:ext cx="6940440" cy="6303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26"/>
          <p:cNvSpPr/>
          <p:nvPr/>
        </p:nvSpPr>
        <p:spPr>
          <a:xfrm>
            <a:off x="1114560" y="3351240"/>
            <a:ext cx="1116000" cy="11224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7"/>
          <p:cNvSpPr/>
          <p:nvPr/>
        </p:nvSpPr>
        <p:spPr>
          <a:xfrm>
            <a:off x="258840" y="347184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1462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руб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9"/>
          <p:cNvSpPr/>
          <p:nvPr/>
        </p:nvSpPr>
        <p:spPr>
          <a:xfrm>
            <a:off x="1270080" y="347184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121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0"/>
          <p:cNvSpPr/>
          <p:nvPr/>
        </p:nvSpPr>
        <p:spPr>
          <a:xfrm>
            <a:off x="2332080" y="3624120"/>
            <a:ext cx="66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На Культу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32"/>
          <p:cNvSpPr/>
          <p:nvPr/>
        </p:nvSpPr>
        <p:spPr>
          <a:xfrm>
            <a:off x="160200" y="4441680"/>
            <a:ext cx="1132200" cy="108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3"/>
          <p:cNvSpPr/>
          <p:nvPr/>
        </p:nvSpPr>
        <p:spPr>
          <a:xfrm flipV="1">
            <a:off x="2050920" y="4723200"/>
            <a:ext cx="6940800" cy="73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38"/>
          <p:cNvSpPr/>
          <p:nvPr/>
        </p:nvSpPr>
        <p:spPr>
          <a:xfrm>
            <a:off x="108000" y="5661000"/>
            <a:ext cx="1131840" cy="108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40"/>
          <p:cNvSpPr/>
          <p:nvPr/>
        </p:nvSpPr>
        <p:spPr>
          <a:xfrm>
            <a:off x="1131840" y="5691240"/>
            <a:ext cx="1116000" cy="11206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1"/>
          <p:cNvSpPr/>
          <p:nvPr/>
        </p:nvSpPr>
        <p:spPr>
          <a:xfrm>
            <a:off x="236520" y="580392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170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2"/>
          <p:cNvSpPr/>
          <p:nvPr/>
        </p:nvSpPr>
        <p:spPr>
          <a:xfrm>
            <a:off x="1208160" y="587520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Tahoma"/>
              </a:rPr>
              <a:t>142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46c0a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46c0a"/>
                </a:solidFill>
                <a:latin typeface="Tahoma"/>
                <a:ea typeface="Tahoma"/>
              </a:rPr>
              <a:t>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5"/>
          <p:cNvSpPr/>
          <p:nvPr/>
        </p:nvSpPr>
        <p:spPr>
          <a:xfrm>
            <a:off x="2320920" y="5969160"/>
            <a:ext cx="66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благоустро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1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6976-2BB8-4475-AE73-083862359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11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расходов в разрезе основных статей в 2018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Содержимое 3"/>
          <p:cNvGraphicFramePr/>
          <p:nvPr/>
        </p:nvGraphicFramePr>
        <p:xfrm>
          <a:off x="485640" y="2295360"/>
          <a:ext cx="9220320" cy="453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2295360"/>
                    <a:ext cx="922032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Picture 7" descr="D:\Desktop\Accountant-300x281.jpg"/>
          <p:cNvPicPr/>
          <p:nvPr/>
        </p:nvPicPr>
        <p:blipFill>
          <a:blip r:embed="rId3"/>
          <a:stretch/>
        </p:blipFill>
        <p:spPr>
          <a:xfrm>
            <a:off x="5435640" y="0"/>
            <a:ext cx="38098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Заголовок 1"/>
          <p:cNvSpPr/>
          <p:nvPr/>
        </p:nvSpPr>
        <p:spPr>
          <a:xfrm>
            <a:off x="3654360" y="31680"/>
            <a:ext cx="446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Финансирование муницип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9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10"/>
          <p:cNvSpPr/>
          <p:nvPr/>
        </p:nvSpPr>
        <p:spPr>
          <a:xfrm>
            <a:off x="252360" y="1160640"/>
            <a:ext cx="863928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Финансирование муниципального учреждения осуществлялось на основании «Дорожной карты», утвержденной Постановлением Администрации Плеховского сельсовета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Муниципальныму  учреждению установлено муниципальное задание на оказание муниципальных услуг с указанием показателей объёма и качества его выполн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Перечень муниципальных услуг (работ), оказываемых (выполняемых) муниципальными учреждениями утверждён администрацией МО «Плеховский сельсовет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Муниципальные услуги (работы), оказываемые (выполняемые) муниципальным учреждением в рамках муниципального задания предоставлялись 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населению бесплатно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Финансирование органов местного самоуправления,  и казённого учреждения (Дом культуры) осуществлялось согласно бюджетных смет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00CC-8836-468F-AC10-50F217BB7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Расходы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о разделам в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201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год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Содержимое 3"/>
          <p:cNvGraphicFramePr/>
          <p:nvPr/>
        </p:nvGraphicFramePr>
        <p:xfrm>
          <a:off x="581040" y="1152360"/>
          <a:ext cx="8391600" cy="543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152360"/>
                    <a:ext cx="839160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Заголовок 1"/>
          <p:cNvSpPr/>
          <p:nvPr/>
        </p:nvSpPr>
        <p:spPr>
          <a:xfrm>
            <a:off x="5292720" y="31680"/>
            <a:ext cx="35989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План и фактичекое исполнение  расходной части бюджета по разде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2349360"/>
          <a:ext cx="8929800" cy="4050000"/>
        </p:xfrm>
        <a:graphic>
          <a:graphicData uri="http://schemas.openxmlformats.org/drawingml/2006/table">
            <a:tbl>
              <a:tblPr/>
              <a:tblGrid>
                <a:gridCol w="218880"/>
                <a:gridCol w="3777840"/>
                <a:gridCol w="1695600"/>
                <a:gridCol w="1081080"/>
                <a:gridCol w="1328760"/>
                <a:gridCol w="827640"/>
              </a:tblGrid>
              <a:tr h="70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именование разд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Утвержденные бюджетные 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спол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еисполненные 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оцент испол-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щегосударственные 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обор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ервичные меры пожарной безопас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орожный фон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оммунальное хозяй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Благоустрой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ульту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оц.поли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того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71BB-C7B9-4023-9A11-DE424FC07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http://infoption.ru/images/0fc08bea911527378f9beb410b5a4de8"/>
          <p:cNvPicPr/>
          <p:nvPr/>
        </p:nvPicPr>
        <p:blipFill>
          <a:blip r:embed="rId1"/>
          <a:stretch/>
        </p:blipFill>
        <p:spPr>
          <a:xfrm>
            <a:off x="0" y="0"/>
            <a:ext cx="5219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258920" y="336600"/>
            <a:ext cx="6121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важаемые жители Плеховского сельсове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едставляем вашему вниманию «Отчет для граждан», который познакомит вас с основными положениями отчета об исполнении бюджета МО «Плеховский сельсовет » за 2018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нформация в доступной форме знакомит вас с основными характеристиками отчета МО «Плеховский сельсовет», достигнутыми целями и  выполненными задачами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Разработка информационного ресурса «Отчет для граждан» является одним из важных направлений бюджетной политики, нацеленной на повышение прозрачности, открытости бюджета и бюджетного проце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«Отчет для граждан» нацелен на получение обратной связи от населения, которому интересны проблемы и итоги деятельности муницип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56000" y="274680"/>
            <a:ext cx="433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ы Аппарата управления администрации пос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Содержимое 3"/>
          <p:cNvGraphicFramePr/>
          <p:nvPr/>
        </p:nvGraphicFramePr>
        <p:xfrm>
          <a:off x="-1619280" y="3298680"/>
          <a:ext cx="1254456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19280" y="3298680"/>
                    <a:ext cx="1254456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Picture 5" descr="http://cherkasy-city.com/sites/default/files/images/news/2014/10/143123.jpg"/>
          <p:cNvPicPr/>
          <p:nvPr/>
        </p:nvPicPr>
        <p:blipFill>
          <a:blip r:embed="rId3"/>
          <a:stretch/>
        </p:blipFill>
        <p:spPr>
          <a:xfrm>
            <a:off x="155520" y="0"/>
            <a:ext cx="41292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государственные расх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Содержимое 3"/>
          <p:cNvGraphicFramePr/>
          <p:nvPr/>
        </p:nvGraphicFramePr>
        <p:xfrm>
          <a:off x="581040" y="1066680"/>
          <a:ext cx="8134200" cy="476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066680"/>
                    <a:ext cx="8134200" cy="47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ы на благоустрой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Содержимое 3"/>
          <p:cNvGraphicFramePr/>
          <p:nvPr/>
        </p:nvGraphicFramePr>
        <p:xfrm>
          <a:off x="539640" y="3068640"/>
          <a:ext cx="8023320" cy="271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068640"/>
                    <a:ext cx="802332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403280" y="692280"/>
            <a:ext cx="6121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35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ходы на содержание учреждений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Содержимое 3"/>
          <p:cNvGraphicFramePr/>
          <p:nvPr/>
        </p:nvGraphicFramePr>
        <p:xfrm>
          <a:off x="539640" y="4005360"/>
          <a:ext cx="8604360" cy="223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05360"/>
                    <a:ext cx="86043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476360" y="620640"/>
            <a:ext cx="5904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Заголовок 1"/>
          <p:cNvSpPr/>
          <p:nvPr/>
        </p:nvSpPr>
        <p:spPr>
          <a:xfrm>
            <a:off x="611280" y="31680"/>
            <a:ext cx="799308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Остаток средств на счетах администрации Плеховского сельсовета на 01.01.201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8"/>
          <p:cNvSpPr/>
          <p:nvPr/>
        </p:nvSpPr>
        <p:spPr>
          <a:xfrm>
            <a:off x="255600" y="1125360"/>
            <a:ext cx="8639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755640" y="1052640"/>
            <a:ext cx="76042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Остаток средств на едином счёте бюджета МО «Плеховского сельсовета» по состоянию на 1 января 2019 года составил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26,6 тыс. рублей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, из них целевых средств нет. Все средства свободные к  распределению в текущем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75C9-7D65-4FBB-8C5A-530195BFA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" descr="http://ks-region69.com/wp-content/uploads/2015/03/bednye_zhiteli.jpg"/>
          <p:cNvPicPr/>
          <p:nvPr/>
        </p:nvPicPr>
        <p:blipFill>
          <a:blip r:embed="rId1"/>
          <a:stretch/>
        </p:blipFill>
        <p:spPr>
          <a:xfrm>
            <a:off x="90360" y="2637000"/>
            <a:ext cx="8934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Заголовок 1"/>
          <p:cNvSpPr/>
          <p:nvPr/>
        </p:nvSpPr>
        <p:spPr>
          <a:xfrm>
            <a:off x="712800" y="31680"/>
            <a:ext cx="74055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Итоговые показатели отчета об исполнении бюджета за 201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8"/>
          <p:cNvSpPr/>
          <p:nvPr/>
        </p:nvSpPr>
        <p:spPr>
          <a:xfrm>
            <a:off x="255600" y="1125360"/>
            <a:ext cx="8639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712800" y="981000"/>
            <a:ext cx="76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892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Исполнение доходной части бюджета составляет 2501,5 тыс. руб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Исполнение расходной части бюджета составляет  2310,6 тыс. руб.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3880-3EC8-48CD-A401-F6546D6B0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1" descr="http://static6.depositphotos.com/1058973/537/i/950/depositphotos_5378781-Money-under-magnifying-glass.jpg"/>
          <p:cNvPicPr/>
          <p:nvPr/>
        </p:nvPicPr>
        <p:blipFill>
          <a:blip r:embed="rId1"/>
          <a:stretch/>
        </p:blipFill>
        <p:spPr>
          <a:xfrm>
            <a:off x="395280" y="2924280"/>
            <a:ext cx="84978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5" descr=""/>
          <p:cNvPicPr/>
          <p:nvPr/>
        </p:nvPicPr>
        <p:blipFill>
          <a:blip r:embed="rId1"/>
          <a:stretch/>
        </p:blipFill>
        <p:spPr>
          <a:xfrm>
            <a:off x="15840" y="0"/>
            <a:ext cx="696960" cy="88416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2"/>
          <p:cNvSpPr/>
          <p:nvPr/>
        </p:nvSpPr>
        <p:spPr>
          <a:xfrm>
            <a:off x="324000" y="4292640"/>
            <a:ext cx="856764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«Отчет для граждан» подготовлен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36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Администрацией  МО «Плеховский сельсовет », расположенным по адресу: ул.Новая, дом 4 с. Плехово Суджанский район Кур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телефон/факс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8(47143) 3-15-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 – mail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dmplehovo@yandex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«Отчет для граждан» подготовлен на основании решения собрания депутатов Плеховского сельсовета «Об утверждении отчета об исполнении бюджета за 2018 год» и размещён на сайте поселения по адресу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ttp://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плеховский-сельсовет.р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C1F7-9AF6-42CB-9C35-4F23A5CEF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128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971640" y="4724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Численность  населения (по регистрации) на 01.01.2019 года составила 708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78501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3"/>
          <p:cNvSpPr/>
          <p:nvPr/>
        </p:nvSpPr>
        <p:spPr>
          <a:xfrm>
            <a:off x="123840" y="1052640"/>
            <a:ext cx="2976480" cy="1158840"/>
          </a:xfrm>
          <a:prstGeom prst="rect">
            <a:avLst/>
          </a:prstGeom>
          <a:solidFill>
            <a:srgbClr val="9bbb59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9"/>
          <p:cNvSpPr/>
          <p:nvPr/>
        </p:nvSpPr>
        <p:spPr>
          <a:xfrm>
            <a:off x="179280" y="1474920"/>
            <a:ext cx="2876760" cy="684000"/>
          </a:xfrm>
          <a:prstGeom prst="rect">
            <a:avLst/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E:\New Folder\самоуправление.png"/>
          <p:cNvPicPr/>
          <p:nvPr/>
        </p:nvPicPr>
        <p:blipFill>
          <a:blip r:embed="rId1"/>
          <a:stretch/>
        </p:blipFill>
        <p:spPr>
          <a:xfrm>
            <a:off x="284040" y="1428840"/>
            <a:ext cx="719280" cy="669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3"/>
          <p:cNvSpPr/>
          <p:nvPr/>
        </p:nvSpPr>
        <p:spPr>
          <a:xfrm>
            <a:off x="5164200" y="1052640"/>
            <a:ext cx="2976480" cy="1147680"/>
          </a:xfrm>
          <a:prstGeom prst="rect">
            <a:avLst/>
          </a:prstGeom>
          <a:solidFill>
            <a:srgbClr val="9bbb59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>
            <a:off x="5199120" y="1463760"/>
            <a:ext cx="2876400" cy="682560"/>
          </a:xfrm>
          <a:prstGeom prst="rect">
            <a:avLst/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5"/>
          <p:cNvSpPr/>
          <p:nvPr/>
        </p:nvSpPr>
        <p:spPr>
          <a:xfrm>
            <a:off x="828720" y="155268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 орган местного само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5929200" y="156528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 муниципа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E:\New Folder\муниципальное.png"/>
          <p:cNvPicPr/>
          <p:nvPr/>
        </p:nvPicPr>
        <p:blipFill>
          <a:blip r:embed="rId2"/>
          <a:stretch/>
        </p:blipFill>
        <p:spPr>
          <a:xfrm>
            <a:off x="5249880" y="1392120"/>
            <a:ext cx="887400" cy="824040"/>
          </a:xfrm>
          <a:prstGeom prst="rect">
            <a:avLst/>
          </a:prstGeom>
          <a:ln w="0">
            <a:noFill/>
          </a:ln>
        </p:spPr>
      </p:pic>
      <p:sp>
        <p:nvSpPr>
          <p:cNvPr id="62" name="Скругленный прямоугольник 40"/>
          <p:cNvSpPr/>
          <p:nvPr/>
        </p:nvSpPr>
        <p:spPr>
          <a:xfrm>
            <a:off x="5292720" y="234936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ввв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9"/>
          <p:cNvSpPr/>
          <p:nvPr/>
        </p:nvSpPr>
        <p:spPr>
          <a:xfrm>
            <a:off x="5292720" y="234936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- Дом культуры      (1 филиа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ый треугольник 30"/>
          <p:cNvSpPr/>
          <p:nvPr/>
        </p:nvSpPr>
        <p:spPr>
          <a:xfrm rot="12911400">
            <a:off x="756720" y="2562120"/>
            <a:ext cx="1263960" cy="208080"/>
          </a:xfrm>
          <a:prstGeom prst="rtTriangl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ый треугольник 62"/>
          <p:cNvSpPr/>
          <p:nvPr/>
        </p:nvSpPr>
        <p:spPr>
          <a:xfrm rot="18925200">
            <a:off x="3665160" y="2139840"/>
            <a:ext cx="1263600" cy="208080"/>
          </a:xfrm>
          <a:prstGeom prst="rtTriangl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54"/>
          <p:cNvSpPr/>
          <p:nvPr/>
        </p:nvSpPr>
        <p:spPr>
          <a:xfrm>
            <a:off x="1798560" y="2700360"/>
            <a:ext cx="2352600" cy="2354400"/>
          </a:xfrm>
          <a:prstGeom prst="ellipse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64"/>
          <p:cNvSpPr/>
          <p:nvPr/>
        </p:nvSpPr>
        <p:spPr>
          <a:xfrm>
            <a:off x="2187720" y="2747880"/>
            <a:ext cx="2195280" cy="2195640"/>
          </a:xfrm>
          <a:prstGeom prst="ellipse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5"/>
          <p:cNvSpPr/>
          <p:nvPr/>
        </p:nvSpPr>
        <p:spPr>
          <a:xfrm>
            <a:off x="1473480" y="3638520"/>
            <a:ext cx="368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Из бюджета МО «Плеховский сельсо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Финансиру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E:\New Folder\город.png"/>
          <p:cNvPicPr/>
          <p:nvPr/>
        </p:nvPicPr>
        <p:blipFill>
          <a:blip r:embed="rId3"/>
          <a:stretch/>
        </p:blipFill>
        <p:spPr>
          <a:xfrm>
            <a:off x="2674800" y="2921040"/>
            <a:ext cx="1265400" cy="73332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3654360" y="31680"/>
            <a:ext cx="4805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Сеть муницип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5" descr=""/>
          <p:cNvPicPr/>
          <p:nvPr/>
        </p:nvPicPr>
        <p:blipFill>
          <a:blip r:embed="rId4"/>
          <a:stretch/>
        </p:blipFill>
        <p:spPr>
          <a:xfrm>
            <a:off x="15840" y="0"/>
            <a:ext cx="1243080" cy="884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9" descr=""/>
          <p:cNvPicPr/>
          <p:nvPr/>
        </p:nvPicPr>
        <p:blipFill>
          <a:blip r:embed="rId5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720" y="1413000"/>
            <a:ext cx="446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Основные поня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795F-0B41-44BD-9515-EEA24B614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252360" y="2637000"/>
            <a:ext cx="863928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Бюджет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Доходы бюджет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поступающие в бюджет денежные сред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Расходы бюджет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выплачиваемые из бюджета денежные сред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Дефицит бюджета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превышение расходов бюджета над его доход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Профицит бюджет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превышение доходов бюджета над его расход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http://files.kabobo.ru/tw_files2/urls_1632/9/d-8628/8628_html_m37268541.jpg"/>
          <p:cNvPicPr/>
          <p:nvPr/>
        </p:nvPicPr>
        <p:blipFill>
          <a:blip r:embed="rId2"/>
          <a:stretch/>
        </p:blipFill>
        <p:spPr>
          <a:xfrm>
            <a:off x="179280" y="0"/>
            <a:ext cx="3816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54000" y="31680"/>
            <a:ext cx="5310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Основные характеристики бюдж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AE16-BD7E-43D3-948C-00A7114E3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7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ahmedova\Рабочий стол\New Folder\1.png"/>
          <p:cNvPicPr/>
          <p:nvPr/>
        </p:nvPicPr>
        <p:blipFill>
          <a:blip r:embed="rId2"/>
          <a:stretch/>
        </p:blipFill>
        <p:spPr>
          <a:xfrm>
            <a:off x="658800" y="995400"/>
            <a:ext cx="1866960" cy="207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ahmedova\Рабочий стол\New Folder\2.png"/>
          <p:cNvPicPr/>
          <p:nvPr/>
        </p:nvPicPr>
        <p:blipFill>
          <a:blip r:embed="rId3"/>
          <a:stretch/>
        </p:blipFill>
        <p:spPr>
          <a:xfrm>
            <a:off x="2282760" y="1190520"/>
            <a:ext cx="2001960" cy="2338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ahmedova\Рабочий стол\New Folder\3.png"/>
          <p:cNvPicPr/>
          <p:nvPr/>
        </p:nvPicPr>
        <p:blipFill>
          <a:blip r:embed="rId4"/>
          <a:stretch/>
        </p:blipFill>
        <p:spPr>
          <a:xfrm>
            <a:off x="4711680" y="1179360"/>
            <a:ext cx="2130480" cy="2465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ahmedova\Рабочий стол\New Folder\4.png"/>
          <p:cNvPicPr/>
          <p:nvPr/>
        </p:nvPicPr>
        <p:blipFill>
          <a:blip r:embed="rId5"/>
          <a:stretch/>
        </p:blipFill>
        <p:spPr>
          <a:xfrm>
            <a:off x="7113600" y="1141560"/>
            <a:ext cx="1440000" cy="1780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7"/>
          <p:cNvSpPr/>
          <p:nvPr/>
        </p:nvSpPr>
        <p:spPr>
          <a:xfrm>
            <a:off x="867240" y="30672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2767680" y="377352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4967280" y="377352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7325280" y="306720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1"/>
          <p:cNvSpPr/>
          <p:nvPr/>
        </p:nvSpPr>
        <p:spPr>
          <a:xfrm>
            <a:off x="825480" y="4508640"/>
            <a:ext cx="3230640" cy="72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авильный пятиугольник 22"/>
          <p:cNvSpPr/>
          <p:nvPr/>
        </p:nvSpPr>
        <p:spPr>
          <a:xfrm rot="10800000">
            <a:off x="1511280" y="4586040"/>
            <a:ext cx="1873440" cy="1003320"/>
          </a:xfrm>
          <a:prstGeom prst="pentagon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1572840" y="4627440"/>
            <a:ext cx="175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Дефи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(расходы больш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до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4"/>
          <p:cNvSpPr/>
          <p:nvPr/>
        </p:nvSpPr>
        <p:spPr>
          <a:xfrm>
            <a:off x="304920" y="5595840"/>
            <a:ext cx="4286160" cy="89064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411120" y="5543640"/>
            <a:ext cx="4059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ри превышении расходов над доходами принимается решение об источниках покрытия дефицита (привлечение кредитов, изменение остатков средст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6"/>
          <p:cNvSpPr/>
          <p:nvPr/>
        </p:nvSpPr>
        <p:spPr>
          <a:xfrm>
            <a:off x="5232240" y="4502160"/>
            <a:ext cx="3229200" cy="71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авильный пятиугольник 27"/>
          <p:cNvSpPr/>
          <p:nvPr/>
        </p:nvSpPr>
        <p:spPr>
          <a:xfrm rot="10800000">
            <a:off x="5916600" y="4566960"/>
            <a:ext cx="1874880" cy="1003320"/>
          </a:xfrm>
          <a:prstGeom prst="pentagon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8"/>
          <p:cNvSpPr/>
          <p:nvPr/>
        </p:nvSpPr>
        <p:spPr>
          <a:xfrm>
            <a:off x="6021360" y="4610160"/>
            <a:ext cx="166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рофи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(доходы больш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с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9"/>
          <p:cNvSpPr/>
          <p:nvPr/>
        </p:nvSpPr>
        <p:spPr>
          <a:xfrm>
            <a:off x="4711680" y="5576760"/>
            <a:ext cx="4194360" cy="9208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0"/>
          <p:cNvSpPr/>
          <p:nvPr/>
        </p:nvSpPr>
        <p:spPr>
          <a:xfrm>
            <a:off x="4867200" y="5564160"/>
            <a:ext cx="397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ри превышении доходов над расходами принимается решение , как их использовать (погашать долг, накапливать остатки, направлять на развит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3280" y="836280"/>
            <a:ext cx="352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Приоритеты бюдж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F85F-4D6A-44CC-93DA-10FA635CF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250920" y="2924280"/>
          <a:ext cx="8496360" cy="3063600"/>
        </p:xfrm>
        <a:graphic>
          <a:graphicData uri="http://schemas.openxmlformats.org/drawingml/2006/table">
            <a:tbl>
              <a:tblPr/>
              <a:tblGrid>
                <a:gridCol w="360360"/>
                <a:gridCol w="3456000"/>
                <a:gridCol w="468000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сполнение действующих расходных обязательст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язательства муниципалитета по выплате заработной платы, начислений по оплате труда,  выполнены в полном объёме. Остальные расходы выполнены по факту потреб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ыполнение обязательств и задач, поставленных Указами Президента Российской Федерации от 07 мая 201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о Указу № 597 – показатели достигнут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ереход на программный бюдж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ереход  осуществлен с 01.01.2018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32" descr="D:\Desktop\kakoy-nalog-vyibrat-pri-otkryitii-IP.jpg"/>
          <p:cNvPicPr/>
          <p:nvPr/>
        </p:nvPicPr>
        <p:blipFill>
          <a:blip r:embed="rId2"/>
          <a:stretch/>
        </p:blipFill>
        <p:spPr>
          <a:xfrm>
            <a:off x="0" y="163440"/>
            <a:ext cx="38512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3654360" y="31680"/>
            <a:ext cx="4950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Исполнение майских указов Президент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9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2"/>
          <p:cNvSpPr/>
          <p:nvPr/>
        </p:nvSpPr>
        <p:spPr>
          <a:xfrm>
            <a:off x="252360" y="2637000"/>
            <a:ext cx="863928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Указ Президента Российской Федерации от 07 мая 2012 года № 597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«О мероприятиях по реализации государственной социальной политики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36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приняты «дорожные карты» (план развития) в сфере  культуры, согласно которым средняя заработная плата в МО «Плеховский сельсовет» 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9640" y="5013360"/>
          <a:ext cx="8209080" cy="1281240"/>
        </p:xfrm>
        <a:graphic>
          <a:graphicData uri="http://schemas.openxmlformats.org/drawingml/2006/table">
            <a:tbl>
              <a:tblPr/>
              <a:tblGrid>
                <a:gridCol w="2824200"/>
                <a:gridCol w="2692440"/>
                <a:gridCol w="26924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но «Дорожной карты» (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есяц (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 учреждения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38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01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7267-2EC1-442B-BCCF-43DBE5BD7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1" descr="D:\Desktop\1424541652474.jpg"/>
          <p:cNvPicPr/>
          <p:nvPr/>
        </p:nvPicPr>
        <p:blipFill>
          <a:blip r:embed="rId2"/>
          <a:stretch/>
        </p:blipFill>
        <p:spPr>
          <a:xfrm>
            <a:off x="395280" y="115920"/>
            <a:ext cx="2952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Заголовок 1"/>
          <p:cNvSpPr/>
          <p:nvPr/>
        </p:nvSpPr>
        <p:spPr>
          <a:xfrm>
            <a:off x="3654360" y="31680"/>
            <a:ext cx="446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Доходы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TextBox 8"/>
          <p:cNvGrpSpPr/>
          <p:nvPr/>
        </p:nvGrpSpPr>
        <p:grpSpPr>
          <a:xfrm>
            <a:off x="195120" y="1859040"/>
            <a:ext cx="3084480" cy="3517920"/>
            <a:chOff x="195120" y="1859040"/>
            <a:chExt cx="3084480" cy="3517920"/>
          </a:xfrm>
        </p:grpSpPr>
        <p:pic>
          <p:nvPicPr>
            <p:cNvPr id="113" name="TextBox 8" descr=""/>
            <p:cNvPicPr/>
            <p:nvPr/>
          </p:nvPicPr>
          <p:blipFill>
            <a:blip r:embed="rId1"/>
            <a:stretch/>
          </p:blipFill>
          <p:spPr>
            <a:xfrm>
              <a:off x="195120" y="1859040"/>
              <a:ext cx="308448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52360" y="1895400"/>
              <a:ext cx="297036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алоговые дох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алог на доходы физических ли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алог на имущество физических ли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Земельный нало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Прямоугольник 19"/>
          <p:cNvGrpSpPr/>
          <p:nvPr/>
        </p:nvGrpSpPr>
        <p:grpSpPr>
          <a:xfrm>
            <a:off x="195120" y="1011240"/>
            <a:ext cx="8753760" cy="579600"/>
            <a:chOff x="195120" y="1011240"/>
            <a:chExt cx="8753760" cy="579600"/>
          </a:xfrm>
        </p:grpSpPr>
        <p:pic>
          <p:nvPicPr>
            <p:cNvPr id="116" name="Прямоугольник 19" descr=""/>
            <p:cNvPicPr/>
            <p:nvPr/>
          </p:nvPicPr>
          <p:blipFill>
            <a:blip r:embed="rId2"/>
            <a:stretch/>
          </p:blipFill>
          <p:spPr>
            <a:xfrm>
              <a:off x="195120" y="1011240"/>
              <a:ext cx="87537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52360" y="1044720"/>
              <a:ext cx="8639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ходы бюджет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Прямая соединительная линия 21"/>
          <p:cNvSpPr/>
          <p:nvPr/>
        </p:nvSpPr>
        <p:spPr>
          <a:xfrm>
            <a:off x="4724280" y="1476360"/>
            <a:ext cx="0" cy="42228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23"/>
          <p:cNvSpPr/>
          <p:nvPr/>
        </p:nvSpPr>
        <p:spPr>
          <a:xfrm flipV="1">
            <a:off x="1736640" y="1682640"/>
            <a:ext cx="0" cy="21600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5"/>
          <p:cNvSpPr/>
          <p:nvPr/>
        </p:nvSpPr>
        <p:spPr>
          <a:xfrm flipV="1">
            <a:off x="7758000" y="1703160"/>
            <a:ext cx="0" cy="2156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27"/>
          <p:cNvSpPr/>
          <p:nvPr/>
        </p:nvSpPr>
        <p:spPr>
          <a:xfrm flipV="1">
            <a:off x="1736640" y="1671120"/>
            <a:ext cx="6031080" cy="1116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TextBox 33"/>
          <p:cNvGrpSpPr/>
          <p:nvPr/>
        </p:nvGrpSpPr>
        <p:grpSpPr>
          <a:xfrm>
            <a:off x="3303720" y="1859040"/>
            <a:ext cx="2895480" cy="3560760"/>
            <a:chOff x="3303720" y="1859040"/>
            <a:chExt cx="2895480" cy="3560760"/>
          </a:xfrm>
        </p:grpSpPr>
        <p:pic>
          <p:nvPicPr>
            <p:cNvPr id="123" name="TextBox 33" descr=""/>
            <p:cNvPicPr/>
            <p:nvPr/>
          </p:nvPicPr>
          <p:blipFill>
            <a:blip r:embed="rId3"/>
            <a:stretch/>
          </p:blipFill>
          <p:spPr>
            <a:xfrm>
              <a:off x="3303720" y="1859040"/>
              <a:ext cx="289548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357720" y="1893960"/>
              <a:ext cx="2790720" cy="34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еналоговые дох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ходы от использование имущества, находящегося в муниципальной собстве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ходы от реализации имущества, находящегося в муниципальной собстве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Штрафы, санкции, возмещение ущерб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TextBox 34"/>
          <p:cNvGrpSpPr/>
          <p:nvPr/>
        </p:nvGrpSpPr>
        <p:grpSpPr>
          <a:xfrm>
            <a:off x="6272280" y="1859040"/>
            <a:ext cx="2712960" cy="3506040"/>
            <a:chOff x="6272280" y="1859040"/>
            <a:chExt cx="2712960" cy="3506040"/>
          </a:xfrm>
        </p:grpSpPr>
        <p:pic>
          <p:nvPicPr>
            <p:cNvPr id="126" name="TextBox 34" descr=""/>
            <p:cNvPicPr/>
            <p:nvPr/>
          </p:nvPicPr>
          <p:blipFill>
            <a:blip r:embed="rId4"/>
            <a:stretch/>
          </p:blipFill>
          <p:spPr>
            <a:xfrm>
              <a:off x="6272280" y="1859040"/>
              <a:ext cx="2712960" cy="34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326280" y="1893960"/>
              <a:ext cx="2565360" cy="34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Безвозмездные поступ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та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Субсид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Субвен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Иные межбюджетные трансфер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Прочие безвозмездные поступления от юридических и физических ли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Рисунок 14" descr=""/>
          <p:cNvPicPr/>
          <p:nvPr/>
        </p:nvPicPr>
        <p:blipFill>
          <a:blip r:embed="rId5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2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1AB8-5047-4ABD-8EB4-962E614D5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1:50:12Z</dcterms:created>
  <dc:creator>Валентина</dc:creator>
  <dc:description/>
  <dc:language>en-US</dc:language>
  <cp:lastModifiedBy>Comp12</cp:lastModifiedBy>
  <dcterms:modified xsi:type="dcterms:W3CDTF">2019-06-27T12:53:42Z</dcterms:modified>
  <cp:revision>208</cp:revision>
  <dc:subject/>
  <dc:title>Исполнение бюджета фокинского сельского поселения</dc:title>
</cp:coreProperties>
</file>