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0293-BCF7-453C-AABB-B36E27A21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C784-B5C9-4C3A-80B3-FC8CF9B1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5944-694A-4AA7-BA76-5CF9BB678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B34E-04FF-43C7-8FD6-29755E629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231B-FB03-4A84-A973-A05D063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FF5BD-6C52-4966-BF31-AC00894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7579F-10C0-41F0-BB7B-C71154A3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D2EE-EDFD-4C79-BA0F-AD1FA1B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4BCB1-BE00-4645-A233-14DAE194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215C-EB79-46E3-8701-519C67C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53DE-31B1-4077-B213-2B3DB210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2433-E908-4A51-BB70-DD06981C2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4938-BBB8-4A0B-B7F8-3ADCC38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DB0F6-4FA9-4C68-B6CE-0CD5600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93716-C602-43F7-A9C4-44B96FBA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21ECE-5939-4B8D-B996-9483ADAE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5240-118A-4818-9EB8-10CD77A8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4BA-6E4B-44B8-A8EF-A60D8CA96E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4F3F5-C84E-4162-8599-00302CCE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BB894-10C5-42A6-A1BB-F5DAA02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47322-6221-41DD-B7A6-A7ACC51C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CF2B-EB83-46C1-8873-8B092D3A22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37654-BCFA-470D-A3F5-27A1710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BED1C-2A09-489F-802A-DB6DA51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3B742-1D62-4BAA-ACEA-DBE2A3F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1F1FD-18F4-4649-B760-FB6EE00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3F9C3-6E9F-450B-965C-8D6CBF5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4E9FB-95B3-4F33-8375-4845C5E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6CEC5-163F-4085-BDAC-2DDC841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A7C82-28D8-41EB-B466-144A4C0B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129FC-6AEE-4977-96A6-F0309080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52C11-5778-494E-9D0B-6E81A631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AB4C-8F31-4B31-AB94-4BF047EB29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B2779-5C7A-4874-B191-005F885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E119A-60EC-493F-8C68-A2F1635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AF745-0F12-4396-9F07-AD7F845E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9602E-FB5A-4B86-A4B9-5E6AD2F7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F0B7B-C065-4AE5-A83E-EFC5E3D8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3769B-4D05-4C36-A348-174F847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E9641-48FC-4E8B-8843-C40BCB5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21D41-8617-4169-ACB1-138867C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CF62D-C298-4A22-A738-44C40D7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25F12-A21B-42F0-8C0A-3D687C0D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98B6-12D9-4AF3-BBDD-3A1F1F3BA0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0B450-BB1C-4181-9D7D-38E03EBB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16CED-40CB-4CA0-9DA8-08FDB7DC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A6A204-5DAF-4530-A0DA-0177942C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9ADAB-2653-49FB-A0EB-4E8990B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06F8E-81DA-4990-82B9-0B75256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664F3-0F7B-422B-9708-62528E8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655D98-7EE3-4DB3-BBF0-881BE0B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DFE1B-6D40-436E-BB9A-293B1BA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7AD2B-E751-4D56-AFAB-1143D66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271FA-B453-4140-9FEA-5581BC5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577F-EB1B-4776-89B2-4D8DB0E512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BD234-4759-4944-A209-5A0A4BBF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FC94B-A410-4CFF-8D69-6C27732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469D2-9282-4150-AB09-9A072E4F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6FC-6C9C-4DA4-A31C-6216B75E6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59E8-0196-4B17-A127-522AE6DD2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F9A-7488-4A25-ABA4-84224CFD4206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FD94-C7E0-4633-8BE2-2886C844C9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D21-07F2-4938-8DD3-386E486ED13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AA64-30AB-449E-9754-F2EB195C9D3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EE9-0B39-4E31-99CE-4E802109964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7"/>
          <p:cNvSpPr/>
          <p:nvPr/>
        </p:nvSpPr>
        <p:spPr>
          <a:xfrm rot="21109200">
            <a:off x="2915640" y="24098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а для граждан на 202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80360" cy="3548160"/>
        </p:xfrm>
        <a:graphic>
          <a:graphicData uri="http://schemas.openxmlformats.org/drawingml/2006/table">
            <a:tbl>
              <a:tblPr/>
              <a:tblGrid>
                <a:gridCol w="3675240"/>
                <a:gridCol w="1658880"/>
                <a:gridCol w="1441440"/>
                <a:gridCol w="150480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79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лагоустр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82444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0F1F-7532-46CE-BD8E-C673833E1D03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1"/>
          <a:stretch/>
        </p:blipFill>
        <p:spPr>
          <a:xfrm>
            <a:off x="785880" y="628560"/>
            <a:ext cx="813276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1"/>
          <a:stretch/>
        </p:blipFill>
        <p:spPr>
          <a:xfrm>
            <a:off x="1889280" y="963720"/>
            <a:ext cx="4998960" cy="1695276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2"/>
          <a:stretch/>
        </p:blipFill>
        <p:spPr>
          <a:xfrm>
            <a:off x="706320" y="122400"/>
            <a:ext cx="7688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1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2"/>
          <a:stretch/>
        </p:blipFill>
        <p:spPr>
          <a:xfrm>
            <a:off x="3035160" y="195120"/>
            <a:ext cx="547560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2"/>
          <a:stretch/>
        </p:blipFill>
        <p:spPr>
          <a:xfrm>
            <a:off x="706320" y="0"/>
            <a:ext cx="8364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561,8        1592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30,7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4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98,8       1068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0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5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76,8          1076,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Администратор</cp:lastModifiedBy>
  <cp:lastPrinted>2013-10-03T09:30:52Z</cp:lastPrinted>
  <dcterms:modified xsi:type="dcterms:W3CDTF">2023-02-16T16:26:17Z</dcterms:modified>
  <cp:revision>221</cp:revision>
  <dc:subject/>
  <dc:title>Слайд 1</dc:title>
</cp:coreProperties>
</file>