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70CE7-B1A5-4D2B-B08B-7EF28DD2AA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51171-6806-4B8C-87A8-C71CA224D5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598B9-D9F4-4B05-8702-5AF93BD500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5CC7B-4730-419A-B3C2-21193AA065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0561ED-D580-481E-822C-1F0827ECF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85F04E-2125-4EC2-9702-98FE88AF1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5FD265-F7DA-4A4D-8177-A2AFD4BBD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2019A9-A735-4B75-B432-5457F5E42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CE705F-9BEB-48DC-8BD6-128EA0CF0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517D60-C84C-4716-93E1-90A8ADBC8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9263E2-D336-4543-A034-071B4D323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9D4DA-5CFE-4BD9-B3A1-721CA3CB9E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4272F2-678A-406E-B22D-65826CD14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ECF8C1-BEF5-4C21-9241-C9803D5F5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E6C73D-C672-41C7-8CD9-33E1401EB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AC740B-E515-426A-A1A1-56EE8791A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6D4B29-54BE-45FC-9379-760C22142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2CC3E-4AEC-4250-9CB0-8610F9881D2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5E4D44-5F69-49E3-A855-8B850A3AB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5B3571-5A06-4870-AB61-60D7A3333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5CF707-A892-4325-8C37-2CD6693B3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11BF2-19C0-45A2-BC18-3DB28E6ECAE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C93849-B417-4617-A557-4BC47F767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1AFE72-C882-402A-A94D-A2F8A4C90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930A8D-59FA-4F4D-A52B-F03483B66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FD1D5A-C797-4D32-A4A1-3E3118F2A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0BF4E7-73AC-4356-8135-2688D695B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17091F-0E6A-4D8A-A852-6DDDF4837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03A2EF-138C-461C-9030-19B283E80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B0CF32-E4D3-4E4E-8099-1ADD6B9DC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23FA5B-DC7D-48A5-BED0-2D69B448E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9BDC88-09AF-4B86-A0C2-07B640170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0311C-D892-48ED-9CE8-D6296798A8A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F94E58-9CEC-475C-8C4A-A3BA7A0BC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B9DADB-780E-4A23-81E1-9374523E4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F4A88F-3B01-495C-BF1E-63D434B00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38A2A7-F85F-4CE9-8C5D-C9DAEB8D2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BE52D8-908E-4AEC-86F6-62F80BBB5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2BE065-F5C5-4225-80F8-25793188A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F43CB3-A1B1-4D66-9DA9-B61630E49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83B7F8-7701-48A0-AA01-14F103F0A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A07277-0CF0-41C0-AF16-B31F013A0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D09A6E-D08A-4CB1-A648-983B80CCD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CC422-665B-463F-9EE2-8A5F62F10CD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009CDF-494A-4E6B-B038-8625765A2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623DAB8-E8FF-4EF3-A245-E30B097D0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207238B-52FF-44B7-AD54-09BBD891E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D2CD825-433F-4CE5-AEC5-3AC992E89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FAE258A-3349-4D34-9DF7-1E7C3A774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75940D8-2747-4149-A58B-A70D82D30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5D77BFB-65C2-40FF-B6DF-DAF4E1D61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3F9A55E-9BF7-44BE-970E-0689A9B7F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CAAF3C2-791C-45D6-8CFC-0B44D3427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B018B35-096D-4D0B-91C1-5B3820A5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31061-754C-409D-9C4F-3E5D3F4658B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EB72AD4-A077-4074-A709-01B8983E7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51664BD-B49E-472B-B6A6-4749D276A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93994B-84B9-4CBC-B79E-1585B1167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8B8D7-6099-4D7D-8693-093C43116C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11301-CB85-48B0-B654-36FFFAD969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7aa8bc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36360" y="-27000"/>
            <a:ext cx="8353440" cy="6869160"/>
          </a:xfrm>
          <a:prstGeom prst="pie">
            <a:avLst/>
          </a:prstGeom>
          <a:gradFill rotWithShape="0">
            <a:gsLst>
              <a:gs pos="0">
                <a:srgbClr val="bdd3dd"/>
              </a:gs>
              <a:gs pos="50000">
                <a:srgbClr val="e4edf1"/>
              </a:gs>
              <a:gs pos="100000">
                <a:srgbClr val="bdd3dd"/>
              </a:gs>
            </a:gsLst>
            <a:lin ang="5400000"/>
          </a:gradFill>
          <a:ln w="0">
            <a:noFill/>
          </a:ln>
          <a:effectLst>
            <a:outerShdw dist="77353" dir="562478" blurRad="0" rotWithShape="0">
              <a:srgbClr val="8ea8a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-36360" y="4019400"/>
            <a:ext cx="9189720" cy="2951280"/>
          </a:xfrm>
          <a:prstGeom prst="pie">
            <a:avLst/>
          </a:prstGeom>
          <a:solidFill>
            <a:srgbClr val="a6c4d2"/>
          </a:solidFill>
          <a:ln w="0">
            <a:noFill/>
          </a:ln>
          <a:effectLst>
            <a:outerShdw dist="107932" dir="13500000" blurRad="0" rotWithShape="0">
              <a:srgbClr val="8ea8a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-47520" y="-33480"/>
            <a:ext cx="9190080" cy="1230480"/>
          </a:xfrm>
          <a:prstGeom prst="pie">
            <a:avLst/>
          </a:prstGeom>
          <a:solidFill>
            <a:srgbClr val="a6c4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55471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c628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54737-7B36-4136-A29F-A9BB69AECC8B}" type="slidenum">
              <a:rPr b="0" lang="ru-RU" sz="1400" spc="-1" strike="noStrike">
                <a:solidFill>
                  <a:srgbClr val="2c628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C7D84-16FA-438D-9D53-587855F15D9E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1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2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5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0" descr="731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0912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7aa8bc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4"/>
          <p:cNvSpPr/>
          <p:nvPr/>
        </p:nvSpPr>
        <p:spPr>
          <a:xfrm>
            <a:off x="-12600" y="4010040"/>
            <a:ext cx="9182160" cy="2892240"/>
          </a:xfrm>
          <a:prstGeom prst="pie">
            <a:avLst/>
          </a:prstGeom>
          <a:gradFill rotWithShape="0">
            <a:gsLst>
              <a:gs pos="0">
                <a:srgbClr val="6197af">
                  <a:alpha val="58039"/>
                </a:srgbClr>
              </a:gs>
              <a:gs pos="100000">
                <a:srgbClr val="1a708e"/>
              </a:gs>
            </a:gsLst>
            <a:lin ang="0"/>
          </a:gradFill>
          <a:ln w="0">
            <a:noFill/>
          </a:ln>
          <a:effectLst>
            <a:outerShdw dist="107932" dir="13500000" blurRad="0" rotWithShape="0">
              <a:srgbClr val="c2d7e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5"/>
          <p:cNvSpPr/>
          <p:nvPr/>
        </p:nvSpPr>
        <p:spPr>
          <a:xfrm>
            <a:off x="-25560" y="-39600"/>
            <a:ext cx="9185400" cy="2181240"/>
          </a:xfrm>
          <a:prstGeom prst="pie">
            <a:avLst/>
          </a:prstGeom>
          <a:gradFill rotWithShape="0">
            <a:gsLst>
              <a:gs pos="0">
                <a:srgbClr val="1a708e"/>
              </a:gs>
              <a:gs pos="100000">
                <a:srgbClr val="6197af">
                  <a:alpha val="58039"/>
                </a:srgbClr>
              </a:gs>
            </a:gsLst>
            <a:lin ang="0"/>
          </a:gradFill>
          <a:ln w="0">
            <a:noFill/>
          </a:ln>
          <a:effectLst>
            <a:outerShdw dist="107932" dir="2700000" blurRad="0" rotWithShape="0">
              <a:srgbClr val="c2d7e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" descr="Карта области4"/>
          <p:cNvPicPr/>
          <p:nvPr/>
        </p:nvPicPr>
        <p:blipFill>
          <a:blip r:embed="rId3"/>
          <a:stretch/>
        </p:blipFill>
        <p:spPr>
          <a:xfrm>
            <a:off x="2195640" y="189000"/>
            <a:ext cx="4564080" cy="64976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55471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39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40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43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59714-8539-4365-870A-2E6B5515B574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89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0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93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9066B-C841-4870-80B7-8149CEFCCA0B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1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1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3DD75-943A-419F-9B7F-09F110874DC2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dbf5f9"/>
                </a:solidFill>
                <a:latin typeface="Calibri"/>
              </a:rPr>
              <a:t>Бюджет для граждан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282" name="Рисунок 5" descr=""/>
          <p:cNvPicPr/>
          <p:nvPr/>
        </p:nvPicPr>
        <p:blipFill>
          <a:blip r:embed="rId1"/>
          <a:stretch/>
        </p:blipFill>
        <p:spPr>
          <a:xfrm>
            <a:off x="1403280" y="1916280"/>
            <a:ext cx="6384960" cy="4389120"/>
          </a:xfrm>
          <a:prstGeom prst="rect">
            <a:avLst/>
          </a:prstGeom>
          <a:ln w="0">
            <a:noFill/>
          </a:ln>
        </p:spPr>
      </p:pic>
      <p:sp>
        <p:nvSpPr>
          <p:cNvPr id="283" name="Rectangle 47"/>
          <p:cNvSpPr/>
          <p:nvPr/>
        </p:nvSpPr>
        <p:spPr>
          <a:xfrm rot="21109200">
            <a:off x="2905560" y="2208240"/>
            <a:ext cx="187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6228"/>
                </a:solidFill>
                <a:latin typeface="Arial"/>
              </a:rPr>
              <a:t>Проект  Бюджета для граждан на 2022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Box 3"/>
          <p:cNvSpPr/>
          <p:nvPr/>
        </p:nvSpPr>
        <p:spPr>
          <a:xfrm>
            <a:off x="179280" y="189000"/>
            <a:ext cx="1860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Источники формирова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оугольник 4"/>
          <p:cNvSpPr/>
          <p:nvPr/>
        </p:nvSpPr>
        <p:spPr>
          <a:xfrm>
            <a:off x="3492360" y="189000"/>
            <a:ext cx="2664000" cy="504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БЮДЖЕТ СЕЛЬСКОГО сов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250920" y="1773360"/>
          <a:ext cx="1944720" cy="457200"/>
        </p:xfrm>
        <a:graphic>
          <a:graphicData uri="http://schemas.openxmlformats.org/drawingml/2006/table">
            <a:tbl>
              <a:tblPr/>
              <a:tblGrid>
                <a:gridCol w="1944720"/>
              </a:tblGrid>
              <a:tr h="457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Налоговые и неналоговые доход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32" name=""/>
          <p:cNvGraphicFramePr/>
          <p:nvPr/>
        </p:nvGraphicFramePr>
        <p:xfrm>
          <a:off x="3348000" y="2565360"/>
          <a:ext cx="1665360" cy="2103480"/>
        </p:xfrm>
        <a:graphic>
          <a:graphicData uri="http://schemas.openxmlformats.org/drawingml/2006/table">
            <a:tbl>
              <a:tblPr/>
              <a:tblGrid>
                <a:gridCol w="1665360"/>
              </a:tblGrid>
              <a:tr h="2103480">
                <a:tc>
                  <a:txBody>
                    <a:bodyPr anchor="t">
                      <a:noAutofit/>
                    </a:bodyPr>
                    <a:p>
                      <a:pPr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Дотации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убсидии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убвенции на исполнение государственных полномочий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Иные межбюджетные трансфер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33" name=""/>
          <p:cNvGraphicFramePr/>
          <p:nvPr/>
        </p:nvGraphicFramePr>
        <p:xfrm>
          <a:off x="2843280" y="1773360"/>
          <a:ext cx="1657440" cy="457200"/>
        </p:xfrm>
        <a:graphic>
          <a:graphicData uri="http://schemas.openxmlformats.org/drawingml/2006/table">
            <a:tbl>
              <a:tblPr/>
              <a:tblGrid>
                <a:gridCol w="1657440"/>
              </a:tblGrid>
              <a:tr h="4590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Безвозмездные поступ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</a:tbl>
          </a:graphicData>
        </a:graphic>
      </p:graphicFrame>
      <p:sp>
        <p:nvSpPr>
          <p:cNvPr id="334" name="TextBox 14"/>
          <p:cNvSpPr/>
          <p:nvPr/>
        </p:nvSpPr>
        <p:spPr>
          <a:xfrm>
            <a:off x="6804000" y="189000"/>
            <a:ext cx="2017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Направления использ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5292720" y="1700280"/>
          <a:ext cx="3714840" cy="500040"/>
        </p:xfrm>
        <a:graphic>
          <a:graphicData uri="http://schemas.openxmlformats.org/drawingml/2006/table">
            <a:tbl>
              <a:tblPr/>
              <a:tblGrid>
                <a:gridCol w="3714840"/>
              </a:tblGrid>
              <a:tr h="50004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Осуществление части государственных полномочий, переданных органам МС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336" name="TextBox 17"/>
          <p:cNvSpPr/>
          <p:nvPr/>
        </p:nvSpPr>
        <p:spPr>
          <a:xfrm>
            <a:off x="5292720" y="2205000"/>
            <a:ext cx="3714840" cy="8240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Arial"/>
              </a:rPr>
              <a:t>Исполнение государственного полномочия на осуществление первичного воинского учета на территориях, где отсутствуют военные комиссариа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5292720" y="3068640"/>
          <a:ext cx="3714840" cy="528480"/>
        </p:xfrm>
        <a:graphic>
          <a:graphicData uri="http://schemas.openxmlformats.org/drawingml/2006/table">
            <a:tbl>
              <a:tblPr/>
              <a:tblGrid>
                <a:gridCol w="3714840"/>
              </a:tblGrid>
              <a:tr h="5284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Расходы связанные с обеспечением задач местного знач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338" name="TextBox 19"/>
          <p:cNvSpPr/>
          <p:nvPr/>
        </p:nvSpPr>
        <p:spPr>
          <a:xfrm>
            <a:off x="5286240" y="3643200"/>
            <a:ext cx="3714840" cy="2284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33"/>
                </a:solidFill>
                <a:latin typeface="Arial"/>
              </a:rPr>
              <a:t>Содержание органов местного самоуправл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33"/>
                </a:solidFill>
                <a:latin typeface="Arial"/>
              </a:rPr>
              <a:t>Благоустройство территории муниципального образо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33"/>
                </a:solidFill>
                <a:latin typeface="Arial"/>
              </a:rPr>
              <a:t>Расходы на исполнение полномочия по опубликованию муниципальных правовых актов, иной официальной информации в печатном С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33"/>
                </a:solidFill>
                <a:latin typeface="Arial"/>
              </a:rPr>
              <a:t>Обеспечение первичных мер пожарной безопас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33"/>
                </a:solidFill>
                <a:latin typeface="Arial"/>
              </a:rPr>
              <a:t>Обеспечение деятельности добровольных народных друж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179280" y="4923000"/>
          <a:ext cx="3600720" cy="1188720"/>
        </p:xfrm>
        <a:graphic>
          <a:graphicData uri="http://schemas.openxmlformats.org/drawingml/2006/table">
            <a:tbl>
              <a:tblPr/>
              <a:tblGrid>
                <a:gridCol w="3600720"/>
              </a:tblGrid>
              <a:tr h="1188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местные налоги и сборы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99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 </a:t>
                      </a:r>
                      <a:r>
                        <a:rPr b="0" i="1" lang="ru-RU" sz="12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налог на имущество физических лиц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99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 </a:t>
                      </a:r>
                      <a:r>
                        <a:rPr b="0" i="1" lang="ru-RU" sz="12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99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</a:tbl>
          </a:graphicData>
        </a:graphic>
      </p:graphicFrame>
      <p:sp>
        <p:nvSpPr>
          <p:cNvPr id="340" name="AutoShape 80"/>
          <p:cNvSpPr/>
          <p:nvPr/>
        </p:nvSpPr>
        <p:spPr>
          <a:xfrm rot="3021600">
            <a:off x="1547280" y="1267920"/>
            <a:ext cx="43200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82"/>
          <p:cNvSpPr/>
          <p:nvPr/>
        </p:nvSpPr>
        <p:spPr>
          <a:xfrm>
            <a:off x="1908000" y="836640"/>
            <a:ext cx="144000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До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86"/>
          <p:cNvSpPr/>
          <p:nvPr/>
        </p:nvSpPr>
        <p:spPr>
          <a:xfrm>
            <a:off x="6156360" y="907920"/>
            <a:ext cx="1440000" cy="50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Рас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87"/>
          <p:cNvSpPr/>
          <p:nvPr/>
        </p:nvSpPr>
        <p:spPr>
          <a:xfrm rot="18948600">
            <a:off x="3249720" y="1273320"/>
            <a:ext cx="358560" cy="477720"/>
          </a:xfrm>
          <a:prstGeom prst="downArrow">
            <a:avLst>
              <a:gd name="adj1" fmla="val 50000"/>
              <a:gd name="adj2" fmla="val 3330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179280" y="2565360"/>
          <a:ext cx="2952720" cy="2087640"/>
        </p:xfrm>
        <a:graphic>
          <a:graphicData uri="http://schemas.openxmlformats.org/drawingml/2006/table">
            <a:tbl>
              <a:tblPr/>
              <a:tblGrid>
                <a:gridCol w="2952720"/>
              </a:tblGrid>
              <a:tr h="2087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федеральные налоги и сборы, налоги, предусмотренные специальными налоговыми режимами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3399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налог на доходы физических лиц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3399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</a:tbl>
          </a:graphicData>
        </a:graphic>
      </p:graphicFrame>
      <p:sp>
        <p:nvSpPr>
          <p:cNvPr id="345" name="AutoShape 100"/>
          <p:cNvSpPr/>
          <p:nvPr/>
        </p:nvSpPr>
        <p:spPr>
          <a:xfrm>
            <a:off x="3924360" y="2276640"/>
            <a:ext cx="287280" cy="215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103"/>
          <p:cNvSpPr/>
          <p:nvPr/>
        </p:nvSpPr>
        <p:spPr>
          <a:xfrm>
            <a:off x="1042920" y="2276640"/>
            <a:ext cx="287280" cy="215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147"/>
          <p:cNvSpPr/>
          <p:nvPr/>
        </p:nvSpPr>
        <p:spPr>
          <a:xfrm>
            <a:off x="6804000" y="1484280"/>
            <a:ext cx="287280" cy="216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Box 3"/>
          <p:cNvSpPr/>
          <p:nvPr/>
        </p:nvSpPr>
        <p:spPr>
          <a:xfrm>
            <a:off x="2698920" y="476280"/>
            <a:ext cx="3744720" cy="9169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Доходы бюджета Плехов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сельсовет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тыс.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539640" y="1773360"/>
          <a:ext cx="7686720" cy="4383000"/>
        </p:xfrm>
        <a:graphic>
          <a:graphicData uri="http://schemas.openxmlformats.org/drawingml/2006/table">
            <a:tbl>
              <a:tblPr/>
              <a:tblGrid>
                <a:gridCol w="2664000"/>
                <a:gridCol w="1206360"/>
                <a:gridCol w="1225800"/>
                <a:gridCol w="1295280"/>
                <a:gridCol w="1295280"/>
              </a:tblGrid>
              <a:tr h="671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хо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1г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2г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3г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4г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62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логовые и неналоговые до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80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- налог на доходы физических ли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6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7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8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0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- налоги на имуще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32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632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632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632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- прочие налоговые дох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звозмездные поступ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77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77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3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7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 доход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70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47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34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Box 3"/>
          <p:cNvSpPr/>
          <p:nvPr/>
        </p:nvSpPr>
        <p:spPr>
          <a:xfrm>
            <a:off x="900000" y="189000"/>
            <a:ext cx="6985080" cy="642600"/>
          </a:xfrm>
          <a:prstGeom prst="rect">
            <a:avLst/>
          </a:prstGeom>
          <a:solidFill>
            <a:srgbClr val="f0f8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ходы бюджета Плеховского сельсовета Суджанского района Кур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539640" y="836640"/>
          <a:ext cx="8280360" cy="3548160"/>
        </p:xfrm>
        <a:graphic>
          <a:graphicData uri="http://schemas.openxmlformats.org/drawingml/2006/table">
            <a:tbl>
              <a:tblPr/>
              <a:tblGrid>
                <a:gridCol w="3675240"/>
                <a:gridCol w="1658880"/>
                <a:gridCol w="1441440"/>
                <a:gridCol w="1504800"/>
              </a:tblGrid>
              <a:tr h="452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75d1"/>
                    </a:solidFill>
                  </a:tcPr>
                </a:tc>
              </a:tr>
              <a:tr h="79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его расходов (тыс. руб.)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 т. 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8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0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cee"/>
                    </a:solidFill>
                  </a:tcPr>
                </a:tc>
              </a:tr>
              <a:tr h="644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щегосударственные вопро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a3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4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a3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8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a3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3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a3e0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циональная оборо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</a:tr>
              <a:tr h="366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циональная эконом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лагоустрой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</a:tr>
              <a:tr h="560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льтура, кинематограф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47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8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55471"/>
                </a:solidFill>
                <a:latin typeface="Arial"/>
              </a:rPr>
              <a:t>ПЕРЕЧЕНЬ </a:t>
            </a:r>
            <a:br>
              <a:rPr sz="2000"/>
            </a:br>
            <a:r>
              <a:rPr b="1" lang="ru-RU" sz="2000" spc="-1" strike="noStrike">
                <a:solidFill>
                  <a:srgbClr val="255471"/>
                </a:solidFill>
                <a:latin typeface="Arial"/>
              </a:rPr>
              <a:t>муниципальных программ муниципального образования «Плеховский сельсовет»</a:t>
            </a:r>
            <a:endParaRPr b="1" lang="en-US" sz="2000" spc="-1" strike="noStrike">
              <a:solidFill>
                <a:srgbClr val="255471"/>
              </a:solidFill>
              <a:latin typeface="Arial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457200" y="1600200"/>
          <a:ext cx="8229600" cy="5824440"/>
        </p:xfrm>
        <a:graphic>
          <a:graphicData uri="http://schemas.openxmlformats.org/drawingml/2006/table">
            <a:tbl>
              <a:tblPr/>
              <a:tblGrid>
                <a:gridCol w="571680"/>
                <a:gridCol w="4572000"/>
                <a:gridCol w="308592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Наименование муниципальных программ муниципального образова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«Плеховский сельсовет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Ответственный исполнит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униципальная программа «Развитие культуры» муниципального образования Плеховский сельсовет Суджанского района Курской обла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дминистрация Плеховского сельсов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униципальная программа «Управление муниципальным имуществом и земельными ресурсами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дминистрация Плеховского сельсов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униципальная программа «Развитие муниципальной службы муниципального образования «Плеховский сельсовет» Суджанского района Курской обла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дминистрация Плеховского сельсов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униципальная программа «Защита населения и территорий от чрезвычайных ситуаций, обеспечение пожарной безопасности и безопасности людей на водных объектах муниципального образования «Плеховский сельсовет» Суджанского района Курской обла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дминистрация Плеховского сельсов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униципальная программа «Обеспечение доступным и комфортным жильем и коммунальными услугами граждан в муниципального образования «Плеховский сельсовет» Суджанского района Курской област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дминистрация Плеховского сельсов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грамма комплексного развития транспортной инфраструктуры Плеховского сельсовета Суджанского района  Курской област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дминистрация Плеховского сельсов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униципальн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я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программ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Комплексные меры противодействия злоупотреблен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ркотиками и их незаконному обороту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дминистрация Плеховского сельсов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6439B-691B-4B6E-B962-5E711E8B10CF}" type="slidenum">
              <a:rPr b="0" lang="ru-RU" sz="1400" spc="-1" strike="noStrike">
                <a:solidFill>
                  <a:srgbClr val="2c6284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Прямоугольник с двумя скругленными соседними углами 2"/>
          <p:cNvGrpSpPr/>
          <p:nvPr/>
        </p:nvGrpSpPr>
        <p:grpSpPr>
          <a:xfrm>
            <a:off x="1200240" y="1158840"/>
            <a:ext cx="6669000" cy="4791240"/>
            <a:chOff x="1200240" y="1158840"/>
            <a:chExt cx="6669000" cy="4791240"/>
          </a:xfrm>
        </p:grpSpPr>
        <p:pic>
          <p:nvPicPr>
            <p:cNvPr id="356" name="Прямоугольник с двумя скругленными соседними углами 2" descr=""/>
            <p:cNvPicPr/>
            <p:nvPr/>
          </p:nvPicPr>
          <p:blipFill>
            <a:blip r:embed="rId1"/>
            <a:stretch/>
          </p:blipFill>
          <p:spPr>
            <a:xfrm>
              <a:off x="1200240" y="1158840"/>
              <a:ext cx="6669000" cy="479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1487520" y="1425600"/>
              <a:ext cx="6095880" cy="445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9a3130"/>
                  </a:solidFill>
                  <a:latin typeface="Constantia"/>
                </a:rPr>
                <a:t>«Бюджет для граждан»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9a3130"/>
                  </a:solidFill>
                  <a:latin typeface="Constantia"/>
                </a:rPr>
                <a:t>подготовлен </a:t>
              </a:r>
              <a:r>
                <a:rPr b="1" lang="ru-RU" sz="1400" spc="-1" strike="noStrike">
                  <a:solidFill>
                    <a:srgbClr val="9a3130"/>
                  </a:solidFill>
                  <a:latin typeface="Arial"/>
                </a:rPr>
                <a:t>отделом бухгалтерского учет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9a3130"/>
                  </a:solidFill>
                  <a:latin typeface="Constantia"/>
                </a:rPr>
                <a:t>администрации </a:t>
              </a:r>
              <a:r>
                <a:rPr b="1" lang="ru-RU" sz="1400" spc="-1" strike="noStrike">
                  <a:solidFill>
                    <a:srgbClr val="9a3130"/>
                  </a:solidFill>
                  <a:latin typeface="Arial"/>
                </a:rPr>
                <a:t>Плеховского сельсовета Суджанского района Курской облас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Constantia"/>
                </a:rPr>
                <a:t>Администрация </a:t>
              </a: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леховского сельсовета</a:t>
              </a:r>
              <a:r>
                <a:rPr b="1" lang="ru-RU" sz="1800" spc="-1" strike="noStrike">
                  <a:solidFill>
                    <a:srgbClr val="ff0000"/>
                  </a:solidFill>
                  <a:latin typeface="Constantia"/>
                </a:rPr>
                <a:t> находится по адресу:</a:t>
              </a: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ул. Новая, дом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С. Плехово Суджанский район Курская область</a:t>
              </a:r>
              <a:r>
                <a:rPr b="1" lang="ru-RU" sz="1800" spc="-1" strike="noStrike">
                  <a:solidFill>
                    <a:srgbClr val="ff0000"/>
                  </a:solidFill>
                  <a:latin typeface="Constantia"/>
                </a:rPr>
                <a:t> Телефон </a:t>
              </a:r>
              <a:r>
                <a:rPr b="1" lang="ru-RU" sz="16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8(47143)3-15-23</a:t>
              </a:r>
              <a:r>
                <a:rPr b="1" lang="ru-RU" sz="1800" spc="-1" strike="noStrike">
                  <a:solidFill>
                    <a:srgbClr val="ff0000"/>
                  </a:solidFill>
                  <a:latin typeface="Constantia"/>
                </a:rPr>
                <a:t> электронная почта </a:t>
              </a: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admplehovo@yandex.r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Constantia"/>
                </a:rPr>
                <a:t>Информацию о бюджете можно получить на официальном сайте Администрации </a:t>
              </a: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леховского сельсовета</a:t>
              </a:r>
              <a:r>
                <a:rPr b="1" lang="ru-RU" sz="1800" spc="-1" strike="noStrike">
                  <a:solidFill>
                    <a:srgbClr val="ff0000"/>
                  </a:solidFill>
                  <a:latin typeface="Constantia"/>
                </a:rPr>
                <a:t> по адресу: </a:t>
              </a:r>
              <a:r>
                <a:rPr b="1" lang="en-US" sz="1800" spc="-1" strike="noStrike">
                  <a:solidFill>
                    <a:srgbClr val="ff0000"/>
                  </a:solidFill>
                  <a:latin typeface="Constantia"/>
                </a:rPr>
                <a:t>http</a:t>
              </a:r>
              <a:r>
                <a:rPr b="1" lang="en-US" sz="1400" spc="-1" strike="noStrike">
                  <a:solidFill>
                    <a:srgbClr val="ff0000"/>
                  </a:solidFill>
                  <a:latin typeface="Constantia"/>
                </a:rPr>
                <a:t>://</a:t>
              </a: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леховский-сельсовет.р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Прямоугольник 3"/>
          <p:cNvGrpSpPr/>
          <p:nvPr/>
        </p:nvGrpSpPr>
        <p:grpSpPr>
          <a:xfrm>
            <a:off x="1920960" y="365040"/>
            <a:ext cx="5370480" cy="762120"/>
            <a:chOff x="1920960" y="365040"/>
            <a:chExt cx="5370480" cy="762120"/>
          </a:xfrm>
        </p:grpSpPr>
        <p:pic>
          <p:nvPicPr>
            <p:cNvPr id="359" name="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1920960" y="365040"/>
              <a:ext cx="537048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1979640" y="404640"/>
              <a:ext cx="525636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Контактная информац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748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5" name="TextBox 4" descr=""/>
          <p:cNvPicPr/>
          <p:nvPr/>
        </p:nvPicPr>
        <p:blipFill>
          <a:blip r:embed="rId1"/>
          <a:stretch/>
        </p:blipFill>
        <p:spPr>
          <a:xfrm>
            <a:off x="785880" y="628560"/>
            <a:ext cx="8132760" cy="852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Arial Narrow"/>
              </a:rPr>
              <a:t>ЧТО ТАКОЕ БЮДЖЕТ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Бюджет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(от старонормандского 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bougette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— кошелёк, сумка, мешок с деньгами) — схема доходов и расходов определённого объекта (семьи, бизнеса, организации, государства и т. д.), устанавливаемая на определённый период времен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TextBox 4" descr=""/>
          <p:cNvPicPr/>
          <p:nvPr/>
        </p:nvPicPr>
        <p:blipFill>
          <a:blip r:embed="rId1"/>
          <a:stretch/>
        </p:blipFill>
        <p:spPr>
          <a:xfrm>
            <a:off x="1889280" y="963720"/>
            <a:ext cx="4998960" cy="16952760"/>
          </a:xfrm>
          <a:prstGeom prst="rect">
            <a:avLst/>
          </a:prstGeom>
          <a:ln w="0">
            <a:noFill/>
          </a:ln>
        </p:spPr>
      </p:pic>
      <p:pic>
        <p:nvPicPr>
          <p:cNvPr id="289" name="TextBox 3" descr=""/>
          <p:cNvPicPr/>
          <p:nvPr/>
        </p:nvPicPr>
        <p:blipFill>
          <a:blip r:embed="rId2"/>
          <a:stretch/>
        </p:blipFill>
        <p:spPr>
          <a:xfrm>
            <a:off x="706320" y="122400"/>
            <a:ext cx="7688520" cy="74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805968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1" name="Схема 3" descr=""/>
          <p:cNvPicPr/>
          <p:nvPr/>
        </p:nvPicPr>
        <p:blipFill>
          <a:blip r:embed="rId1"/>
          <a:stretch/>
        </p:blipFill>
        <p:spPr>
          <a:xfrm>
            <a:off x="725400" y="1195560"/>
            <a:ext cx="8431200" cy="5394240"/>
          </a:xfrm>
          <a:prstGeom prst="rect">
            <a:avLst/>
          </a:prstGeom>
          <a:ln w="0">
            <a:noFill/>
          </a:ln>
        </p:spPr>
      </p:pic>
      <p:sp>
        <p:nvSpPr>
          <p:cNvPr id="292" name="TextBox 5"/>
          <p:cNvSpPr/>
          <p:nvPr/>
        </p:nvSpPr>
        <p:spPr>
          <a:xfrm>
            <a:off x="3203640" y="1557360"/>
            <a:ext cx="5832360" cy="1098360"/>
          </a:xfrm>
          <a:prstGeom prst="rect">
            <a:avLst/>
          </a:prstGeom>
          <a:solidFill>
            <a:srgbClr val="c8e3fb"/>
          </a:solidFill>
          <a:ln w="38160">
            <a:solidFill>
              <a:srgbClr val="0b5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Работа по составлению проекта бюджета сельского совета начинается за несколько месяцев до начала очередного финансового года. Администрация Плеховского сельского утверждает перечень мероприятий по разработке проекта бюджета, определяет ответственных исполнителей и сроки исполнения.</a:t>
            </a:r>
            <a:r>
              <a:rPr b="0" lang="ru-RU" sz="1100" spc="-1" strike="noStrike">
                <a:solidFill>
                  <a:srgbClr val="009dd9"/>
                </a:solidFill>
                <a:latin typeface="Arial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Непосредственное составление проекта бюджета осуществляет финансовый отдел Администрации Плеховского сельсовета Суджанского района Курской области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7"/>
          <p:cNvSpPr/>
          <p:nvPr/>
        </p:nvSpPr>
        <p:spPr>
          <a:xfrm>
            <a:off x="3203640" y="3068640"/>
            <a:ext cx="5813280" cy="1600560"/>
          </a:xfrm>
          <a:prstGeom prst="rect">
            <a:avLst/>
          </a:prstGeom>
          <a:solidFill>
            <a:srgbClr val="ffe8d1"/>
          </a:solidFill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формированный проект бюджета сельского совета Глава вносит на рассмотрение Собрания депутатов не позднее 15 ноября текущего год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о проекту бюджета проводятся публичные слушания. Для этого проект бюджета размещается на официальном сайте сельского совета в сети «Интернет». В слушаниях участвуют граждане, проживающие на территории муниципального образования  и обладающие активным избирательным правом, а также представители организаций, осуществляющих деятельность на территории сельского совета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обрание депутатов рассматривает проект решения о бюджете в одном чтении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8"/>
          <p:cNvSpPr/>
          <p:nvPr/>
        </p:nvSpPr>
        <p:spPr>
          <a:xfrm>
            <a:off x="3203640" y="5300640"/>
            <a:ext cx="5832360" cy="1174320"/>
          </a:xfrm>
          <a:prstGeom prst="rect">
            <a:avLst/>
          </a:prstGeom>
          <a:solidFill>
            <a:srgbClr val="edf3db"/>
          </a:solidFill>
          <a:ln w="381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роект бюджета сельского совета утверждается Собранием депутатов Плеховского сельсовета в форме Решения о бюджете на очередной финансовый год и плановый период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ринятое Собранием депутатов Решение о бюджете подлежит обнародованию путем опубликования его в средствах массовой информации и размещения на официальном сайте сельского совета в сети «Интернет»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TextBox 6" descr=""/>
          <p:cNvPicPr/>
          <p:nvPr/>
        </p:nvPicPr>
        <p:blipFill>
          <a:blip r:embed="rId2"/>
          <a:stretch/>
        </p:blipFill>
        <p:spPr>
          <a:xfrm>
            <a:off x="3035160" y="195120"/>
            <a:ext cx="5475600" cy="8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11280" y="455400"/>
            <a:ext cx="8532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7" name="Picture 19" descr="wide blue arrow with fade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2816280" y="1557360"/>
            <a:ext cx="3429000" cy="38088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20"/>
          <p:cNvSpPr/>
          <p:nvPr/>
        </p:nvSpPr>
        <p:spPr>
          <a:xfrm>
            <a:off x="826920" y="1484280"/>
            <a:ext cx="6697800" cy="1313640"/>
          </a:xfrm>
          <a:prstGeom prst="rect">
            <a:avLst/>
          </a:prstGeom>
          <a:gradFill rotWithShape="0">
            <a:gsLst>
              <a:gs pos="0">
                <a:srgbClr val="d3d3ae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ание Президента Российской Федерации Федеральному Собранию Российской Федерации, определяющее бюджетную политику (требования к бюджетной политике) в Российской Феде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24"/>
          <p:cNvSpPr/>
          <p:nvPr/>
        </p:nvSpPr>
        <p:spPr>
          <a:xfrm>
            <a:off x="755640" y="3284640"/>
            <a:ext cx="7548480" cy="368280"/>
          </a:xfrm>
          <a:prstGeom prst="rect">
            <a:avLst/>
          </a:prstGeom>
          <a:gradFill rotWithShape="0">
            <a:gsLst>
              <a:gs pos="0">
                <a:srgbClr val="d3d3ae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гноз социально-экономического развития террит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24"/>
          <p:cNvSpPr/>
          <p:nvPr/>
        </p:nvSpPr>
        <p:spPr>
          <a:xfrm>
            <a:off x="755640" y="4292640"/>
            <a:ext cx="7548480" cy="705960"/>
          </a:xfrm>
          <a:prstGeom prst="rect">
            <a:avLst/>
          </a:prstGeom>
          <a:gradFill rotWithShape="0">
            <a:gsLst>
              <a:gs pos="0">
                <a:srgbClr val="d3d3ae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е направления бюджет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налоговой поли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24"/>
          <p:cNvSpPr/>
          <p:nvPr/>
        </p:nvSpPr>
        <p:spPr>
          <a:xfrm>
            <a:off x="684360" y="5300640"/>
            <a:ext cx="7583400" cy="705960"/>
          </a:xfrm>
          <a:prstGeom prst="rect">
            <a:avLst/>
          </a:prstGeom>
          <a:gradFill rotWithShape="0">
            <a:gsLst>
              <a:gs pos="0">
                <a:srgbClr val="d3d3ae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униципальные программы террит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TextBox 4" descr=""/>
          <p:cNvPicPr/>
          <p:nvPr/>
        </p:nvPicPr>
        <p:blipFill>
          <a:blip r:embed="rId2"/>
          <a:stretch/>
        </p:blipFill>
        <p:spPr>
          <a:xfrm>
            <a:off x="706320" y="0"/>
            <a:ext cx="8364600" cy="11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AutoShape 16"/>
          <p:cNvSpPr/>
          <p:nvPr/>
        </p:nvSpPr>
        <p:spPr>
          <a:xfrm>
            <a:off x="539640" y="1557360"/>
            <a:ext cx="8425080" cy="3311640"/>
          </a:xfrm>
          <a:prstGeom prst="horizontalScroll">
            <a:avLst>
              <a:gd name="adj" fmla="val 18791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юджет сельского совета– это ежегод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тверждаемый Решением Собрания депу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льского совета свод доходов и расходов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чередной финансовый год и планов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иод (2 год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3"/>
          <p:cNvSpPr/>
          <p:nvPr/>
        </p:nvSpPr>
        <p:spPr>
          <a:xfrm>
            <a:off x="1258920" y="476280"/>
            <a:ext cx="727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87026"/>
                </a:solidFill>
                <a:latin typeface="Arial"/>
              </a:rPr>
              <a:t>БЮДЖ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87026"/>
                </a:solidFill>
                <a:latin typeface="Arial"/>
              </a:rPr>
              <a:t>Плеховского сельсовета Суджанского района Курской обла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716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Arial"/>
              </a:rPr>
              <a:t>Принципы формирования бюджета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684360" y="1916280"/>
          <a:ext cx="8351640" cy="4390920"/>
        </p:xfrm>
        <a:graphic>
          <a:graphicData uri="http://schemas.openxmlformats.org/drawingml/2006/table">
            <a:tbl>
              <a:tblPr/>
              <a:tblGrid>
                <a:gridCol w="8351640"/>
              </a:tblGrid>
              <a:tr h="923760">
                <a:tc>
                  <a:txBody>
                    <a:bodyPr lIns="81360" rIns="81360" tIns="43560" bIns="4356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1003320"/>
                          <a:tab algn="l" pos="2006640"/>
                          <a:tab algn="l" pos="3009960"/>
                          <a:tab algn="l" pos="4013280"/>
                          <a:tab algn="l" pos="5016600"/>
                          <a:tab algn="l" pos="6019920"/>
                          <a:tab algn="l" pos="7023240"/>
                          <a:tab algn="l" pos="8026560"/>
                          <a:tab algn="l" pos="9029880"/>
                          <a:tab algn="l" pos="1003284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еспечение сбалансированности и устойчивости бюджетной систем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360" marR="81360">
                    <a:lnL w="5760">
                      <a:solidFill>
                        <a:srgbClr val="ffffee"/>
                      </a:solidFill>
                    </a:lnL>
                    <a:lnR w="5760">
                      <a:solidFill>
                        <a:srgbClr val="ffffee"/>
                      </a:solidFill>
                    </a:lnR>
                    <a:lnT w="5760">
                      <a:solidFill>
                        <a:srgbClr val="ffffee"/>
                      </a:solidFill>
                    </a:lnT>
                    <a:lnB w="5760">
                      <a:solidFill>
                        <a:srgbClr val="ffffee"/>
                      </a:solidFill>
                    </a:lnB>
                    <a:gradFill rotWithShape="0">
                      <a:gsLst>
                        <a:gs pos="0">
                          <a:srgbClr val="e0e0c2"/>
                        </a:gs>
                        <a:gs pos="50000">
                          <a:srgbClr val="ffffff"/>
                        </a:gs>
                        <a:gs pos="100000">
                          <a:srgbClr val="e0e0c2"/>
                        </a:gs>
                      </a:gsLst>
                      <a:lin ang="5400000"/>
                    </a:gradFill>
                  </a:tcPr>
                </a:tc>
              </a:tr>
              <a:tr h="1089720">
                <a:tc>
                  <a:txBody>
                    <a:bodyPr lIns="81360" rIns="81360" tIns="43560" bIns="4356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1003320"/>
                          <a:tab algn="l" pos="2006640"/>
                          <a:tab algn="l" pos="3009960"/>
                          <a:tab algn="l" pos="4013280"/>
                          <a:tab algn="l" pos="5016600"/>
                          <a:tab algn="l" pos="6019920"/>
                          <a:tab algn="l" pos="7023240"/>
                          <a:tab algn="l" pos="8026560"/>
                          <a:tab algn="l" pos="9029880"/>
                          <a:tab algn="l" pos="1003284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ышение результативности бюджетных расходов, достижение установленных показателе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360" marR="81360">
                    <a:lnL w="5760">
                      <a:solidFill>
                        <a:srgbClr val="ffffee"/>
                      </a:solidFill>
                    </a:lnL>
                    <a:lnR w="5760">
                      <a:solidFill>
                        <a:srgbClr val="ffffee"/>
                      </a:solidFill>
                    </a:lnR>
                    <a:lnT w="5760">
                      <a:solidFill>
                        <a:srgbClr val="ffffee"/>
                      </a:solidFill>
                    </a:lnT>
                    <a:lnB w="5760">
                      <a:solidFill>
                        <a:srgbClr val="ffffee"/>
                      </a:solidFill>
                    </a:lnB>
                    <a:gradFill rotWithShape="0">
                      <a:gsLst>
                        <a:gs pos="0">
                          <a:srgbClr val="e0e0c2"/>
                        </a:gs>
                        <a:gs pos="50000">
                          <a:srgbClr val="ffffff"/>
                        </a:gs>
                        <a:gs pos="100000">
                          <a:srgbClr val="e0e0c2"/>
                        </a:gs>
                      </a:gsLst>
                      <a:lin ang="5400000"/>
                    </a:gradFill>
                  </a:tcPr>
                </a:tc>
              </a:tr>
              <a:tr h="2377800">
                <a:tc>
                  <a:txBody>
                    <a:bodyPr lIns="81360" rIns="81360" tIns="43560" bIns="4356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1003320"/>
                          <a:tab algn="l" pos="2006640"/>
                          <a:tab algn="l" pos="3009960"/>
                          <a:tab algn="l" pos="4013280"/>
                          <a:tab algn="l" pos="5016600"/>
                          <a:tab algn="l" pos="6019920"/>
                          <a:tab algn="l" pos="7023240"/>
                          <a:tab algn="l" pos="8026560"/>
                          <a:tab algn="l" pos="9029880"/>
                          <a:tab algn="l" pos="1003284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еспечение прозрачности и открытости бюджетного процесса для гражда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1003320"/>
                          <a:tab algn="l" pos="2006640"/>
                          <a:tab algn="l" pos="3009960"/>
                          <a:tab algn="l" pos="4013280"/>
                          <a:tab algn="l" pos="5016600"/>
                          <a:tab algn="l" pos="6019920"/>
                          <a:tab algn="l" pos="7023240"/>
                          <a:tab algn="l" pos="8026560"/>
                          <a:tab algn="l" pos="9029880"/>
                          <a:tab algn="l" pos="1003284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1003320"/>
                          <a:tab algn="l" pos="2006640"/>
                          <a:tab algn="l" pos="3009960"/>
                          <a:tab algn="l" pos="4013280"/>
                          <a:tab algn="l" pos="5016600"/>
                          <a:tab algn="l" pos="6019920"/>
                          <a:tab algn="l" pos="7023240"/>
                          <a:tab algn="l" pos="8026560"/>
                          <a:tab algn="l" pos="9029880"/>
                          <a:tab algn="l" pos="1003284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ышение эффективности использован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1003320"/>
                          <a:tab algn="l" pos="2006640"/>
                          <a:tab algn="l" pos="3009960"/>
                          <a:tab algn="l" pos="4013280"/>
                          <a:tab algn="l" pos="5016600"/>
                          <a:tab algn="l" pos="6019920"/>
                          <a:tab algn="l" pos="7023240"/>
                          <a:tab algn="l" pos="8026560"/>
                          <a:tab algn="l" pos="9029880"/>
                          <a:tab algn="l" pos="1003284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ниципальной собственности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1003320"/>
                          <a:tab algn="l" pos="2006640"/>
                          <a:tab algn="l" pos="3009960"/>
                          <a:tab algn="l" pos="4013280"/>
                          <a:tab algn="l" pos="5016600"/>
                          <a:tab algn="l" pos="6019920"/>
                          <a:tab algn="l" pos="7023240"/>
                          <a:tab algn="l" pos="8026560"/>
                          <a:tab algn="l" pos="9029880"/>
                          <a:tab algn="l" pos="1003284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360" marR="81360">
                    <a:lnL w="5760">
                      <a:solidFill>
                        <a:srgbClr val="ffffee"/>
                      </a:solidFill>
                    </a:lnL>
                    <a:lnR w="5760">
                      <a:solidFill>
                        <a:srgbClr val="ffffee"/>
                      </a:solidFill>
                    </a:lnR>
                    <a:lnT w="5760">
                      <a:solidFill>
                        <a:srgbClr val="ffffee"/>
                      </a:solidFill>
                    </a:lnT>
                    <a:lnB w="5760">
                      <a:solidFill>
                        <a:srgbClr val="ffffee"/>
                      </a:solidFill>
                    </a:lnB>
                    <a:gradFill rotWithShape="0">
                      <a:gsLst>
                        <a:gs pos="0">
                          <a:srgbClr val="e0e0c2"/>
                        </a:gs>
                        <a:gs pos="50000">
                          <a:srgbClr val="ffffff"/>
                        </a:gs>
                        <a:gs pos="100000">
                          <a:srgbClr val="e0e0c2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96472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4617b"/>
                </a:solidFill>
                <a:latin typeface="Arial"/>
              </a:rPr>
              <a:t>Плеховский сельсовет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Скругленный прямоугольник 3"/>
          <p:cNvSpPr/>
          <p:nvPr/>
        </p:nvSpPr>
        <p:spPr>
          <a:xfrm>
            <a:off x="684360" y="981000"/>
            <a:ext cx="806436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1c6f7"/>
              </a:gs>
              <a:gs pos="100000">
                <a:srgbClr val="c8e3fb"/>
              </a:gs>
            </a:gsLst>
            <a:lin ang="5400000"/>
          </a:gra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b1608"/>
                </a:solidFill>
                <a:latin typeface="Constantia"/>
              </a:rPr>
              <a:t>Расходы бюджета сопоставляются с доход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Скругленный прямоугольник 4"/>
          <p:cNvSpPr/>
          <p:nvPr/>
        </p:nvSpPr>
        <p:spPr>
          <a:xfrm>
            <a:off x="684360" y="2079720"/>
            <a:ext cx="1584000" cy="43164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onstantia"/>
              </a:rPr>
              <a:t>До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Скругленный прямоугольник 5"/>
          <p:cNvSpPr/>
          <p:nvPr/>
        </p:nvSpPr>
        <p:spPr>
          <a:xfrm>
            <a:off x="4435560" y="1857240"/>
            <a:ext cx="1727280" cy="90180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Дефиц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и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Профиц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Скругленный прямоугольник 6"/>
          <p:cNvSpPr/>
          <p:nvPr/>
        </p:nvSpPr>
        <p:spPr>
          <a:xfrm>
            <a:off x="2482920" y="2089080"/>
            <a:ext cx="1584360" cy="43200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onstantia"/>
              </a:rPr>
              <a:t>Рас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8"/>
          <p:cNvSpPr/>
          <p:nvPr/>
        </p:nvSpPr>
        <p:spPr>
          <a:xfrm>
            <a:off x="5003640" y="2033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9"/>
          <p:cNvSpPr/>
          <p:nvPr/>
        </p:nvSpPr>
        <p:spPr>
          <a:xfrm>
            <a:off x="4094280" y="2124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10"/>
          <p:cNvSpPr/>
          <p:nvPr/>
        </p:nvSpPr>
        <p:spPr>
          <a:xfrm>
            <a:off x="2268360" y="21114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Прямоугольник 13"/>
          <p:cNvSpPr/>
          <p:nvPr/>
        </p:nvSpPr>
        <p:spPr>
          <a:xfrm>
            <a:off x="6667560" y="1682640"/>
            <a:ext cx="2081160" cy="6127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Расходы </a:t>
            </a:r>
            <a:r>
              <a:rPr b="0" lang="ru-RU" sz="1800" spc="-1" strike="noStrike">
                <a:solidFill>
                  <a:srgbClr val="006600"/>
                </a:solidFill>
                <a:latin typeface="Constantia"/>
              </a:rPr>
              <a:t>больше</a:t>
            </a: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 дох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Прямоугольник 14"/>
          <p:cNvSpPr/>
          <p:nvPr/>
        </p:nvSpPr>
        <p:spPr>
          <a:xfrm>
            <a:off x="6667560" y="2425680"/>
            <a:ext cx="2081160" cy="6969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Расходы </a:t>
            </a:r>
            <a:r>
              <a:rPr b="0" lang="ru-RU" sz="1800" spc="-1" strike="noStrike">
                <a:solidFill>
                  <a:srgbClr val="006600"/>
                </a:solidFill>
                <a:latin typeface="Constantia"/>
              </a:rPr>
              <a:t>меньше</a:t>
            </a: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 дох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Группа 19"/>
          <p:cNvGrpSpPr/>
          <p:nvPr/>
        </p:nvGrpSpPr>
        <p:grpSpPr>
          <a:xfrm>
            <a:off x="725400" y="2903400"/>
            <a:ext cx="2592360" cy="2288520"/>
            <a:chOff x="725400" y="2903400"/>
            <a:chExt cx="2592360" cy="2288520"/>
          </a:xfrm>
        </p:grpSpPr>
        <p:sp>
          <p:nvSpPr>
            <p:cNvPr id="318" name="TextBox 17"/>
            <p:cNvSpPr/>
            <p:nvPr/>
          </p:nvSpPr>
          <p:spPr>
            <a:xfrm>
              <a:off x="725400" y="2903400"/>
              <a:ext cx="25923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022 го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оходы         Расходы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347,6        2381,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ефици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-33,4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Левая фигурная скобка 18"/>
            <p:cNvSpPr/>
            <p:nvPr/>
          </p:nvSpPr>
          <p:spPr>
            <a:xfrm rot="16200000">
              <a:off x="1815840" y="3136320"/>
              <a:ext cx="382320" cy="1871640"/>
            </a:xfrm>
            <a:custGeom>
              <a:avLst/>
              <a:gdLst>
                <a:gd name="textAreaLeft" fmla="*/ 244440 w 382320"/>
                <a:gd name="textAreaRight" fmla="*/ 382680 w 382320"/>
                <a:gd name="textAreaTop" fmla="*/ 9720 h 1871640"/>
                <a:gd name="textAreaBottom" fmla="*/ 1861920 h 187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84"/>
                    <a:pt x="10800" y="368"/>
                  </a:cubicBezTo>
                  <a:lnTo>
                    <a:pt x="10800" y="10432"/>
                  </a:lnTo>
                  <a:cubicBezTo>
                    <a:pt x="10800" y="10616"/>
                    <a:pt x="5400" y="10800"/>
                    <a:pt x="0" y="10800"/>
                  </a:cubicBezTo>
                  <a:cubicBezTo>
                    <a:pt x="5400" y="10800"/>
                    <a:pt x="10800" y="10984"/>
                    <a:pt x="10800" y="11168"/>
                  </a:cubicBezTo>
                  <a:lnTo>
                    <a:pt x="10800" y="21232"/>
                  </a:lnTo>
                  <a:cubicBezTo>
                    <a:pt x="10800" y="21416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b16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Группа 20"/>
          <p:cNvGrpSpPr/>
          <p:nvPr/>
        </p:nvGrpSpPr>
        <p:grpSpPr>
          <a:xfrm>
            <a:off x="3419640" y="3141720"/>
            <a:ext cx="2592360" cy="2288520"/>
            <a:chOff x="3419640" y="3141720"/>
            <a:chExt cx="2592360" cy="2288520"/>
          </a:xfrm>
        </p:grpSpPr>
        <p:sp>
          <p:nvSpPr>
            <p:cNvPr id="321" name="TextBox 21"/>
            <p:cNvSpPr/>
            <p:nvPr/>
          </p:nvSpPr>
          <p:spPr>
            <a:xfrm>
              <a:off x="3419640" y="3141720"/>
              <a:ext cx="25923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023го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оходы         Расход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134,0       1100,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(профицит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3,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Левая фигурная скобка 22"/>
            <p:cNvSpPr/>
            <p:nvPr/>
          </p:nvSpPr>
          <p:spPr>
            <a:xfrm rot="16200000">
              <a:off x="4510080" y="3374640"/>
              <a:ext cx="382320" cy="1871640"/>
            </a:xfrm>
            <a:custGeom>
              <a:avLst/>
              <a:gdLst>
                <a:gd name="textAreaLeft" fmla="*/ 244440 w 382320"/>
                <a:gd name="textAreaRight" fmla="*/ 382680 w 382320"/>
                <a:gd name="textAreaTop" fmla="*/ 9720 h 1871640"/>
                <a:gd name="textAreaBottom" fmla="*/ 1861920 h 187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84"/>
                    <a:pt x="10800" y="368"/>
                  </a:cubicBezTo>
                  <a:lnTo>
                    <a:pt x="10800" y="10432"/>
                  </a:lnTo>
                  <a:cubicBezTo>
                    <a:pt x="10800" y="10616"/>
                    <a:pt x="5400" y="10800"/>
                    <a:pt x="0" y="10800"/>
                  </a:cubicBezTo>
                  <a:cubicBezTo>
                    <a:pt x="5400" y="10800"/>
                    <a:pt x="10800" y="10984"/>
                    <a:pt x="10800" y="11168"/>
                  </a:cubicBezTo>
                  <a:lnTo>
                    <a:pt x="10800" y="21232"/>
                  </a:lnTo>
                  <a:cubicBezTo>
                    <a:pt x="10800" y="21416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1c1c0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Группа 23"/>
          <p:cNvGrpSpPr/>
          <p:nvPr/>
        </p:nvGrpSpPr>
        <p:grpSpPr>
          <a:xfrm>
            <a:off x="6300720" y="3429000"/>
            <a:ext cx="2592360" cy="2288520"/>
            <a:chOff x="6300720" y="3429000"/>
            <a:chExt cx="2592360" cy="2288520"/>
          </a:xfrm>
        </p:grpSpPr>
        <p:sp>
          <p:nvSpPr>
            <p:cNvPr id="324" name="TextBox 24"/>
            <p:cNvSpPr/>
            <p:nvPr/>
          </p:nvSpPr>
          <p:spPr>
            <a:xfrm>
              <a:off x="6300720" y="3429000"/>
              <a:ext cx="25923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024 го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оходы         Расход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110,0          1110,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ефицит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(профицит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0,0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Левая фигурная скобка 25"/>
            <p:cNvSpPr/>
            <p:nvPr/>
          </p:nvSpPr>
          <p:spPr>
            <a:xfrm rot="16200000">
              <a:off x="7391160" y="3661920"/>
              <a:ext cx="382320" cy="1871640"/>
            </a:xfrm>
            <a:custGeom>
              <a:avLst/>
              <a:gdLst>
                <a:gd name="textAreaLeft" fmla="*/ 244440 w 382320"/>
                <a:gd name="textAreaRight" fmla="*/ 382680 w 382320"/>
                <a:gd name="textAreaTop" fmla="*/ 9720 h 1871640"/>
                <a:gd name="textAreaBottom" fmla="*/ 1861920 h 187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84"/>
                    <a:pt x="10800" y="368"/>
                  </a:cubicBezTo>
                  <a:lnTo>
                    <a:pt x="10800" y="10432"/>
                  </a:lnTo>
                  <a:cubicBezTo>
                    <a:pt x="10800" y="10616"/>
                    <a:pt x="5400" y="10800"/>
                    <a:pt x="0" y="10800"/>
                  </a:cubicBezTo>
                  <a:cubicBezTo>
                    <a:pt x="5400" y="10800"/>
                    <a:pt x="10800" y="10984"/>
                    <a:pt x="10800" y="11168"/>
                  </a:cubicBezTo>
                  <a:lnTo>
                    <a:pt x="10800" y="21232"/>
                  </a:lnTo>
                  <a:cubicBezTo>
                    <a:pt x="10800" y="21416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1c1c0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TextBox 1"/>
          <p:cNvSpPr/>
          <p:nvPr/>
        </p:nvSpPr>
        <p:spPr>
          <a:xfrm>
            <a:off x="725400" y="1682640"/>
            <a:ext cx="11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ыс. руб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Двойная стрелка влево/вправо 2"/>
          <p:cNvSpPr/>
          <p:nvPr/>
        </p:nvSpPr>
        <p:spPr>
          <a:xfrm>
            <a:off x="5873760" y="1914480"/>
            <a:ext cx="938160" cy="238320"/>
          </a:xfrm>
          <a:prstGeom prst="leftRightArrow">
            <a:avLst>
              <a:gd name="adj1" fmla="val 50000"/>
              <a:gd name="adj2" fmla="val 49954"/>
            </a:avLst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5400000"/>
          </a:gra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Двойная стрелка влево/вправо 27"/>
          <p:cNvSpPr/>
          <p:nvPr/>
        </p:nvSpPr>
        <p:spPr>
          <a:xfrm>
            <a:off x="5913360" y="2521080"/>
            <a:ext cx="858960" cy="210960"/>
          </a:xfrm>
          <a:prstGeom prst="leftRightArrow">
            <a:avLst>
              <a:gd name="adj1" fmla="val 50000"/>
              <a:gd name="adj2" fmla="val 50047"/>
            </a:avLst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5400000"/>
          </a:gra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13:13:38Z</dcterms:created>
  <dc:creator>trofimova_ey</dc:creator>
  <dc:description/>
  <dc:language>en-US</dc:language>
  <cp:lastModifiedBy>Администратор</cp:lastModifiedBy>
  <cp:lastPrinted>2013-10-03T09:30:52Z</cp:lastPrinted>
  <dcterms:modified xsi:type="dcterms:W3CDTF">2022-02-17T13:25:46Z</dcterms:modified>
  <cp:revision>220</cp:revision>
  <dc:subject/>
  <dc:title>Слайд 1</dc:title>
</cp:coreProperties>
</file>