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8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5.png" ContentType="image/png"/>
  <Override PartName="/ppt/media/image3.png" ContentType="image/png"/>
  <Override PartName="/ppt/media/image4.jpeg" ContentType="image/jpeg"/>
  <Override PartName="/ppt/media/image2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BB208E-5160-4FE1-9940-D17C47AD9B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C854A9-40E1-41A6-8BFA-16E4ADE4DB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208361-170E-41B5-A9EA-B91A45EE0D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085C5A-EFE1-4591-99A5-7C28FB9BBF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848C96-56E3-4B79-9D61-EEC4B8ACD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2557D8-585A-42B7-A724-821D3D5E3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BA249F-FEEC-46F4-8E54-8BE86D408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40683D-5B02-48E4-AADE-3ECF1356E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307DE8-92EF-4CE5-8797-F88863BC0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1F6FD3-348C-4B33-A4BB-9FAF49CEA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34989F-CB48-408A-BD38-F50AE9ACE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E5D029-152E-476A-9C3E-DEAAD48D87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4D9B70-9BAC-4C03-830B-5E8233033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423BB9-FD64-4AE0-A8AB-B8C12A59B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338751-E097-48A9-99CF-EBB468AEB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9DC26B-322B-4A2E-B74D-9BCD5EAD4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402637-A222-47AA-98D5-B840CED5A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EC6161-4C30-4F89-ADF5-B593A15FDA9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01C7C8B-ED15-4D1B-9DEF-E270CC437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FC40073-2047-4459-ABC9-D3EEEB541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A40F2B2-5D93-4334-9B81-C0601A370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6C2F51-31F9-4420-A149-141CDA6B7D01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680CB68-B299-4BA0-947E-91AD39D5E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63E5243-8650-4CFB-8DB4-19D0C1DF5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9FA1C28-2CE9-41E5-9B92-39714D61A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37B2300-8DAB-4DA7-95DA-E27B6B35F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366690A-E0F9-4952-91CE-92B132689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9F46F69-F721-415C-A700-BD9E230C9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14E4E38-8E6B-41DF-952A-D0C6B6A1B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2F8B06F-B9C1-4F51-A494-046130960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A4CA6AD-5CB8-435A-AF3D-E0BA2B82B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AD68431-819F-4D87-957A-7A3250829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FC582C-B91B-4400-B84B-4C986400EEA5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F266C46-3EC4-4609-B9AE-7022FCC03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7D56B4A-5693-4AB3-A763-5173106D6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A67F643-65D1-4B4A-A8E0-DFA96E6BA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567E6CE-CEFA-4A4B-9E19-C49665AB6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C62CA39-0494-4B13-BF00-9A3C8D4B7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E4FA91E-4C99-40C2-A6A5-2AAD70266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3E735BC-AB93-44E2-BFC0-0C3E4C968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0681CB5-E9E7-4304-8978-94C05F2BE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1FD91D4-5F6A-4DBE-8FC0-234D2E0BE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B167057-B726-46EB-93B6-197E1E468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2E9BA4-D72A-4766-B902-FD34CF6B5BCE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51C889A-1045-44A8-9A60-63F8CBD55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FF3F999-40F7-47D9-B101-604C479D0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7703099-E652-4793-B0C3-250F67215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84D1D40-99EF-48E1-9EE5-4F3E182C8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588DBC9-911B-4763-B188-F428AA7D1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0A11AB0-6199-4C96-9071-255E0C42A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C759DA9-9B38-47EA-B787-F21865710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74EFEE8-5053-426F-AF7A-C60662DC3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16987B5-693F-4CA7-9243-DE6DB7591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88435C2-B554-4EA4-AF70-E5107430D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FFC47D-1AFA-42F3-9C44-64913D32B00F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E4CBA10-A239-4243-883B-6315431CE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775818C-8C59-4EBC-8F96-691028003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450FE35-6760-444C-A51F-D4949D0F1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0BA55C-0514-4A10-B6A6-C03054D61C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1E9BC7-17F1-4459-83F3-5A856EADEB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7aa8bc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-36360" y="-27000"/>
            <a:ext cx="8353440" cy="6869160"/>
          </a:xfrm>
          <a:prstGeom prst="pie">
            <a:avLst/>
          </a:prstGeom>
          <a:gradFill rotWithShape="0">
            <a:gsLst>
              <a:gs pos="0">
                <a:srgbClr val="bdd3dd"/>
              </a:gs>
              <a:gs pos="50000">
                <a:srgbClr val="e4edf1"/>
              </a:gs>
              <a:gs pos="100000">
                <a:srgbClr val="bdd3dd"/>
              </a:gs>
            </a:gsLst>
            <a:lin ang="5400000"/>
          </a:gradFill>
          <a:ln w="0">
            <a:noFill/>
          </a:ln>
          <a:effectLst>
            <a:outerShdw dist="77353" dir="562478" blurRad="0" rotWithShape="0">
              <a:srgbClr val="8ea8a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-36360" y="4019400"/>
            <a:ext cx="9189720" cy="2951280"/>
          </a:xfrm>
          <a:prstGeom prst="pie">
            <a:avLst/>
          </a:prstGeom>
          <a:solidFill>
            <a:srgbClr val="a6c4d2"/>
          </a:solidFill>
          <a:ln w="0">
            <a:noFill/>
          </a:ln>
          <a:effectLst>
            <a:outerShdw dist="107932" dir="13500000" blurRad="0" rotWithShape="0">
              <a:srgbClr val="8ea8a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Freeform 5"/>
          <p:cNvSpPr/>
          <p:nvPr/>
        </p:nvSpPr>
        <p:spPr>
          <a:xfrm>
            <a:off x="-47520" y="-33480"/>
            <a:ext cx="9190080" cy="1230480"/>
          </a:xfrm>
          <a:prstGeom prst="pie">
            <a:avLst/>
          </a:prstGeom>
          <a:solidFill>
            <a:srgbClr val="a6c4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55471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2c628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B4293-5959-4C32-B0F5-0FF01DAFA8D9}" type="slidenum">
              <a:rPr b="0" lang="ru-RU" sz="1400" spc="-1" strike="noStrike">
                <a:solidFill>
                  <a:srgbClr val="2c628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3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4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A497E-B4F4-4A67-AE8C-5DF35EAF47C8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1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2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5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10" descr="731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09120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7aa8bc">
              <a:alpha val="3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Freeform 4"/>
          <p:cNvSpPr/>
          <p:nvPr/>
        </p:nvSpPr>
        <p:spPr>
          <a:xfrm>
            <a:off x="-12600" y="4010040"/>
            <a:ext cx="9182160" cy="2892240"/>
          </a:xfrm>
          <a:prstGeom prst="pie">
            <a:avLst/>
          </a:prstGeom>
          <a:gradFill rotWithShape="0">
            <a:gsLst>
              <a:gs pos="0">
                <a:srgbClr val="6197af">
                  <a:alpha val="58039"/>
                </a:srgbClr>
              </a:gs>
              <a:gs pos="100000">
                <a:srgbClr val="1a708e"/>
              </a:gs>
            </a:gsLst>
            <a:lin ang="0"/>
          </a:gradFill>
          <a:ln w="0">
            <a:noFill/>
          </a:ln>
          <a:effectLst>
            <a:outerShdw dist="107932" dir="13500000" blurRad="0" rotWithShape="0">
              <a:srgbClr val="c2d7e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Freeform 5"/>
          <p:cNvSpPr/>
          <p:nvPr/>
        </p:nvSpPr>
        <p:spPr>
          <a:xfrm>
            <a:off x="-25560" y="-39600"/>
            <a:ext cx="9185400" cy="2181240"/>
          </a:xfrm>
          <a:prstGeom prst="pie">
            <a:avLst/>
          </a:prstGeom>
          <a:gradFill rotWithShape="0">
            <a:gsLst>
              <a:gs pos="0">
                <a:srgbClr val="1a708e"/>
              </a:gs>
              <a:gs pos="100000">
                <a:srgbClr val="6197af">
                  <a:alpha val="58039"/>
                </a:srgbClr>
              </a:gs>
            </a:gsLst>
            <a:lin ang="0"/>
          </a:gradFill>
          <a:ln w="0">
            <a:noFill/>
          </a:ln>
          <a:effectLst>
            <a:outerShdw dist="107932" dir="2700000" blurRad="0" rotWithShape="0">
              <a:srgbClr val="c2d7e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8" descr="Карта области4"/>
          <p:cNvPicPr/>
          <p:nvPr/>
        </p:nvPicPr>
        <p:blipFill>
          <a:blip r:embed="rId3"/>
          <a:stretch/>
        </p:blipFill>
        <p:spPr>
          <a:xfrm>
            <a:off x="2195640" y="189000"/>
            <a:ext cx="4564080" cy="649764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55471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39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40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1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2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43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4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dt" idx="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ftr" idx="6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sldNum" idx="7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1B07E-FD55-4767-9C8A-43428A0C926C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89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90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1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2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93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4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 type="dt" idx="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 type="ftr" idx="9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 type="sldNum" idx="10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AB98F-AA57-4127-A2A8-B6752166EF42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 type="dt" idx="1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 type="ftr" idx="1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 type="sldNum" idx="13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16BF1-B342-4A77-92BD-00E82CC87487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dbf5f9"/>
                </a:solidFill>
                <a:latin typeface="Calibri"/>
              </a:rPr>
              <a:t>Бюджет для граждан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282" name="Рисунок 5" descr=""/>
          <p:cNvPicPr/>
          <p:nvPr/>
        </p:nvPicPr>
        <p:blipFill>
          <a:blip r:embed="rId1"/>
          <a:stretch/>
        </p:blipFill>
        <p:spPr>
          <a:xfrm>
            <a:off x="1403280" y="1916280"/>
            <a:ext cx="6384960" cy="4389120"/>
          </a:xfrm>
          <a:prstGeom prst="rect">
            <a:avLst/>
          </a:prstGeom>
          <a:ln w="0">
            <a:noFill/>
          </a:ln>
        </p:spPr>
      </p:pic>
      <p:sp>
        <p:nvSpPr>
          <p:cNvPr id="283" name="Rectangle 47"/>
          <p:cNvSpPr/>
          <p:nvPr/>
        </p:nvSpPr>
        <p:spPr>
          <a:xfrm rot="21109200">
            <a:off x="2915640" y="2409840"/>
            <a:ext cx="187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f6228"/>
                </a:solidFill>
                <a:latin typeface="Arial"/>
              </a:rPr>
              <a:t>Бюджета для граждан на 2022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TextBox 3"/>
          <p:cNvSpPr/>
          <p:nvPr/>
        </p:nvSpPr>
        <p:spPr>
          <a:xfrm>
            <a:off x="179280" y="189000"/>
            <a:ext cx="1860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Arial"/>
              </a:rPr>
              <a:t>Источники формировани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Прямоугольник 4"/>
          <p:cNvSpPr/>
          <p:nvPr/>
        </p:nvSpPr>
        <p:spPr>
          <a:xfrm>
            <a:off x="3492360" y="189000"/>
            <a:ext cx="2664000" cy="504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Arial"/>
              </a:rPr>
              <a:t>БЮДЖЕТ СЕЛЬСКОГО сове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1" name=""/>
          <p:cNvGraphicFramePr/>
          <p:nvPr/>
        </p:nvGraphicFramePr>
        <p:xfrm>
          <a:off x="250920" y="1773360"/>
          <a:ext cx="1944720" cy="457200"/>
        </p:xfrm>
        <a:graphic>
          <a:graphicData uri="http://schemas.openxmlformats.org/drawingml/2006/table">
            <a:tbl>
              <a:tblPr/>
              <a:tblGrid>
                <a:gridCol w="1944720"/>
              </a:tblGrid>
              <a:tr h="4572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Налоговые и неналоговые доходы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32" name=""/>
          <p:cNvGraphicFramePr/>
          <p:nvPr/>
        </p:nvGraphicFramePr>
        <p:xfrm>
          <a:off x="3348000" y="2565360"/>
          <a:ext cx="1665360" cy="2103480"/>
        </p:xfrm>
        <a:graphic>
          <a:graphicData uri="http://schemas.openxmlformats.org/drawingml/2006/table">
            <a:tbl>
              <a:tblPr/>
              <a:tblGrid>
                <a:gridCol w="1665360"/>
              </a:tblGrid>
              <a:tr h="2103480">
                <a:tc>
                  <a:txBody>
                    <a:bodyPr anchor="t">
                      <a:noAutofit/>
                    </a:bodyPr>
                    <a:p>
                      <a:pPr>
                        <a:buClr>
                          <a:srgbClr val="333399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Дотации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333399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субсидии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333399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Субвенции на исполнение государственных полномочий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333399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Иные межбюджетные трансферт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333399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33" name=""/>
          <p:cNvGraphicFramePr/>
          <p:nvPr/>
        </p:nvGraphicFramePr>
        <p:xfrm>
          <a:off x="2843280" y="1773360"/>
          <a:ext cx="1657440" cy="457200"/>
        </p:xfrm>
        <a:graphic>
          <a:graphicData uri="http://schemas.openxmlformats.org/drawingml/2006/table">
            <a:tbl>
              <a:tblPr/>
              <a:tblGrid>
                <a:gridCol w="1657440"/>
              </a:tblGrid>
              <a:tr h="45900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Безвозмездные поступл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</a:tr>
            </a:tbl>
          </a:graphicData>
        </a:graphic>
      </p:graphicFrame>
      <p:sp>
        <p:nvSpPr>
          <p:cNvPr id="334" name="TextBox 14"/>
          <p:cNvSpPr/>
          <p:nvPr/>
        </p:nvSpPr>
        <p:spPr>
          <a:xfrm>
            <a:off x="6804000" y="189000"/>
            <a:ext cx="2017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Arial"/>
              </a:rPr>
              <a:t>Направления использова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5" name=""/>
          <p:cNvGraphicFramePr/>
          <p:nvPr/>
        </p:nvGraphicFramePr>
        <p:xfrm>
          <a:off x="5292720" y="1700280"/>
          <a:ext cx="3714840" cy="500040"/>
        </p:xfrm>
        <a:graphic>
          <a:graphicData uri="http://schemas.openxmlformats.org/drawingml/2006/table">
            <a:tbl>
              <a:tblPr/>
              <a:tblGrid>
                <a:gridCol w="3714840"/>
              </a:tblGrid>
              <a:tr h="50004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800080"/>
                          </a:solidFill>
                          <a:latin typeface="Arial"/>
                        </a:rPr>
                        <a:t>Осуществление части государственных полномочий, переданных органам МС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</a:tbl>
          </a:graphicData>
        </a:graphic>
      </p:graphicFrame>
      <p:sp>
        <p:nvSpPr>
          <p:cNvPr id="336" name="TextBox 17"/>
          <p:cNvSpPr/>
          <p:nvPr/>
        </p:nvSpPr>
        <p:spPr>
          <a:xfrm>
            <a:off x="5292720" y="2205000"/>
            <a:ext cx="3714840" cy="8240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Arial"/>
              </a:rPr>
              <a:t>Исполнение государственного полномочия на осуществление первичного воинского учета на территориях, где отсутствуют военные комиссариа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7" name=""/>
          <p:cNvGraphicFramePr/>
          <p:nvPr/>
        </p:nvGraphicFramePr>
        <p:xfrm>
          <a:off x="5292720" y="3068640"/>
          <a:ext cx="3714840" cy="528480"/>
        </p:xfrm>
        <a:graphic>
          <a:graphicData uri="http://schemas.openxmlformats.org/drawingml/2006/table">
            <a:tbl>
              <a:tblPr/>
              <a:tblGrid>
                <a:gridCol w="3714840"/>
              </a:tblGrid>
              <a:tr h="52848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Расходы связанные с обеспечением задач местного знач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</a:tbl>
          </a:graphicData>
        </a:graphic>
      </p:graphicFrame>
      <p:sp>
        <p:nvSpPr>
          <p:cNvPr id="338" name="TextBox 19"/>
          <p:cNvSpPr/>
          <p:nvPr/>
        </p:nvSpPr>
        <p:spPr>
          <a:xfrm>
            <a:off x="5286240" y="3643200"/>
            <a:ext cx="3714840" cy="22842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buClr>
                <a:srgbClr val="99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6633"/>
                </a:solidFill>
                <a:latin typeface="Arial"/>
              </a:rPr>
              <a:t>Содержание органов местного самоуправле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buClr>
                <a:srgbClr val="99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6633"/>
                </a:solidFill>
                <a:latin typeface="Arial"/>
              </a:rPr>
              <a:t>Благоустройство территории муниципального образова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buClr>
                <a:srgbClr val="99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6633"/>
                </a:solidFill>
                <a:latin typeface="Arial"/>
              </a:rPr>
              <a:t>Расходы на исполнение полномочия по опубликованию муниципальных правовых актов, иной официальной информации в печатном СМ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buClr>
                <a:srgbClr val="99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6633"/>
                </a:solidFill>
                <a:latin typeface="Arial"/>
              </a:rPr>
              <a:t>Обеспечение первичных мер пожарной безопас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buClr>
                <a:srgbClr val="99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6633"/>
                </a:solidFill>
                <a:latin typeface="Arial"/>
              </a:rPr>
              <a:t>Обеспечение деятельности добровольных народных дружи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9" name=""/>
          <p:cNvGraphicFramePr/>
          <p:nvPr/>
        </p:nvGraphicFramePr>
        <p:xfrm>
          <a:off x="179280" y="4923000"/>
          <a:ext cx="3600720" cy="1188720"/>
        </p:xfrm>
        <a:graphic>
          <a:graphicData uri="http://schemas.openxmlformats.org/drawingml/2006/table">
            <a:tbl>
              <a:tblPr/>
              <a:tblGrid>
                <a:gridCol w="3600720"/>
              </a:tblGrid>
              <a:tr h="1188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местные налоги и сборы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9999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 </a:t>
                      </a:r>
                      <a:r>
                        <a:rPr b="0" i="1" lang="ru-RU" sz="12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налог на имущество физических лиц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9999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 </a:t>
                      </a:r>
                      <a:r>
                        <a:rPr b="0" i="1" lang="ru-RU" sz="12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земельный нало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9999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</a:tr>
            </a:tbl>
          </a:graphicData>
        </a:graphic>
      </p:graphicFrame>
      <p:sp>
        <p:nvSpPr>
          <p:cNvPr id="340" name="AutoShape 80"/>
          <p:cNvSpPr/>
          <p:nvPr/>
        </p:nvSpPr>
        <p:spPr>
          <a:xfrm rot="3021600">
            <a:off x="1547280" y="1267920"/>
            <a:ext cx="432000" cy="432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Oval 82"/>
          <p:cNvSpPr/>
          <p:nvPr/>
        </p:nvSpPr>
        <p:spPr>
          <a:xfrm>
            <a:off x="1908000" y="836640"/>
            <a:ext cx="1440000" cy="50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Дохо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Oval 86"/>
          <p:cNvSpPr/>
          <p:nvPr/>
        </p:nvSpPr>
        <p:spPr>
          <a:xfrm>
            <a:off x="6156360" y="907920"/>
            <a:ext cx="1440000" cy="505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Расхо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AutoShape 87"/>
          <p:cNvSpPr/>
          <p:nvPr/>
        </p:nvSpPr>
        <p:spPr>
          <a:xfrm rot="18948600">
            <a:off x="3249720" y="1273320"/>
            <a:ext cx="358560" cy="477720"/>
          </a:xfrm>
          <a:prstGeom prst="downArrow">
            <a:avLst>
              <a:gd name="adj1" fmla="val 50000"/>
              <a:gd name="adj2" fmla="val 3330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4" name=""/>
          <p:cNvGraphicFramePr/>
          <p:nvPr/>
        </p:nvGraphicFramePr>
        <p:xfrm>
          <a:off x="179280" y="2565360"/>
          <a:ext cx="2952720" cy="2087640"/>
        </p:xfrm>
        <a:graphic>
          <a:graphicData uri="http://schemas.openxmlformats.org/drawingml/2006/table">
            <a:tbl>
              <a:tblPr/>
              <a:tblGrid>
                <a:gridCol w="2952720"/>
              </a:tblGrid>
              <a:tr h="20876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федеральные налоги и сборы, налоги, предусмотренные специальными налоговыми режимами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333399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налог на доходы физических лиц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333399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</a:tr>
            </a:tbl>
          </a:graphicData>
        </a:graphic>
      </p:graphicFrame>
      <p:sp>
        <p:nvSpPr>
          <p:cNvPr id="345" name="AutoShape 100"/>
          <p:cNvSpPr/>
          <p:nvPr/>
        </p:nvSpPr>
        <p:spPr>
          <a:xfrm>
            <a:off x="3924360" y="2276640"/>
            <a:ext cx="287280" cy="215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AutoShape 103"/>
          <p:cNvSpPr/>
          <p:nvPr/>
        </p:nvSpPr>
        <p:spPr>
          <a:xfrm>
            <a:off x="1042920" y="2276640"/>
            <a:ext cx="287280" cy="215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AutoShape 147"/>
          <p:cNvSpPr/>
          <p:nvPr/>
        </p:nvSpPr>
        <p:spPr>
          <a:xfrm>
            <a:off x="6804000" y="1484280"/>
            <a:ext cx="287280" cy="216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TextBox 3"/>
          <p:cNvSpPr/>
          <p:nvPr/>
        </p:nvSpPr>
        <p:spPr>
          <a:xfrm>
            <a:off x="2698920" y="476280"/>
            <a:ext cx="3744720" cy="9169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Доходы бюджета Плеховск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сельсовет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тыс.руб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539640" y="1773360"/>
          <a:ext cx="7686720" cy="4383000"/>
        </p:xfrm>
        <a:graphic>
          <a:graphicData uri="http://schemas.openxmlformats.org/drawingml/2006/table">
            <a:tbl>
              <a:tblPr/>
              <a:tblGrid>
                <a:gridCol w="2664000"/>
                <a:gridCol w="1206360"/>
                <a:gridCol w="1225800"/>
                <a:gridCol w="1295280"/>
                <a:gridCol w="1295280"/>
              </a:tblGrid>
              <a:tr h="671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ход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1г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2г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3г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4г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6620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логовые и неналоговые доход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2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9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0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2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808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том числе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- налог на доходы физических лиц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60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37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38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40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- налоги на имуществ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532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632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632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632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6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- прочие налоговые доход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звозмездные поступл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77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77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3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7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его доход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70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47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34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TextBox 3"/>
          <p:cNvSpPr/>
          <p:nvPr/>
        </p:nvSpPr>
        <p:spPr>
          <a:xfrm>
            <a:off x="900000" y="189000"/>
            <a:ext cx="6985080" cy="642600"/>
          </a:xfrm>
          <a:prstGeom prst="rect">
            <a:avLst/>
          </a:prstGeom>
          <a:solidFill>
            <a:srgbClr val="f0f8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сходы бюджета Плеховского сельсовета Суджанского района Курской обл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1" name=""/>
          <p:cNvGraphicFramePr/>
          <p:nvPr/>
        </p:nvGraphicFramePr>
        <p:xfrm>
          <a:off x="539640" y="836640"/>
          <a:ext cx="8280360" cy="3548160"/>
        </p:xfrm>
        <a:graphic>
          <a:graphicData uri="http://schemas.openxmlformats.org/drawingml/2006/table">
            <a:tbl>
              <a:tblPr/>
              <a:tblGrid>
                <a:gridCol w="3675240"/>
                <a:gridCol w="1658880"/>
                <a:gridCol w="1441440"/>
                <a:gridCol w="1504800"/>
              </a:tblGrid>
              <a:tr h="452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сход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575d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575d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575d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575d1"/>
                    </a:solidFill>
                  </a:tcPr>
                </a:tc>
              </a:tr>
              <a:tr h="7916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сего расходов (тыс. руб.)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 т. ч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c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81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c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00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c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1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cee"/>
                    </a:solidFill>
                  </a:tcPr>
                </a:tc>
              </a:tr>
              <a:tr h="6444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бщегосударственные вопрос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3a3e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94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3a3e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8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3a3e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3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3a3e0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ациональная оборо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d1f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2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d1f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5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d1f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d1f0"/>
                    </a:solidFill>
                  </a:tcPr>
                </a:tc>
              </a:tr>
              <a:tr h="3664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ациональная эконом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d1f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1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d1f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d1f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d1f0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Благоустройств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d1f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5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d1f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d1f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d1f0"/>
                    </a:solidFill>
                  </a:tcPr>
                </a:tc>
              </a:tr>
              <a:tr h="5608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ультура, кинематограф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47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2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8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55471"/>
                </a:solidFill>
                <a:latin typeface="Arial"/>
              </a:rPr>
              <a:t>ПЕРЕЧЕНЬ </a:t>
            </a:r>
            <a:br>
              <a:rPr sz="2000"/>
            </a:br>
            <a:r>
              <a:rPr b="1" lang="ru-RU" sz="2000" spc="-1" strike="noStrike">
                <a:solidFill>
                  <a:srgbClr val="255471"/>
                </a:solidFill>
                <a:latin typeface="Arial"/>
              </a:rPr>
              <a:t>муниципальных программ муниципального образования «Плеховский сельсовет»</a:t>
            </a:r>
            <a:endParaRPr b="1" lang="en-US" sz="2000" spc="-1" strike="noStrike">
              <a:solidFill>
                <a:srgbClr val="255471"/>
              </a:solidFill>
              <a:latin typeface="Arial"/>
            </a:endParaRPr>
          </a:p>
        </p:txBody>
      </p:sp>
      <p:graphicFrame>
        <p:nvGraphicFramePr>
          <p:cNvPr id="353" name=""/>
          <p:cNvGraphicFramePr/>
          <p:nvPr/>
        </p:nvGraphicFramePr>
        <p:xfrm>
          <a:off x="457200" y="1600200"/>
          <a:ext cx="8229600" cy="5824440"/>
        </p:xfrm>
        <a:graphic>
          <a:graphicData uri="http://schemas.openxmlformats.org/drawingml/2006/table">
            <a:tbl>
              <a:tblPr/>
              <a:tblGrid>
                <a:gridCol w="571680"/>
                <a:gridCol w="4572000"/>
                <a:gridCol w="3085920"/>
              </a:tblGrid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Наименование муниципальных программ муниципального образован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«Плеховский сельсовет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Ответственный исполнител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униципальная программа «Развитие культуры» муниципального образования Плеховский сельсовет Суджанского района Курской обла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дминистрация Плеховского сельсове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униципальная программа «Управление муниципальным имуществом и земельными ресурсами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дминистрация Плеховского сельсове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униципальная программа «Развитие муниципальной службы муниципального образования «Плеховский сельсовет» Суджанского района Курской обла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дминистрация Плеховского сельсове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18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униципальная программа «Защита населения и территорий от чрезвычайных ситуаций, обеспечение пожарной безопасности и безопасности людей на водных объектах муниципального образования «Плеховский сельсовет» Суджанского района Курской обла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дминистрация Плеховского сельсове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униципальная программа «Обеспечение доступным и комфортным жильем и коммунальными услугами граждан в муниципального образования «Плеховский сельсовет» Суджанского района Курской области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дминистрация Плеховского сельсове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ограмма комплексного развития транспортной инфраструктуры Плеховского сельсовета Суджанского района  Курской области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дминистрация Плеховского сельсове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униципальн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я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программы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«Комплексные меры противодействия злоупотреблени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ркотиками и их незаконному обороту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дминистрация Плеховского сельсове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Номер слайда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D326F-D3CA-4853-98D7-DDF7E73C2F6F}" type="slidenum">
              <a:rPr b="0" lang="ru-RU" sz="1400" spc="-1" strike="noStrike">
                <a:solidFill>
                  <a:srgbClr val="2c6284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5" name="Прямоугольник с двумя скругленными соседними углами 2"/>
          <p:cNvGrpSpPr/>
          <p:nvPr/>
        </p:nvGrpSpPr>
        <p:grpSpPr>
          <a:xfrm>
            <a:off x="1200240" y="1158840"/>
            <a:ext cx="6669000" cy="4791240"/>
            <a:chOff x="1200240" y="1158840"/>
            <a:chExt cx="6669000" cy="4791240"/>
          </a:xfrm>
        </p:grpSpPr>
        <p:pic>
          <p:nvPicPr>
            <p:cNvPr id="356" name="Прямоугольник с двумя скругленными соседними углами 2" descr=""/>
            <p:cNvPicPr/>
            <p:nvPr/>
          </p:nvPicPr>
          <p:blipFill>
            <a:blip r:embed="rId1"/>
            <a:stretch/>
          </p:blipFill>
          <p:spPr>
            <a:xfrm>
              <a:off x="1200240" y="1158840"/>
              <a:ext cx="6669000" cy="479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7" name=""/>
            <p:cNvSpPr/>
            <p:nvPr/>
          </p:nvSpPr>
          <p:spPr>
            <a:xfrm>
              <a:off x="1487520" y="1425600"/>
              <a:ext cx="6095880" cy="445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9a3130"/>
                  </a:solidFill>
                  <a:latin typeface="Constantia"/>
                </a:rPr>
                <a:t>«Бюджет для граждан»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9a3130"/>
                  </a:solidFill>
                  <a:latin typeface="Constantia"/>
                </a:rPr>
                <a:t>подготовлен </a:t>
              </a:r>
              <a:r>
                <a:rPr b="1" lang="ru-RU" sz="1400" spc="-1" strike="noStrike">
                  <a:solidFill>
                    <a:srgbClr val="9a3130"/>
                  </a:solidFill>
                  <a:latin typeface="Arial"/>
                </a:rPr>
                <a:t>отделом бухгалтерского учет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9a3130"/>
                  </a:solidFill>
                  <a:latin typeface="Constantia"/>
                </a:rPr>
                <a:t>администрации </a:t>
              </a:r>
              <a:r>
                <a:rPr b="1" lang="ru-RU" sz="1400" spc="-1" strike="noStrike">
                  <a:solidFill>
                    <a:srgbClr val="9a3130"/>
                  </a:solidFill>
                  <a:latin typeface="Arial"/>
                </a:rPr>
                <a:t>Плеховского сельсовета Суджанского района Курской област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Constantia"/>
                </a:rPr>
                <a:t>Администрация </a:t>
              </a:r>
              <a:r>
                <a:rPr b="1" lang="ru-RU" sz="1400" spc="-1" strike="noStrike">
                  <a:solidFill>
                    <a:srgbClr val="ff0000"/>
                  </a:solidFill>
                  <a:latin typeface="Arial"/>
                </a:rPr>
                <a:t>Плеховского сельсовета</a:t>
              </a:r>
              <a:r>
                <a:rPr b="1" lang="ru-RU" sz="1800" spc="-1" strike="noStrike">
                  <a:solidFill>
                    <a:srgbClr val="ff0000"/>
                  </a:solidFill>
                  <a:latin typeface="Constantia"/>
                </a:rPr>
                <a:t> находится по адресу:</a:t>
              </a: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1" lang="ru-RU" sz="1400" spc="-1" strike="noStrike">
                  <a:solidFill>
                    <a:srgbClr val="ff0000"/>
                  </a:solidFill>
                  <a:latin typeface="Arial"/>
                </a:rPr>
                <a:t>ул. Новая, дом 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Arial"/>
                </a:rPr>
                <a:t>С. Плехово Суджанский район Курская область</a:t>
              </a:r>
              <a:r>
                <a:rPr b="1" lang="ru-RU" sz="1800" spc="-1" strike="noStrike">
                  <a:solidFill>
                    <a:srgbClr val="ff0000"/>
                  </a:solidFill>
                  <a:latin typeface="Constantia"/>
                </a:rPr>
                <a:t> Телефон </a:t>
              </a:r>
              <a:r>
                <a:rPr b="1" lang="ru-RU" sz="16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8(47143)3-15-23</a:t>
              </a:r>
              <a:r>
                <a:rPr b="1" lang="ru-RU" sz="1800" spc="-1" strike="noStrike">
                  <a:solidFill>
                    <a:srgbClr val="ff0000"/>
                  </a:solidFill>
                  <a:latin typeface="Constantia"/>
                </a:rPr>
                <a:t> электронная почта </a:t>
              </a: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admplehovo@yandex.ru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Constantia"/>
                </a:rPr>
                <a:t>Информацию о бюджете можно получить на официальном сайте Администрации </a:t>
              </a:r>
              <a:r>
                <a:rPr b="1" lang="ru-RU" sz="1400" spc="-1" strike="noStrike">
                  <a:solidFill>
                    <a:srgbClr val="ff0000"/>
                  </a:solidFill>
                  <a:latin typeface="Arial"/>
                </a:rPr>
                <a:t>Плеховского сельсовета</a:t>
              </a:r>
              <a:r>
                <a:rPr b="1" lang="ru-RU" sz="1800" spc="-1" strike="noStrike">
                  <a:solidFill>
                    <a:srgbClr val="ff0000"/>
                  </a:solidFill>
                  <a:latin typeface="Constantia"/>
                </a:rPr>
                <a:t> по адресу: </a:t>
              </a:r>
              <a:r>
                <a:rPr b="1" lang="en-US" sz="1800" spc="-1" strike="noStrike">
                  <a:solidFill>
                    <a:srgbClr val="ff0000"/>
                  </a:solidFill>
                  <a:latin typeface="Constantia"/>
                </a:rPr>
                <a:t>http</a:t>
              </a:r>
              <a:r>
                <a:rPr b="1" lang="en-US" sz="1400" spc="-1" strike="noStrike">
                  <a:solidFill>
                    <a:srgbClr val="ff0000"/>
                  </a:solidFill>
                  <a:latin typeface="Constantia"/>
                </a:rPr>
                <a:t>://</a:t>
              </a:r>
              <a:r>
                <a:rPr b="1" lang="ru-RU" sz="1400" spc="-1" strike="noStrike">
                  <a:solidFill>
                    <a:srgbClr val="ff0000"/>
                  </a:solidFill>
                  <a:latin typeface="Arial"/>
                </a:rPr>
                <a:t>плеховский-сельсовет.рф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8" name="Прямоугольник 3"/>
          <p:cNvGrpSpPr/>
          <p:nvPr/>
        </p:nvGrpSpPr>
        <p:grpSpPr>
          <a:xfrm>
            <a:off x="1920960" y="365040"/>
            <a:ext cx="5370480" cy="762120"/>
            <a:chOff x="1920960" y="365040"/>
            <a:chExt cx="5370480" cy="762120"/>
          </a:xfrm>
        </p:grpSpPr>
        <p:pic>
          <p:nvPicPr>
            <p:cNvPr id="359" name="Прямоугольник 3" descr=""/>
            <p:cNvPicPr/>
            <p:nvPr/>
          </p:nvPicPr>
          <p:blipFill>
            <a:blip r:embed="rId2"/>
            <a:stretch/>
          </p:blipFill>
          <p:spPr>
            <a:xfrm>
              <a:off x="1920960" y="365040"/>
              <a:ext cx="5370480" cy="76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0" name=""/>
            <p:cNvSpPr/>
            <p:nvPr/>
          </p:nvSpPr>
          <p:spPr>
            <a:xfrm>
              <a:off x="1979640" y="404640"/>
              <a:ext cx="5256360" cy="64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Контактная информаци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-43200"/>
            <a:ext cx="8229600" cy="748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6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85" name="TextBox 4" descr=""/>
          <p:cNvPicPr/>
          <p:nvPr/>
        </p:nvPicPr>
        <p:blipFill>
          <a:blip r:embed="rId1"/>
          <a:stretch/>
        </p:blipFill>
        <p:spPr>
          <a:xfrm>
            <a:off x="785880" y="628560"/>
            <a:ext cx="8132760" cy="852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Arial Narrow"/>
              </a:rPr>
              <a:t>ЧТО ТАКОЕ БЮДЖЕТ?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Бюджет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 (от старонормандского </a:t>
            </a: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bougette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 — кошелёк, сумка, мешок с деньгами) — схема доходов и расходов определённого объекта (семьи, бизнеса, организации, государства и т. д.), устанавливаемая на определённый период времени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TextBox 4" descr=""/>
          <p:cNvPicPr/>
          <p:nvPr/>
        </p:nvPicPr>
        <p:blipFill>
          <a:blip r:embed="rId1"/>
          <a:stretch/>
        </p:blipFill>
        <p:spPr>
          <a:xfrm>
            <a:off x="1889280" y="963720"/>
            <a:ext cx="4998960" cy="16952760"/>
          </a:xfrm>
          <a:prstGeom prst="rect">
            <a:avLst/>
          </a:prstGeom>
          <a:ln w="0">
            <a:noFill/>
          </a:ln>
        </p:spPr>
      </p:pic>
      <p:pic>
        <p:nvPicPr>
          <p:cNvPr id="289" name="TextBox 3" descr=""/>
          <p:cNvPicPr/>
          <p:nvPr/>
        </p:nvPicPr>
        <p:blipFill>
          <a:blip r:embed="rId2"/>
          <a:stretch/>
        </p:blipFill>
        <p:spPr>
          <a:xfrm>
            <a:off x="706320" y="122400"/>
            <a:ext cx="7688520" cy="74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8059680" cy="1008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500"/>
            </a:b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91" name="Схема 3" descr=""/>
          <p:cNvPicPr/>
          <p:nvPr/>
        </p:nvPicPr>
        <p:blipFill>
          <a:blip r:embed="rId1"/>
          <a:stretch/>
        </p:blipFill>
        <p:spPr>
          <a:xfrm>
            <a:off x="725400" y="1195560"/>
            <a:ext cx="8431200" cy="5394240"/>
          </a:xfrm>
          <a:prstGeom prst="rect">
            <a:avLst/>
          </a:prstGeom>
          <a:ln w="0">
            <a:noFill/>
          </a:ln>
        </p:spPr>
      </p:pic>
      <p:sp>
        <p:nvSpPr>
          <p:cNvPr id="292" name="TextBox 5"/>
          <p:cNvSpPr/>
          <p:nvPr/>
        </p:nvSpPr>
        <p:spPr>
          <a:xfrm>
            <a:off x="3203640" y="1557360"/>
            <a:ext cx="5832360" cy="1098360"/>
          </a:xfrm>
          <a:prstGeom prst="rect">
            <a:avLst/>
          </a:prstGeom>
          <a:solidFill>
            <a:srgbClr val="c8e3fb"/>
          </a:solidFill>
          <a:ln w="38160">
            <a:solidFill>
              <a:srgbClr val="0b53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Работа по составлению проекта бюджета сельского совета начинается за несколько месяцев до начала очередного финансового года. Администрация Плеховского сельского утверждает перечень мероприятий по разработке проекта бюджета, определяет ответственных исполнителей и сроки исполнения.</a:t>
            </a:r>
            <a:r>
              <a:rPr b="0" lang="ru-RU" sz="1100" spc="-1" strike="noStrike">
                <a:solidFill>
                  <a:srgbClr val="009dd9"/>
                </a:solidFill>
                <a:latin typeface="Arial"/>
              </a:rPr>
              <a:t> 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Непосредственное составление проекта бюджета осуществляет финансовый отдел Администрации Плеховского сельсовета Суджанского района Курской области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Box 7"/>
          <p:cNvSpPr/>
          <p:nvPr/>
        </p:nvSpPr>
        <p:spPr>
          <a:xfrm>
            <a:off x="3203640" y="3068640"/>
            <a:ext cx="5813280" cy="1600560"/>
          </a:xfrm>
          <a:prstGeom prst="rect">
            <a:avLst/>
          </a:prstGeom>
          <a:solidFill>
            <a:srgbClr val="ffe8d1"/>
          </a:solidFill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Сформированный проект бюджета сельского совета Глава вносит на рассмотрение Собрания депутатов не позднее 15 ноября текущего года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По проекту бюджета проводятся публичные слушания. Для этого проект бюджета размещается на официальном сайте сельского совета в сети «Интернет». В слушаниях участвуют граждане, проживающие на территории муниципального образования  и обладающие активным избирательным правом, а также представители организаций, осуществляющих деятельность на территории сельского совета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Собрание депутатов рассматривает проект решения о бюджете в одном чтении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Box 8"/>
          <p:cNvSpPr/>
          <p:nvPr/>
        </p:nvSpPr>
        <p:spPr>
          <a:xfrm>
            <a:off x="3203640" y="5300640"/>
            <a:ext cx="5832360" cy="1174320"/>
          </a:xfrm>
          <a:prstGeom prst="rect">
            <a:avLst/>
          </a:prstGeom>
          <a:solidFill>
            <a:srgbClr val="edf3db"/>
          </a:solidFill>
          <a:ln w="38160">
            <a:solidFill>
              <a:srgbClr val="a5c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Проект бюджета сельского совета утверждается Собранием депутатов Плеховского сельсовета в форме Решения о бюджете на очередной финансовый год и плановый период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Принятое Собранием депутатов Решение о бюджете подлежит обнародованию путем опубликования его в средствах массовой информации и размещения на официальном сайте сельского совета в сети «Интернет»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TextBox 6" descr=""/>
          <p:cNvPicPr/>
          <p:nvPr/>
        </p:nvPicPr>
        <p:blipFill>
          <a:blip r:embed="rId2"/>
          <a:stretch/>
        </p:blipFill>
        <p:spPr>
          <a:xfrm>
            <a:off x="3035160" y="195120"/>
            <a:ext cx="5475600" cy="8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11280" y="455400"/>
            <a:ext cx="8532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endParaRPr b="0" lang="en-US" sz="2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97" name="Picture 19" descr="wide blue arrow with fade"/>
          <p:cNvPicPr/>
          <p:nvPr/>
        </p:nvPicPr>
        <p:blipFill>
          <a:blip r:embed="rId1">
            <a:lum contrast="-6000"/>
          </a:blip>
          <a:stretch/>
        </p:blipFill>
        <p:spPr>
          <a:xfrm>
            <a:off x="2816280" y="1557360"/>
            <a:ext cx="3429000" cy="380880"/>
          </a:xfrm>
          <a:prstGeom prst="rect">
            <a:avLst/>
          </a:prstGeom>
          <a:ln w="0">
            <a:noFill/>
          </a:ln>
        </p:spPr>
      </p:pic>
      <p:sp>
        <p:nvSpPr>
          <p:cNvPr id="298" name="Rectangle 20"/>
          <p:cNvSpPr/>
          <p:nvPr/>
        </p:nvSpPr>
        <p:spPr>
          <a:xfrm>
            <a:off x="826920" y="1484280"/>
            <a:ext cx="6697800" cy="1313640"/>
          </a:xfrm>
          <a:prstGeom prst="rect">
            <a:avLst/>
          </a:prstGeom>
          <a:gradFill rotWithShape="0">
            <a:gsLst>
              <a:gs pos="0">
                <a:srgbClr val="d3d3ae"/>
              </a:gs>
              <a:gs pos="100000">
                <a:srgbClr val="eaeae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слание Президента Российской Федерации Федеральному Собранию Российской Федерации, определяющее бюджетную политику (требования к бюджетной политике) в Российской Федер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24"/>
          <p:cNvSpPr/>
          <p:nvPr/>
        </p:nvSpPr>
        <p:spPr>
          <a:xfrm>
            <a:off x="755640" y="3284640"/>
            <a:ext cx="7548480" cy="368280"/>
          </a:xfrm>
          <a:prstGeom prst="rect">
            <a:avLst/>
          </a:prstGeom>
          <a:gradFill rotWithShape="0">
            <a:gsLst>
              <a:gs pos="0">
                <a:srgbClr val="d3d3ae"/>
              </a:gs>
              <a:gs pos="100000">
                <a:srgbClr val="eaeae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гноз социально-экономического развития территор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24"/>
          <p:cNvSpPr/>
          <p:nvPr/>
        </p:nvSpPr>
        <p:spPr>
          <a:xfrm>
            <a:off x="755640" y="4292640"/>
            <a:ext cx="7548480" cy="705960"/>
          </a:xfrm>
          <a:prstGeom prst="rect">
            <a:avLst/>
          </a:prstGeom>
          <a:gradFill rotWithShape="0">
            <a:gsLst>
              <a:gs pos="0">
                <a:srgbClr val="d3d3ae"/>
              </a:gs>
              <a:gs pos="100000">
                <a:srgbClr val="eaeae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новные направления бюджетно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налоговой полит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24"/>
          <p:cNvSpPr/>
          <p:nvPr/>
        </p:nvSpPr>
        <p:spPr>
          <a:xfrm>
            <a:off x="684360" y="5300640"/>
            <a:ext cx="7583400" cy="705960"/>
          </a:xfrm>
          <a:prstGeom prst="rect">
            <a:avLst/>
          </a:prstGeom>
          <a:gradFill rotWithShape="0">
            <a:gsLst>
              <a:gs pos="0">
                <a:srgbClr val="d3d3ae"/>
              </a:gs>
              <a:gs pos="100000">
                <a:srgbClr val="eaeae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униципальные программы территор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TextBox 4" descr=""/>
          <p:cNvPicPr/>
          <p:nvPr/>
        </p:nvPicPr>
        <p:blipFill>
          <a:blip r:embed="rId2"/>
          <a:stretch/>
        </p:blipFill>
        <p:spPr>
          <a:xfrm>
            <a:off x="706320" y="0"/>
            <a:ext cx="8364600" cy="11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AutoShape 16"/>
          <p:cNvSpPr/>
          <p:nvPr/>
        </p:nvSpPr>
        <p:spPr>
          <a:xfrm>
            <a:off x="539640" y="1557360"/>
            <a:ext cx="8425080" cy="3311640"/>
          </a:xfrm>
          <a:prstGeom prst="horizontalScroll">
            <a:avLst>
              <a:gd name="adj" fmla="val 18791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юджет сельского совета– это ежегодн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тверждаемый Решением Собрания депута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ельского совета свод доходов и расходов 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чередной финансовый год и плановы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ериод (2 год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Box 3"/>
          <p:cNvSpPr/>
          <p:nvPr/>
        </p:nvSpPr>
        <p:spPr>
          <a:xfrm>
            <a:off x="1258920" y="476280"/>
            <a:ext cx="727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87026"/>
                </a:solidFill>
                <a:latin typeface="Arial"/>
              </a:rPr>
              <a:t>БЮДЖЕ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87026"/>
                </a:solidFill>
                <a:latin typeface="Arial"/>
              </a:rPr>
              <a:t>Плеховского сельсовета Суджанского района Курской облас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3716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4617b"/>
                </a:solidFill>
                <a:latin typeface="Arial"/>
              </a:rPr>
              <a:t>Принципы формирования бюджета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306" name=""/>
          <p:cNvGraphicFramePr/>
          <p:nvPr/>
        </p:nvGraphicFramePr>
        <p:xfrm>
          <a:off x="684360" y="1916280"/>
          <a:ext cx="8351640" cy="4390920"/>
        </p:xfrm>
        <a:graphic>
          <a:graphicData uri="http://schemas.openxmlformats.org/drawingml/2006/table">
            <a:tbl>
              <a:tblPr/>
              <a:tblGrid>
                <a:gridCol w="8351640"/>
              </a:tblGrid>
              <a:tr h="923760">
                <a:tc>
                  <a:txBody>
                    <a:bodyPr lIns="81360" rIns="81360" tIns="43560" bIns="4356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1003320"/>
                          <a:tab algn="l" pos="2006640"/>
                          <a:tab algn="l" pos="3009960"/>
                          <a:tab algn="l" pos="4013280"/>
                          <a:tab algn="l" pos="5016600"/>
                          <a:tab algn="l" pos="6019920"/>
                          <a:tab algn="l" pos="7023240"/>
                          <a:tab algn="l" pos="8026560"/>
                          <a:tab algn="l" pos="9029880"/>
                          <a:tab algn="l" pos="1003284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еспечение сбалансированности и устойчивости бюджетной системы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1360" marR="81360">
                    <a:lnL w="5760">
                      <a:solidFill>
                        <a:srgbClr val="ffffee"/>
                      </a:solidFill>
                    </a:lnL>
                    <a:lnR w="5760">
                      <a:solidFill>
                        <a:srgbClr val="ffffee"/>
                      </a:solidFill>
                    </a:lnR>
                    <a:lnT w="5760">
                      <a:solidFill>
                        <a:srgbClr val="ffffee"/>
                      </a:solidFill>
                    </a:lnT>
                    <a:lnB w="5760">
                      <a:solidFill>
                        <a:srgbClr val="ffffee"/>
                      </a:solidFill>
                    </a:lnB>
                    <a:gradFill rotWithShape="0">
                      <a:gsLst>
                        <a:gs pos="0">
                          <a:srgbClr val="e0e0c2"/>
                        </a:gs>
                        <a:gs pos="50000">
                          <a:srgbClr val="ffffff"/>
                        </a:gs>
                        <a:gs pos="100000">
                          <a:srgbClr val="e0e0c2"/>
                        </a:gs>
                      </a:gsLst>
                      <a:lin ang="5400000"/>
                    </a:gradFill>
                  </a:tcPr>
                </a:tc>
              </a:tr>
              <a:tr h="1089720">
                <a:tc>
                  <a:txBody>
                    <a:bodyPr lIns="81360" rIns="81360" tIns="43560" bIns="4356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1003320"/>
                          <a:tab algn="l" pos="2006640"/>
                          <a:tab algn="l" pos="3009960"/>
                          <a:tab algn="l" pos="4013280"/>
                          <a:tab algn="l" pos="5016600"/>
                          <a:tab algn="l" pos="6019920"/>
                          <a:tab algn="l" pos="7023240"/>
                          <a:tab algn="l" pos="8026560"/>
                          <a:tab algn="l" pos="9029880"/>
                          <a:tab algn="l" pos="1003284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вышение результативности бюджетных расходов, достижение установленных показателей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1360" marR="81360">
                    <a:lnL w="5760">
                      <a:solidFill>
                        <a:srgbClr val="ffffee"/>
                      </a:solidFill>
                    </a:lnL>
                    <a:lnR w="5760">
                      <a:solidFill>
                        <a:srgbClr val="ffffee"/>
                      </a:solidFill>
                    </a:lnR>
                    <a:lnT w="5760">
                      <a:solidFill>
                        <a:srgbClr val="ffffee"/>
                      </a:solidFill>
                    </a:lnT>
                    <a:lnB w="5760">
                      <a:solidFill>
                        <a:srgbClr val="ffffee"/>
                      </a:solidFill>
                    </a:lnB>
                    <a:gradFill rotWithShape="0">
                      <a:gsLst>
                        <a:gs pos="0">
                          <a:srgbClr val="e0e0c2"/>
                        </a:gs>
                        <a:gs pos="50000">
                          <a:srgbClr val="ffffff"/>
                        </a:gs>
                        <a:gs pos="100000">
                          <a:srgbClr val="e0e0c2"/>
                        </a:gs>
                      </a:gsLst>
                      <a:lin ang="5400000"/>
                    </a:gradFill>
                  </a:tcPr>
                </a:tc>
              </a:tr>
              <a:tr h="2377800">
                <a:tc>
                  <a:txBody>
                    <a:bodyPr lIns="81360" rIns="81360" tIns="43560" bIns="4356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1003320"/>
                          <a:tab algn="l" pos="2006640"/>
                          <a:tab algn="l" pos="3009960"/>
                          <a:tab algn="l" pos="4013280"/>
                          <a:tab algn="l" pos="5016600"/>
                          <a:tab algn="l" pos="6019920"/>
                          <a:tab algn="l" pos="7023240"/>
                          <a:tab algn="l" pos="8026560"/>
                          <a:tab algn="l" pos="9029880"/>
                          <a:tab algn="l" pos="1003284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еспечение прозрачности и открытости бюджетного процесса для гражда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1003320"/>
                          <a:tab algn="l" pos="2006640"/>
                          <a:tab algn="l" pos="3009960"/>
                          <a:tab algn="l" pos="4013280"/>
                          <a:tab algn="l" pos="5016600"/>
                          <a:tab algn="l" pos="6019920"/>
                          <a:tab algn="l" pos="7023240"/>
                          <a:tab algn="l" pos="8026560"/>
                          <a:tab algn="l" pos="9029880"/>
                          <a:tab algn="l" pos="1003284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1003320"/>
                          <a:tab algn="l" pos="2006640"/>
                          <a:tab algn="l" pos="3009960"/>
                          <a:tab algn="l" pos="4013280"/>
                          <a:tab algn="l" pos="5016600"/>
                          <a:tab algn="l" pos="6019920"/>
                          <a:tab algn="l" pos="7023240"/>
                          <a:tab algn="l" pos="8026560"/>
                          <a:tab algn="l" pos="9029880"/>
                          <a:tab algn="l" pos="1003284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вышение эффективности использования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1003320"/>
                          <a:tab algn="l" pos="2006640"/>
                          <a:tab algn="l" pos="3009960"/>
                          <a:tab algn="l" pos="4013280"/>
                          <a:tab algn="l" pos="5016600"/>
                          <a:tab algn="l" pos="6019920"/>
                          <a:tab algn="l" pos="7023240"/>
                          <a:tab algn="l" pos="8026560"/>
                          <a:tab algn="l" pos="9029880"/>
                          <a:tab algn="l" pos="1003284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униципальной собственности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1003320"/>
                          <a:tab algn="l" pos="2006640"/>
                          <a:tab algn="l" pos="3009960"/>
                          <a:tab algn="l" pos="4013280"/>
                          <a:tab algn="l" pos="5016600"/>
                          <a:tab algn="l" pos="6019920"/>
                          <a:tab algn="l" pos="7023240"/>
                          <a:tab algn="l" pos="8026560"/>
                          <a:tab algn="l" pos="9029880"/>
                          <a:tab algn="l" pos="1003284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1360" marR="81360">
                    <a:lnL w="5760">
                      <a:solidFill>
                        <a:srgbClr val="ffffee"/>
                      </a:solidFill>
                    </a:lnL>
                    <a:lnR w="5760">
                      <a:solidFill>
                        <a:srgbClr val="ffffee"/>
                      </a:solidFill>
                    </a:lnR>
                    <a:lnT w="5760">
                      <a:solidFill>
                        <a:srgbClr val="ffffee"/>
                      </a:solidFill>
                    </a:lnT>
                    <a:lnB w="5760">
                      <a:solidFill>
                        <a:srgbClr val="ffffee"/>
                      </a:solidFill>
                    </a:lnB>
                    <a:gradFill rotWithShape="0">
                      <a:gsLst>
                        <a:gs pos="0">
                          <a:srgbClr val="e0e0c2"/>
                        </a:gs>
                        <a:gs pos="50000">
                          <a:srgbClr val="ffffff"/>
                        </a:gs>
                        <a:gs pos="100000">
                          <a:srgbClr val="e0e0c2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96472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4617b"/>
                </a:solidFill>
                <a:latin typeface="Arial"/>
              </a:rPr>
              <a:t>Плеховский сельсовет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8" name="Скругленный прямоугольник 3"/>
          <p:cNvSpPr/>
          <p:nvPr/>
        </p:nvSpPr>
        <p:spPr>
          <a:xfrm>
            <a:off x="684360" y="981000"/>
            <a:ext cx="8064360" cy="36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1c6f7"/>
              </a:gs>
              <a:gs pos="100000">
                <a:srgbClr val="c8e3fb"/>
              </a:gs>
            </a:gsLst>
            <a:lin ang="5400000"/>
          </a:gra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b1608"/>
                </a:solidFill>
                <a:latin typeface="Constantia"/>
              </a:rPr>
              <a:t>Расходы бюджета сопоставляются с доход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Скругленный прямоугольник 4"/>
          <p:cNvSpPr/>
          <p:nvPr/>
        </p:nvSpPr>
        <p:spPr>
          <a:xfrm>
            <a:off x="684360" y="2079720"/>
            <a:ext cx="1584000" cy="431640"/>
          </a:xfrm>
          <a:prstGeom prst="roundRect">
            <a:avLst>
              <a:gd name="adj" fmla="val 16667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onstantia"/>
              </a:rPr>
              <a:t>Дохо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Скругленный прямоугольник 5"/>
          <p:cNvSpPr/>
          <p:nvPr/>
        </p:nvSpPr>
        <p:spPr>
          <a:xfrm>
            <a:off x="4435560" y="1857240"/>
            <a:ext cx="1727280" cy="901800"/>
          </a:xfrm>
          <a:prstGeom prst="roundRect">
            <a:avLst>
              <a:gd name="adj" fmla="val 16667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onstantia"/>
              </a:rPr>
              <a:t>Дефици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onstantia"/>
              </a:rPr>
              <a:t>ил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onstantia"/>
              </a:rPr>
              <a:t> </a:t>
            </a:r>
            <a:r>
              <a:rPr b="0" lang="ru-RU" sz="1800" spc="-1" strike="noStrike">
                <a:solidFill>
                  <a:srgbClr val="002060"/>
                </a:solidFill>
                <a:latin typeface="Constantia"/>
              </a:rPr>
              <a:t>Профици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Скругленный прямоугольник 6"/>
          <p:cNvSpPr/>
          <p:nvPr/>
        </p:nvSpPr>
        <p:spPr>
          <a:xfrm>
            <a:off x="2482920" y="2089080"/>
            <a:ext cx="1584360" cy="432000"/>
          </a:xfrm>
          <a:prstGeom prst="roundRect">
            <a:avLst>
              <a:gd name="adj" fmla="val 16667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onstantia"/>
              </a:rPr>
              <a:t>Расхо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Box 8"/>
          <p:cNvSpPr/>
          <p:nvPr/>
        </p:nvSpPr>
        <p:spPr>
          <a:xfrm>
            <a:off x="5003640" y="2033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Box 9"/>
          <p:cNvSpPr/>
          <p:nvPr/>
        </p:nvSpPr>
        <p:spPr>
          <a:xfrm>
            <a:off x="4094280" y="2124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Box 10"/>
          <p:cNvSpPr/>
          <p:nvPr/>
        </p:nvSpPr>
        <p:spPr>
          <a:xfrm>
            <a:off x="2268360" y="211140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Прямоугольник 13"/>
          <p:cNvSpPr/>
          <p:nvPr/>
        </p:nvSpPr>
        <p:spPr>
          <a:xfrm>
            <a:off x="6667560" y="1682640"/>
            <a:ext cx="2081160" cy="61272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onstantia"/>
              </a:rPr>
              <a:t>Расходы </a:t>
            </a:r>
            <a:r>
              <a:rPr b="0" lang="ru-RU" sz="1800" spc="-1" strike="noStrike">
                <a:solidFill>
                  <a:srgbClr val="006600"/>
                </a:solidFill>
                <a:latin typeface="Constantia"/>
              </a:rPr>
              <a:t>больше</a:t>
            </a:r>
            <a:r>
              <a:rPr b="0" lang="ru-RU" sz="1800" spc="-1" strike="noStrike">
                <a:solidFill>
                  <a:srgbClr val="002060"/>
                </a:solidFill>
                <a:latin typeface="Constantia"/>
              </a:rPr>
              <a:t> доход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Прямоугольник 14"/>
          <p:cNvSpPr/>
          <p:nvPr/>
        </p:nvSpPr>
        <p:spPr>
          <a:xfrm>
            <a:off x="6667560" y="2425680"/>
            <a:ext cx="2081160" cy="69696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onstantia"/>
              </a:rPr>
              <a:t>Расходы </a:t>
            </a:r>
            <a:r>
              <a:rPr b="0" lang="ru-RU" sz="1800" spc="-1" strike="noStrike">
                <a:solidFill>
                  <a:srgbClr val="006600"/>
                </a:solidFill>
                <a:latin typeface="Constantia"/>
              </a:rPr>
              <a:t>меньше</a:t>
            </a:r>
            <a:r>
              <a:rPr b="0" lang="ru-RU" sz="1800" spc="-1" strike="noStrike">
                <a:solidFill>
                  <a:srgbClr val="002060"/>
                </a:solidFill>
                <a:latin typeface="Constantia"/>
              </a:rPr>
              <a:t> доход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7" name="Группа 19"/>
          <p:cNvGrpSpPr/>
          <p:nvPr/>
        </p:nvGrpSpPr>
        <p:grpSpPr>
          <a:xfrm>
            <a:off x="725400" y="2903400"/>
            <a:ext cx="2592360" cy="2288520"/>
            <a:chOff x="725400" y="2903400"/>
            <a:chExt cx="2592360" cy="2288520"/>
          </a:xfrm>
        </p:grpSpPr>
        <p:sp>
          <p:nvSpPr>
            <p:cNvPr id="318" name="TextBox 17"/>
            <p:cNvSpPr/>
            <p:nvPr/>
          </p:nvSpPr>
          <p:spPr>
            <a:xfrm>
              <a:off x="725400" y="2903400"/>
              <a:ext cx="259236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2022 го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Доходы         Расходы 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2347,6        2381,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Дефици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-33,4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Левая фигурная скобка 18"/>
            <p:cNvSpPr/>
            <p:nvPr/>
          </p:nvSpPr>
          <p:spPr>
            <a:xfrm rot="16200000">
              <a:off x="1815840" y="3136320"/>
              <a:ext cx="382320" cy="1871640"/>
            </a:xfrm>
            <a:custGeom>
              <a:avLst/>
              <a:gdLst>
                <a:gd name="textAreaLeft" fmla="*/ 244440 w 382320"/>
                <a:gd name="textAreaRight" fmla="*/ 382680 w 382320"/>
                <a:gd name="textAreaTop" fmla="*/ 9720 h 1871640"/>
                <a:gd name="textAreaBottom" fmla="*/ 1861920 h 187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184"/>
                    <a:pt x="10800" y="368"/>
                  </a:cubicBezTo>
                  <a:lnTo>
                    <a:pt x="10800" y="10432"/>
                  </a:lnTo>
                  <a:cubicBezTo>
                    <a:pt x="10800" y="10616"/>
                    <a:pt x="5400" y="10800"/>
                    <a:pt x="0" y="10800"/>
                  </a:cubicBezTo>
                  <a:cubicBezTo>
                    <a:pt x="5400" y="10800"/>
                    <a:pt x="10800" y="10984"/>
                    <a:pt x="10800" y="11168"/>
                  </a:cubicBezTo>
                  <a:lnTo>
                    <a:pt x="10800" y="21232"/>
                  </a:lnTo>
                  <a:cubicBezTo>
                    <a:pt x="10800" y="21416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b16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0" name="Группа 20"/>
          <p:cNvGrpSpPr/>
          <p:nvPr/>
        </p:nvGrpSpPr>
        <p:grpSpPr>
          <a:xfrm>
            <a:off x="3419640" y="3141720"/>
            <a:ext cx="2592360" cy="2288520"/>
            <a:chOff x="3419640" y="3141720"/>
            <a:chExt cx="2592360" cy="2288520"/>
          </a:xfrm>
        </p:grpSpPr>
        <p:sp>
          <p:nvSpPr>
            <p:cNvPr id="321" name="TextBox 21"/>
            <p:cNvSpPr/>
            <p:nvPr/>
          </p:nvSpPr>
          <p:spPr>
            <a:xfrm>
              <a:off x="3419640" y="3141720"/>
              <a:ext cx="259236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2023го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Доходы         Расход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1134,0       1100,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     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  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(профицит)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              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33,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Левая фигурная скобка 22"/>
            <p:cNvSpPr/>
            <p:nvPr/>
          </p:nvSpPr>
          <p:spPr>
            <a:xfrm rot="16200000">
              <a:off x="4510080" y="3374640"/>
              <a:ext cx="382320" cy="1871640"/>
            </a:xfrm>
            <a:custGeom>
              <a:avLst/>
              <a:gdLst>
                <a:gd name="textAreaLeft" fmla="*/ 244440 w 382320"/>
                <a:gd name="textAreaRight" fmla="*/ 382680 w 382320"/>
                <a:gd name="textAreaTop" fmla="*/ 9720 h 1871640"/>
                <a:gd name="textAreaBottom" fmla="*/ 1861920 h 187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184"/>
                    <a:pt x="10800" y="368"/>
                  </a:cubicBezTo>
                  <a:lnTo>
                    <a:pt x="10800" y="10432"/>
                  </a:lnTo>
                  <a:cubicBezTo>
                    <a:pt x="10800" y="10616"/>
                    <a:pt x="5400" y="10800"/>
                    <a:pt x="0" y="10800"/>
                  </a:cubicBezTo>
                  <a:cubicBezTo>
                    <a:pt x="5400" y="10800"/>
                    <a:pt x="10800" y="10984"/>
                    <a:pt x="10800" y="11168"/>
                  </a:cubicBezTo>
                  <a:lnTo>
                    <a:pt x="10800" y="21232"/>
                  </a:lnTo>
                  <a:cubicBezTo>
                    <a:pt x="10800" y="21416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1c1c0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3" name="Группа 23"/>
          <p:cNvGrpSpPr/>
          <p:nvPr/>
        </p:nvGrpSpPr>
        <p:grpSpPr>
          <a:xfrm>
            <a:off x="6300720" y="3429000"/>
            <a:ext cx="2592360" cy="2288520"/>
            <a:chOff x="6300720" y="3429000"/>
            <a:chExt cx="2592360" cy="2288520"/>
          </a:xfrm>
        </p:grpSpPr>
        <p:sp>
          <p:nvSpPr>
            <p:cNvPr id="324" name="TextBox 24"/>
            <p:cNvSpPr/>
            <p:nvPr/>
          </p:nvSpPr>
          <p:spPr>
            <a:xfrm>
              <a:off x="6300720" y="3429000"/>
              <a:ext cx="259236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2024 го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Доходы         Расход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1110,0          1110,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Дефицит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(профицит)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0,0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Левая фигурная скобка 25"/>
            <p:cNvSpPr/>
            <p:nvPr/>
          </p:nvSpPr>
          <p:spPr>
            <a:xfrm rot="16200000">
              <a:off x="7391160" y="3661920"/>
              <a:ext cx="382320" cy="1871640"/>
            </a:xfrm>
            <a:custGeom>
              <a:avLst/>
              <a:gdLst>
                <a:gd name="textAreaLeft" fmla="*/ 244440 w 382320"/>
                <a:gd name="textAreaRight" fmla="*/ 382680 w 382320"/>
                <a:gd name="textAreaTop" fmla="*/ 9720 h 1871640"/>
                <a:gd name="textAreaBottom" fmla="*/ 1861920 h 187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184"/>
                    <a:pt x="10800" y="368"/>
                  </a:cubicBezTo>
                  <a:lnTo>
                    <a:pt x="10800" y="10432"/>
                  </a:lnTo>
                  <a:cubicBezTo>
                    <a:pt x="10800" y="10616"/>
                    <a:pt x="5400" y="10800"/>
                    <a:pt x="0" y="10800"/>
                  </a:cubicBezTo>
                  <a:cubicBezTo>
                    <a:pt x="5400" y="10800"/>
                    <a:pt x="10800" y="10984"/>
                    <a:pt x="10800" y="11168"/>
                  </a:cubicBezTo>
                  <a:lnTo>
                    <a:pt x="10800" y="21232"/>
                  </a:lnTo>
                  <a:cubicBezTo>
                    <a:pt x="10800" y="21416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1c1c0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6" name="TextBox 1"/>
          <p:cNvSpPr/>
          <p:nvPr/>
        </p:nvSpPr>
        <p:spPr>
          <a:xfrm>
            <a:off x="725400" y="1682640"/>
            <a:ext cx="11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Тыс. рубл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Двойная стрелка влево/вправо 2"/>
          <p:cNvSpPr/>
          <p:nvPr/>
        </p:nvSpPr>
        <p:spPr>
          <a:xfrm>
            <a:off x="5873760" y="1914480"/>
            <a:ext cx="938160" cy="238320"/>
          </a:xfrm>
          <a:prstGeom prst="leftRightArrow">
            <a:avLst>
              <a:gd name="adj1" fmla="val 50000"/>
              <a:gd name="adj2" fmla="val 49954"/>
            </a:avLst>
          </a:prstGeom>
          <a:gradFill rotWithShape="0">
            <a:gsLst>
              <a:gs pos="0">
                <a:srgbClr val="006600"/>
              </a:gs>
              <a:gs pos="50000">
                <a:srgbClr val="ffffff"/>
              </a:gs>
              <a:gs pos="100000">
                <a:srgbClr val="006600"/>
              </a:gs>
            </a:gsLst>
            <a:lin ang="5400000"/>
          </a:gradFill>
          <a:ln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Двойная стрелка влево/вправо 27"/>
          <p:cNvSpPr/>
          <p:nvPr/>
        </p:nvSpPr>
        <p:spPr>
          <a:xfrm>
            <a:off x="5913360" y="2521080"/>
            <a:ext cx="858960" cy="210960"/>
          </a:xfrm>
          <a:prstGeom prst="leftRightArrow">
            <a:avLst>
              <a:gd name="adj1" fmla="val 50000"/>
              <a:gd name="adj2" fmla="val 50047"/>
            </a:avLst>
          </a:prstGeom>
          <a:gradFill rotWithShape="0">
            <a:gsLst>
              <a:gs pos="0">
                <a:srgbClr val="006600"/>
              </a:gs>
              <a:gs pos="50000">
                <a:srgbClr val="ffffff"/>
              </a:gs>
              <a:gs pos="100000">
                <a:srgbClr val="006600"/>
              </a:gs>
            </a:gsLst>
            <a:lin ang="5400000"/>
          </a:gradFill>
          <a:ln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6T13:13:38Z</dcterms:created>
  <dc:creator>trofimova_ey</dc:creator>
  <dc:description/>
  <dc:language>en-US</dc:language>
  <cp:lastModifiedBy>Администратор</cp:lastModifiedBy>
  <cp:lastPrinted>2013-10-03T09:30:52Z</cp:lastPrinted>
  <dcterms:modified xsi:type="dcterms:W3CDTF">2022-02-17T13:24:44Z</dcterms:modified>
  <cp:revision>219</cp:revision>
  <dc:subject/>
  <dc:title>Слайд 1</dc:title>
</cp:coreProperties>
</file>