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D0C9-48C6-488B-AFB6-10541FD55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EA77-80FD-4950-BECB-30BFB5B1F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C4EC-0C26-4FFA-AAC8-2AF6D6688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42E5-4164-46A6-86A4-03D59721B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AD58F-42B0-4CA7-859F-D6849FF0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F5F7-8A17-4550-ADE1-427461DF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55D4D-3090-40CF-841C-1C6C3B3A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D686F-0477-457D-9D68-CA9A46C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6DB9E-0130-41D0-9668-E02ACA30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420DB-2628-445A-92B8-3961A0C2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AF5F4-0512-4F3C-A969-E4597233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082F-13C0-4284-B3D7-0F2DF9F32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189EE-34AB-4E74-9ADC-4AE8ED3D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60763-83EC-41F8-ADA8-B4272CD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E24E3-5FAA-4D4D-B2C9-2A453CBD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D033-1DCF-4870-B138-62808C65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A1B80-A2BD-41C1-BAE6-2B4614A0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9FDA-5341-4C35-81D9-704D80A557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2A854-3F05-4461-A55B-2A204931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02A22-6EC2-4165-91A9-3E639E9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EFC6C-73E5-4879-947D-B3771C1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3ED7-C426-4C9D-AC17-8B7C9ABABF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CD15B-201B-4CC8-885E-4C7C2175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340C0-F9DF-437C-9B3D-7979CB3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648B6-DECB-4740-8485-1233AFA1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8559D-B68A-41D7-A974-7F01E34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B278F-3608-422F-BDAD-782AECC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A981B-F107-48C4-A710-209E1C7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D761E-7B8F-4E8B-97F5-34DEFA0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C877B-5C7D-4806-A5EC-A76B0986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20F94-BE59-4868-B248-1B63D696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EB08A-DDD9-4310-815F-A8287ECE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FC2E-9907-46DC-B480-2D39312EE7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72C2E-E382-4111-8398-B67751FF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EEF76-5378-4118-9A82-C8E4AC13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6029F-4AC8-4700-9FC1-3E710421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323C5-B23D-41F9-9E82-E28F9C6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58DBF-2793-4006-88A3-B90F465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DB685-BFE4-4014-9BA2-0F498C3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8C818-7A4C-44A7-98ED-669B46B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945B3-2BAC-43C4-ADA1-926F422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6C60B-2B84-4712-B9AA-1A5086C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B0097-1FA7-43DA-BD51-80DA8E23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4C89-7E5C-45A6-B055-35D693FF6D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55249-8C7F-4CC0-850B-7F056C2C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8CE14-07C0-4BCE-83BF-860001D6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4364D-5BC5-4760-9D0F-042DA2B8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E2857-73CD-4424-8362-D9FD6C6F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6E55C-C863-492B-B482-60A25179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B4996-6658-4B49-B593-8B20D90E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D0563-F8EB-434A-AEB0-014FC32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F9D2B6-182F-4753-8EA6-217B37B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7372BC-B17A-4A26-9A1F-FF83DFF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52095-B3EC-4AE7-BCC2-AA06A9C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DBE5-9B2F-4BF0-BACA-0153348EA6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72661-3349-4FD7-8A76-761032D9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59C43-3339-4C19-9186-5FC207BB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5AD67-BFDD-41F2-A347-7316A21E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0E83-FE7A-4356-8284-B25C073CE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BC24-2D5C-4649-8B8C-CD9B52E57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7D6-FD6C-44D2-A436-859E33D5AC18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6E2C-21FB-4588-B37C-E37172661D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482-D4D1-40FC-A714-DAB079FF15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DF4-C8B3-45AB-8515-E75B202DFEA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EC5-58F4-481A-A5C8-61C16731ED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21109200">
            <a:off x="2916000" y="2276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4f6228"/>
                </a:solidFill>
                <a:latin typeface="Arial"/>
              </a:rPr>
              <a:t>проект Бюджета для граждан н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80000" cy="3096720"/>
        </p:xfrm>
        <a:graphic>
          <a:graphicData uri="http://schemas.openxmlformats.org/drawingml/2006/table">
            <a:tbl>
              <a:tblPr/>
              <a:tblGrid>
                <a:gridCol w="3675600"/>
                <a:gridCol w="1657800"/>
                <a:gridCol w="1441080"/>
                <a:gridCol w="1505520"/>
              </a:tblGrid>
              <a:tr h="45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64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92452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5A7-FAC5-46F1-BD8F-C135CFCCDEF6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4610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6051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3"/>
          <a:stretch/>
        </p:blipFill>
        <p:spPr>
          <a:xfrm>
            <a:off x="749160" y="901800"/>
            <a:ext cx="76456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2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3"/>
          <a:stretch/>
        </p:blipFill>
        <p:spPr>
          <a:xfrm>
            <a:off x="2771640" y="189000"/>
            <a:ext cx="5985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3"/>
          <a:stretch/>
        </p:blipFill>
        <p:spPr>
          <a:xfrm>
            <a:off x="627120" y="0"/>
            <a:ext cx="851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1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247,5         2247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14,2       1114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3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84,8          1084,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omputer</cp:lastModifiedBy>
  <cp:lastPrinted>2013-10-03T09:30:52Z</cp:lastPrinted>
  <dcterms:modified xsi:type="dcterms:W3CDTF">2020-11-17T12:16:27Z</dcterms:modified>
  <cp:revision>215</cp:revision>
  <dc:subject/>
  <dc:title>Слайд 1</dc:title>
</cp:coreProperties>
</file>