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97F8-0403-491B-8134-80E891C10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1BDD-B01B-4C84-9E95-D8E6D7149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B9F6-A3BA-48B9-B295-22C9F4718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5C5B-008E-4CC7-929F-5320DFB43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EBC5A-21DA-4167-BD76-760BD615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57377-3DF0-4559-8C42-BDF1846F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1AF76-6894-4BF8-85C7-7739B9D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2E6F4-1192-4F52-9AC2-CFCA2AD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F83B2-BD6A-4DC1-AF7D-9F52227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B63F5-7184-404A-B3D2-16EF2B12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8C134-F06C-46E4-82C8-2C61925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4B60-D184-4152-A551-EFFC52294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2ED8F-A545-4B93-8824-72D634E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49947-6046-44F7-A9F8-8137DD7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8C404-0FFB-4C8F-BED3-3C9B725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DE14A-C250-48C3-A551-974FFB68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566E6-06CA-4372-ADCA-4E08BC63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CA54-E6EA-40E2-AA1E-E3AB556E33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B91D1-91B7-400B-ACDA-0B3EC3F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33607-5A4F-441E-8E1E-8188527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167E4-449A-416F-A9DC-778406E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314E-1C66-42EF-8C6B-178A403E3B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FD232-970F-4D6E-AD47-3A0D32D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6B9F9-5A66-492D-B40F-3DBA725B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969E3-1826-4B65-80AC-57C5FF6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B50CA-606D-4E38-AADE-5F73B31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5746C-E349-4FD5-88D0-A013573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AA8B5-959A-46A1-8606-A52483D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68931-43EC-4647-89BA-937A5EC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FD540-FECC-4574-827B-27E89E92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B4CEE-EDCF-4634-9F07-613452CF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095B7-E193-4F3F-B3E1-31C7A0C9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40FD-891D-47AE-A2AA-8223562867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CFF68-E21B-4E7D-8B50-1F7F8F45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1C0F7-8822-4A37-9F70-DB80758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BAEEF-6100-40A8-8C44-91AE4A9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3EA9D-9B2B-4ACC-A4AA-517BB00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0B889-7160-4A2C-84EB-8743A55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24F64-4FDB-4E86-B253-61C5755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EF5C0-41D9-4F5F-A550-DB6059C8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33380-D1AE-441A-A3D9-81325FB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44A11-9BC1-40EB-B0CF-07218AB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98B0D-4510-4A8F-9648-6C2B916A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845B-E28A-4AE8-A539-CEA8F65055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5CCF1-60FA-4B8D-9DA1-71489D30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80A35-063F-4104-9F50-44C80EE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CB2D4-FF7F-49B4-A86D-3EF9CD72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592EC-085B-4C07-800E-D2AA41D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03B52-BE48-4E6B-844B-9DFDDC6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2370A-15BE-4BBC-AA61-09DBAAE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783D6-7754-460C-8B03-D7FEE6D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1E003-E767-4B3E-9BE8-F42161F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1BF0B-C6E3-4B0E-BA33-92C26C7A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945712-3D8D-499C-97DD-018FF309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D9E9-1A49-4238-A237-B659FD15E1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E0BEC-4049-4641-9771-0933945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E43EE-D08C-492D-AFA7-523D21DD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C81DB2-2D48-4F9A-A215-BD603A21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F015-883E-4FCE-AD7D-D54265830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7D50-86B7-42C9-8E15-076C3B684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45C-5E92-497D-AA0B-C322256E493C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DE73-1F42-47B7-BE83-9BA1C87AEC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B041-3970-4C6C-9161-C2BA703C409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CF69-06EE-4108-A8B0-329E53D9384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544-A5A2-4C99-AC8F-05898F07DE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7"/>
          <p:cNvSpPr/>
          <p:nvPr/>
        </p:nvSpPr>
        <p:spPr>
          <a:xfrm rot="21109200">
            <a:off x="2915640" y="24098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 для граждан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80360" cy="3097080"/>
        </p:xfrm>
        <a:graphic>
          <a:graphicData uri="http://schemas.openxmlformats.org/drawingml/2006/table">
            <a:tbl>
              <a:tblPr/>
              <a:tblGrid>
                <a:gridCol w="3675240"/>
                <a:gridCol w="1658880"/>
                <a:gridCol w="1441440"/>
                <a:gridCol w="150480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82444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436-BBFA-4506-8E07-1D4D627FBD9F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1"/>
          <a:stretch/>
        </p:blipFill>
        <p:spPr>
          <a:xfrm>
            <a:off x="1523880" y="-1663560"/>
            <a:ext cx="4791240" cy="112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1"/>
          <a:stretch/>
        </p:blipFill>
        <p:spPr>
          <a:xfrm>
            <a:off x="1962000" y="-1768320"/>
            <a:ext cx="4999320" cy="1158228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2"/>
          <a:stretch/>
        </p:blipFill>
        <p:spPr>
          <a:xfrm>
            <a:off x="749160" y="901800"/>
            <a:ext cx="7645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1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2"/>
          <a:stretch/>
        </p:blipFill>
        <p:spPr>
          <a:xfrm>
            <a:off x="3035160" y="195120"/>
            <a:ext cx="547560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2"/>
          <a:stretch/>
        </p:blipFill>
        <p:spPr>
          <a:xfrm>
            <a:off x="706320" y="0"/>
            <a:ext cx="8364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247,5         2247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14,2       1114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84,8          1084,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er23</cp:lastModifiedBy>
  <cp:lastPrinted>2013-10-03T09:30:52Z</cp:lastPrinted>
  <dcterms:modified xsi:type="dcterms:W3CDTF">2022-02-17T13:49:42Z</dcterms:modified>
  <cp:revision>216</cp:revision>
  <dc:subject/>
  <dc:title>Слайд 1</dc:title>
</cp:coreProperties>
</file>