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8261-382A-4915-8348-8E9A49F7A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3941-50A9-4F05-BB20-13A7C0E91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CE34-289F-46E0-A84B-0F38B17A2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2FED-1970-482E-B34D-8B8E00FCF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940FF-C2DE-4908-8369-D090836F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94D1E-DCF9-4240-9D6A-CD9F6B88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2E2F0-F88B-47A2-B521-A85FECBE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2855D-B4A8-42A4-924B-2F34E788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2C693-521A-4965-860D-528E74A7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06FA1-0A7C-4A56-AFCF-70B90057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347B5-81BB-4CE8-B72F-C46EBB8A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8488-7E4E-480E-B7D2-64DC8BFA8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CC625-ED24-42BA-A791-92CDDB76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DA85F-E2B1-467B-94E9-E612589D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44992-6CF2-4FBA-A8F6-9C81AC76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32704-28BF-407F-9D95-EB813AF8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94482-CC26-42F4-874B-0F294A89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F23C-52A9-4450-A445-FC45A43C8D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18086D-F513-4DDD-8F06-6A2B7C1F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37538E-AF3B-4CCB-8FA6-E6664F19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33167-5873-4B21-A5A5-A55A0E01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C10B-DE84-43CE-9CAC-FED00D6211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291DEA-01F0-4513-8B3E-837858DC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8E0529-D3E1-43FE-841C-9DE70C52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0E1814-5DF4-4E7B-B8C1-418CD5A3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FEE16-F775-4DBE-810B-23C2918B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B1D002-83C3-479F-9B7D-47DC11EE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5295A1-19D6-41C0-918C-94B90C68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D894A-45C6-4D03-8B5D-6ACF81A4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6AA01D-3CDF-42F9-A638-ED563B01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173CC5-B433-4A8D-A50D-325FF4F5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0D15C0-A22D-45AF-96B9-EFFA6AAF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85C0-F0DF-491B-A480-071EFE5660F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D97781-95FA-4E22-A5C1-40EB2F45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E588C4-F197-4EB0-A77F-4FBB2A74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97F3CB-6BF3-4544-8E4A-7B126B8C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5ABD67-9358-464F-A710-D29C90CD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1916C-F676-46BE-8E11-C579ACAC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8CA4C9-3354-4E49-A346-BC5603FE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974DBE-AECD-4D6F-ADCD-ACC971A5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8502D0-7131-49AE-913B-04C62456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DECF85-9C66-48F8-AF45-8196856C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592A97-695A-431C-A800-D1CAB026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6F25-DBA0-49E4-92DC-6A916F2BE1A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D7F8CA-F6C8-4804-AA8A-00B80014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C0C3FB-FF30-438B-BCB9-BF139765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CF6536-6195-4147-B3C8-17653F62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31FE08-D44F-469E-9749-EE15489B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3326C0-3471-4B26-812D-FDE23DC4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06CB12-BF0C-4DE7-B98F-1FE49B86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6FBBEA-5B57-40A2-A9F1-DF3866AC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2F6A67-1D93-4195-B4A9-835DF50D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3E02CE-E1E7-4F1A-B81B-A96B1213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FC7BCA-7D08-4930-B555-9472433A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7A41-B59C-43AE-9EB4-2843185268D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CFAAD6-1155-495C-BFEB-D5F396EC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69BA04-5835-4101-9F97-87B14492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E74D7E-6547-40FF-942A-92154118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524E-DA45-441A-8888-642FE2A86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02CF-0EC3-4EFF-9C52-D677A121B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459F-2E80-4591-BF9B-1928FAF6171C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0DA5-67F8-42CB-8EB4-48DA3EE751A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4319-D741-4AB8-9B29-0DA97A90A37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0BB3-8DB8-4583-923D-B6DF2BF4C78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7A6D-6C16-4835-8F90-088600E698E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Бюджет для граждан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82" name="Рисунок 5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384960" cy="4389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 rot="21109200">
            <a:off x="3227400" y="2273040"/>
            <a:ext cx="115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проект Бюджета для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179280" y="189000"/>
            <a:ext cx="186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Источники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3492360" y="189000"/>
            <a:ext cx="266400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БЮДЖЕТ СЕЛЬСКОГО 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50920" y="1773360"/>
          <a:ext cx="1944720" cy="45720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Налоговые и неналоговые дох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348000" y="2565360"/>
          <a:ext cx="1665360" cy="2103480"/>
        </p:xfrm>
        <a:graphic>
          <a:graphicData uri="http://schemas.openxmlformats.org/drawingml/2006/table">
            <a:tbl>
              <a:tblPr/>
              <a:tblGrid>
                <a:gridCol w="166536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от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сид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венции на исполнение государственных полномочи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2843280" y="1773360"/>
          <a:ext cx="1657440" cy="45720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34" name="TextBox 14"/>
          <p:cNvSpPr/>
          <p:nvPr/>
        </p:nvSpPr>
        <p:spPr>
          <a:xfrm>
            <a:off x="6804000" y="189000"/>
            <a:ext cx="20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Направления исполь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292720" y="1700280"/>
          <a:ext cx="3714840" cy="50004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00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Осуществление части государственных полномочий, переданных органам М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6" name="TextBox 17"/>
          <p:cNvSpPr/>
          <p:nvPr/>
        </p:nvSpPr>
        <p:spPr>
          <a:xfrm>
            <a:off x="5292720" y="2205000"/>
            <a:ext cx="3714840" cy="824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Arial"/>
              </a:rPr>
              <a:t>Исполнение государственного полномочия на осуществление первичного воинского учета на территориях, где отсутствуют военные комиссари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292720" y="3068640"/>
          <a:ext cx="3714840" cy="52848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28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Расходы связанные с обеспечением задач местного 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8" name="TextBox 19"/>
          <p:cNvSpPr/>
          <p:nvPr/>
        </p:nvSpPr>
        <p:spPr>
          <a:xfrm>
            <a:off x="5286240" y="3643200"/>
            <a:ext cx="3714840" cy="2284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Содержание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Благоустройство территории муниципаль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Расходы на исполнение полномочия по опубликованию муниципальных правовых актов, иной официальной информации в печатном С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первичных мер пожар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деятельности добровольных народных друж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9280" y="4923000"/>
          <a:ext cx="3600720" cy="118872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местные налоги и сбор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лог на имущество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0" name="AutoShape 80"/>
          <p:cNvSpPr/>
          <p:nvPr/>
        </p:nvSpPr>
        <p:spPr>
          <a:xfrm rot="3021600">
            <a:off x="1547280" y="1267920"/>
            <a:ext cx="43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2"/>
          <p:cNvSpPr/>
          <p:nvPr/>
        </p:nvSpPr>
        <p:spPr>
          <a:xfrm>
            <a:off x="1908000" y="836640"/>
            <a:ext cx="1440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6"/>
          <p:cNvSpPr/>
          <p:nvPr/>
        </p:nvSpPr>
        <p:spPr>
          <a:xfrm>
            <a:off x="6156360" y="907920"/>
            <a:ext cx="1440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7"/>
          <p:cNvSpPr/>
          <p:nvPr/>
        </p:nvSpPr>
        <p:spPr>
          <a:xfrm rot="18948600">
            <a:off x="3249720" y="1273320"/>
            <a:ext cx="358560" cy="477720"/>
          </a:xfrm>
          <a:prstGeom prst="downArrow">
            <a:avLst>
              <a:gd name="adj1" fmla="val 50000"/>
              <a:gd name="adj2" fmla="val 333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2565360"/>
          <a:ext cx="2952720" cy="208764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208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едеральные налоги и сборы, налоги, предусмотренные специальными налоговыми режимам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лог на доходы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5" name="AutoShape 100"/>
          <p:cNvSpPr/>
          <p:nvPr/>
        </p:nvSpPr>
        <p:spPr>
          <a:xfrm>
            <a:off x="392436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03"/>
          <p:cNvSpPr/>
          <p:nvPr/>
        </p:nvSpPr>
        <p:spPr>
          <a:xfrm>
            <a:off x="104292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47"/>
          <p:cNvSpPr/>
          <p:nvPr/>
        </p:nvSpPr>
        <p:spPr>
          <a:xfrm>
            <a:off x="6804000" y="1484280"/>
            <a:ext cx="2872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2698920" y="476280"/>
            <a:ext cx="374472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ходы бюджета Плех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льсо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9640" y="1773360"/>
          <a:ext cx="7686720" cy="4383000"/>
        </p:xfrm>
        <a:graphic>
          <a:graphicData uri="http://schemas.openxmlformats.org/drawingml/2006/table">
            <a:tbl>
              <a:tblPr/>
              <a:tblGrid>
                <a:gridCol w="2664000"/>
                <a:gridCol w="1206360"/>
                <a:gridCol w="1225800"/>
                <a:gridCol w="1295280"/>
                <a:gridCol w="1295280"/>
              </a:tblGrid>
              <a:tr h="67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и не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и на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8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прочие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7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3"/>
          <p:cNvSpPr/>
          <p:nvPr/>
        </p:nvSpPr>
        <p:spPr>
          <a:xfrm>
            <a:off x="900000" y="189000"/>
            <a:ext cx="6985080" cy="64260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бюджета Плеховского сельсовета Суджа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39640" y="836640"/>
          <a:ext cx="8207640" cy="2500200"/>
        </p:xfrm>
        <a:graphic>
          <a:graphicData uri="http://schemas.openxmlformats.org/drawingml/2006/table">
            <a:tbl>
              <a:tblPr/>
              <a:tblGrid>
                <a:gridCol w="3643560"/>
                <a:gridCol w="1643040"/>
                <a:gridCol w="1428480"/>
                <a:gridCol w="14925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расходов (тыс. руб.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5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, кинемат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ПЕРЕЧЕНЬ </a:t>
            </a:r>
            <a:br>
              <a:rPr sz="2000"/>
            </a:b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муниципальных программ муниципального образования «Плеховский сельсовет»</a:t>
            </a:r>
            <a:endParaRPr b="1" lang="en-US" sz="2000" spc="-1" strike="noStrike">
              <a:solidFill>
                <a:srgbClr val="255471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600200"/>
          <a:ext cx="8229600" cy="5924520"/>
        </p:xfrm>
        <a:graphic>
          <a:graphicData uri="http://schemas.openxmlformats.org/drawingml/2006/table">
            <a:tbl>
              <a:tblPr/>
              <a:tblGrid>
                <a:gridCol w="571680"/>
                <a:gridCol w="4572000"/>
                <a:gridCol w="30859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именование муниципальных программ муниципального образов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Плеховский сельсове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ветственный исполн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культуры» муниципального образования Плеховский сельсовет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муниципальной службы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Защита населения и территорий от чрезвычайных ситуаций, обеспечение пожарной безопасности и безопасности людей на водных объектах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го образования «Плеховский сельсовет» Суджанского района Курской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рамма комплексного развития транспортной инфраструктуры Плеховского сельсовета Суджанского района  Курской област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я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програм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Комплексные меры противодействия злоупотреб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котиками и их незаконному оборот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25C7-1090-482F-8429-B665CF33A390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Прямоугольник с двумя скругленными соседними углами 2"/>
          <p:cNvGrpSpPr/>
          <p:nvPr/>
        </p:nvGrpSpPr>
        <p:grpSpPr>
          <a:xfrm>
            <a:off x="1200240" y="1158840"/>
            <a:ext cx="6669000" cy="4791240"/>
            <a:chOff x="1200240" y="1158840"/>
            <a:chExt cx="6669000" cy="4791240"/>
          </a:xfrm>
        </p:grpSpPr>
        <p:pic>
          <p:nvPicPr>
            <p:cNvPr id="356" name="Прямоугольник с двумя скругленными соседними углами 2" descr=""/>
            <p:cNvPicPr/>
            <p:nvPr/>
          </p:nvPicPr>
          <p:blipFill>
            <a:blip r:embed="rId1"/>
            <a:stretch/>
          </p:blipFill>
          <p:spPr>
            <a:xfrm>
              <a:off x="1200240" y="1158840"/>
              <a:ext cx="6669000" cy="47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487520" y="1425600"/>
              <a:ext cx="6095880" cy="44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«Бюджет для граждан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подготовлен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отделом бухгалтерского уч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администрации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Плеховского сельсовета Суджанского района Курской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Администрация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находится по адресу: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ул. Новая, дом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С. Плехово Суджанский район Курская область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Телефон 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(47143)3-15-23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электронная почта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dmplehovo@yandex.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Информацию о бюджете можно получить на официальном сайте Администрации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по адресу: </a:t>
              </a:r>
              <a:r>
                <a:rPr b="1" lang="en-US" sz="1800" spc="-1" strike="noStrike">
                  <a:solidFill>
                    <a:srgbClr val="ff0000"/>
                  </a:solidFill>
                  <a:latin typeface="Constantia"/>
                </a:rPr>
                <a:t>http</a:t>
              </a:r>
              <a:r>
                <a:rPr b="1" lang="en-US" sz="1400" spc="-1" strike="noStrike">
                  <a:solidFill>
                    <a:srgbClr val="ff0000"/>
                  </a:solidFill>
                  <a:latin typeface="Constantia"/>
                </a:rPr>
                <a:t>://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ий-сельсовет.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Прямоугольник 3"/>
          <p:cNvGrpSpPr/>
          <p:nvPr/>
        </p:nvGrpSpPr>
        <p:grpSpPr>
          <a:xfrm>
            <a:off x="1920960" y="365040"/>
            <a:ext cx="5370480" cy="762120"/>
            <a:chOff x="1920960" y="365040"/>
            <a:chExt cx="5370480" cy="762120"/>
          </a:xfrm>
        </p:grpSpPr>
        <p:pic>
          <p:nvPicPr>
            <p:cNvPr id="35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920960" y="365040"/>
              <a:ext cx="53704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979640" y="404640"/>
              <a:ext cx="5256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тактная информ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TextBox 4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46101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 Narrow"/>
              </a:rPr>
              <a:t>ЧТО ТАКОЕ БЮДЖЕТ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юдж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(от старонормандского 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bougett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— кошелёк, сумка, мешок с деньгами) — схема доходов и расходов определённого объекта (семьи, бизнеса, организации, государства и т. д.), устанавливаемая на определённый период време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4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4968720" cy="4605120"/>
          </a:xfrm>
          <a:prstGeom prst="rect">
            <a:avLst/>
          </a:prstGeom>
          <a:ln w="0">
            <a:noFill/>
          </a:ln>
        </p:spPr>
      </p:pic>
      <p:pic>
        <p:nvPicPr>
          <p:cNvPr id="289" name="TextBox 3" descr=""/>
          <p:cNvPicPr/>
          <p:nvPr/>
        </p:nvPicPr>
        <p:blipFill>
          <a:blip r:embed="rId3"/>
          <a:stretch/>
        </p:blipFill>
        <p:spPr>
          <a:xfrm>
            <a:off x="749160" y="901800"/>
            <a:ext cx="764568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059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Схема 3" descr=""/>
          <p:cNvPicPr/>
          <p:nvPr/>
        </p:nvPicPr>
        <p:blipFill>
          <a:blip r:embed="rId2"/>
          <a:stretch/>
        </p:blipFill>
        <p:spPr>
          <a:xfrm>
            <a:off x="725400" y="1195560"/>
            <a:ext cx="8431200" cy="53942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3203640" y="1557360"/>
            <a:ext cx="5832360" cy="1098360"/>
          </a:xfrm>
          <a:prstGeom prst="rect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бота по составлению проекта бюджета сельского совета начинается за несколько месяцев до начала очередного финансового года. Администрация Плеховского сельского утверждает перечень мероприятий по разработке проекта бюджета, определяет ответственных исполнителей и сроки исполнения.</a:t>
            </a:r>
            <a:r>
              <a:rPr b="0" lang="ru-RU" sz="11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посредственное составление проекта бюджета осуществляет финансовый отдел Администрации Плеховского сельсовета Суджанского района Курской об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3203640" y="3068640"/>
            <a:ext cx="5813280" cy="160056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формированный проект бюджета сельского совета Глава вносит на рассмотрение Собрания депутатов не позднее 15 ноября текущего г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проекту бюджета проводятся публичные слушания. Для этого проект бюджета размещается на официальном сайте сельского совета в сети «Интернет». В слушаниях участвуют граждане, проживающие на территории муниципального образования  и обладающие активным избирательным правом, а также представители организаций, осуществляющих деятельность на территории сельского совета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брание депутатов рассматривает проект решения о бюджете в одном чте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3203640" y="5300640"/>
            <a:ext cx="5832360" cy="1174320"/>
          </a:xfrm>
          <a:prstGeom prst="rect">
            <a:avLst/>
          </a:prstGeom>
          <a:solidFill>
            <a:srgbClr val="edf3db"/>
          </a:solidFill>
          <a:ln w="381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оект бюджета сельского совета утверждается Собранием депутатов Плеховского сельсовета в форме Решения о бюджете на очередной финансовый год и плановый период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нятое Собранием депутатов Решение о бюджете подлежит обнародованию путем опубликования его в средствах массовой информации и размещения на официальном сайте сельского совета в сети «Интернет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TextBox 6" descr=""/>
          <p:cNvPicPr/>
          <p:nvPr/>
        </p:nvPicPr>
        <p:blipFill>
          <a:blip r:embed="rId3"/>
          <a:stretch/>
        </p:blipFill>
        <p:spPr>
          <a:xfrm>
            <a:off x="2771640" y="189000"/>
            <a:ext cx="59850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Picture 19" descr="wide blue arrow with fade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816280" y="1557360"/>
            <a:ext cx="3429000" cy="380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0"/>
          <p:cNvSpPr/>
          <p:nvPr/>
        </p:nvSpPr>
        <p:spPr>
          <a:xfrm>
            <a:off x="826920" y="1484280"/>
            <a:ext cx="6697800" cy="131364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ание Президента Российской Федерации Федеральному Собранию Российской Федерации, определяющее бюджетную политику (требования к бюджетной политике)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755640" y="3284640"/>
            <a:ext cx="7548480" cy="36828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 социально-экономического развития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755640" y="4292640"/>
            <a:ext cx="754848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 бюдже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алоговой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684360" y="5300640"/>
            <a:ext cx="758340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ые программы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TextBox 4" descr=""/>
          <p:cNvPicPr/>
          <p:nvPr/>
        </p:nvPicPr>
        <p:blipFill>
          <a:blip r:embed="rId3"/>
          <a:stretch/>
        </p:blipFill>
        <p:spPr>
          <a:xfrm>
            <a:off x="627120" y="0"/>
            <a:ext cx="85168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16"/>
          <p:cNvSpPr/>
          <p:nvPr/>
        </p:nvSpPr>
        <p:spPr>
          <a:xfrm>
            <a:off x="539640" y="1557360"/>
            <a:ext cx="8425080" cy="3311640"/>
          </a:xfrm>
          <a:prstGeom prst="horizontalScroll">
            <a:avLst>
              <a:gd name="adj" fmla="val 1879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джет сельского совета– это ежего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верждаемый Решением Собрания депу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ьского совета свод доходов и расходо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редной финансовый год и плано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од (2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1258920" y="4762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БЮД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Плеховского сельсовета Суджанского района Кур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Arial"/>
              </a:rPr>
              <a:t>Принципы формирования бюдже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4360" y="1916280"/>
          <a:ext cx="8351640" cy="43909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92376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сбалансированности и устойчивости бюджетной систе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08972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результативности бюджетных расходов, достижение установленных показател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237780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прозрачности и открытости бюджетного процесса для гражда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эффективности испо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ой собственност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Arial"/>
              </a:rPr>
              <a:t>Плеховский сельсовет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Скругленный прямоугольник 3"/>
          <p:cNvSpPr/>
          <p:nvPr/>
        </p:nvSpPr>
        <p:spPr>
          <a:xfrm>
            <a:off x="684360" y="981000"/>
            <a:ext cx="8064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6f7"/>
              </a:gs>
              <a:gs pos="100000">
                <a:srgbClr val="c8e3fb"/>
              </a:gs>
            </a:gsLst>
            <a:lin ang="54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1608"/>
                </a:solidFill>
                <a:latin typeface="Constantia"/>
              </a:rPr>
              <a:t>Расходы бюджета сопоставляются с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4"/>
          <p:cNvSpPr/>
          <p:nvPr/>
        </p:nvSpPr>
        <p:spPr>
          <a:xfrm>
            <a:off x="684360" y="2079720"/>
            <a:ext cx="1584000" cy="431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5"/>
          <p:cNvSpPr/>
          <p:nvPr/>
        </p:nvSpPr>
        <p:spPr>
          <a:xfrm>
            <a:off x="4435560" y="1857240"/>
            <a:ext cx="1727280" cy="901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6"/>
          <p:cNvSpPr/>
          <p:nvPr/>
        </p:nvSpPr>
        <p:spPr>
          <a:xfrm>
            <a:off x="2482920" y="208908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5003640" y="203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4094280" y="212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0"/>
          <p:cNvSpPr/>
          <p:nvPr/>
        </p:nvSpPr>
        <p:spPr>
          <a:xfrm>
            <a:off x="2268360" y="2111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3"/>
          <p:cNvSpPr/>
          <p:nvPr/>
        </p:nvSpPr>
        <p:spPr>
          <a:xfrm>
            <a:off x="6667560" y="1682640"/>
            <a:ext cx="2081160" cy="6127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en-US" sz="1800" spc="-1" strike="noStrike">
                <a:solidFill>
                  <a:srgbClr val="006600"/>
                </a:solidFill>
                <a:latin typeface="Constantia"/>
              </a:rPr>
              <a:t>больше</a:t>
            </a: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667560" y="2425680"/>
            <a:ext cx="2081160" cy="696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en-US" sz="1800" spc="-1" strike="noStrike">
                <a:solidFill>
                  <a:srgbClr val="006600"/>
                </a:solidFill>
                <a:latin typeface="Constantia"/>
              </a:rPr>
              <a:t>меньше</a:t>
            </a: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9"/>
          <p:cNvGrpSpPr/>
          <p:nvPr/>
        </p:nvGrpSpPr>
        <p:grpSpPr>
          <a:xfrm>
            <a:off x="725400" y="2903400"/>
            <a:ext cx="2592360" cy="2288520"/>
            <a:chOff x="725400" y="2903400"/>
            <a:chExt cx="2592360" cy="2288520"/>
          </a:xfrm>
        </p:grpSpPr>
        <p:sp>
          <p:nvSpPr>
            <p:cNvPr id="318" name="TextBox 17"/>
            <p:cNvSpPr/>
            <p:nvPr/>
          </p:nvSpPr>
          <p:spPr>
            <a:xfrm>
              <a:off x="725400" y="29034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0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310,7         2310,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Левая фигурная скобка 18"/>
            <p:cNvSpPr/>
            <p:nvPr/>
          </p:nvSpPr>
          <p:spPr>
            <a:xfrm rot="16200000">
              <a:off x="1815840" y="31363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b16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Группа 20"/>
          <p:cNvGrpSpPr/>
          <p:nvPr/>
        </p:nvGrpSpPr>
        <p:grpSpPr>
          <a:xfrm>
            <a:off x="3419640" y="3141720"/>
            <a:ext cx="2592360" cy="2288520"/>
            <a:chOff x="3419640" y="3141720"/>
            <a:chExt cx="2592360" cy="2288520"/>
          </a:xfrm>
        </p:grpSpPr>
        <p:sp>
          <p:nvSpPr>
            <p:cNvPr id="321" name="TextBox 21"/>
            <p:cNvSpPr/>
            <p:nvPr/>
          </p:nvSpPr>
          <p:spPr>
            <a:xfrm>
              <a:off x="3419640" y="314172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1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16,8       1016,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Левая фигурная скобка 22"/>
            <p:cNvSpPr/>
            <p:nvPr/>
          </p:nvSpPr>
          <p:spPr>
            <a:xfrm rot="16200000">
              <a:off x="4510080" y="337464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23"/>
          <p:cNvGrpSpPr/>
          <p:nvPr/>
        </p:nvGrpSpPr>
        <p:grpSpPr>
          <a:xfrm>
            <a:off x="6300720" y="3429000"/>
            <a:ext cx="2592360" cy="2288520"/>
            <a:chOff x="6300720" y="3429000"/>
            <a:chExt cx="2592360" cy="2288520"/>
          </a:xfrm>
        </p:grpSpPr>
        <p:sp>
          <p:nvSpPr>
            <p:cNvPr id="324" name="TextBox 24"/>
            <p:cNvSpPr/>
            <p:nvPr/>
          </p:nvSpPr>
          <p:spPr>
            <a:xfrm>
              <a:off x="6300720" y="34290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2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20,6          1020,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Левая фигурная скобка 25"/>
            <p:cNvSpPr/>
            <p:nvPr/>
          </p:nvSpPr>
          <p:spPr>
            <a:xfrm rot="16200000">
              <a:off x="7391160" y="36619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Box 1"/>
          <p:cNvSpPr/>
          <p:nvPr/>
        </p:nvSpPr>
        <p:spPr>
          <a:xfrm>
            <a:off x="725400" y="16826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Двойная стрелка влево/вправо 2"/>
          <p:cNvSpPr/>
          <p:nvPr/>
        </p:nvSpPr>
        <p:spPr>
          <a:xfrm>
            <a:off x="5873760" y="1914480"/>
            <a:ext cx="938160" cy="238320"/>
          </a:xfrm>
          <a:prstGeom prst="left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Двойная стрелка влево/вправо 27"/>
          <p:cNvSpPr/>
          <p:nvPr/>
        </p:nvSpPr>
        <p:spPr>
          <a:xfrm>
            <a:off x="5913360" y="2521080"/>
            <a:ext cx="858960" cy="210960"/>
          </a:xfrm>
          <a:prstGeom prst="leftRight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omputer</cp:lastModifiedBy>
  <cp:lastPrinted>2013-10-03T09:30:52Z</cp:lastPrinted>
  <dcterms:modified xsi:type="dcterms:W3CDTF">2019-12-30T08:46:22Z</dcterms:modified>
  <cp:revision>214</cp:revision>
  <dc:subject/>
  <dc:title>Слайд 1</dc:title>
</cp:coreProperties>
</file>