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065F9-CBA8-4270-9BCE-38AC454DDF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54CFC-2B69-4859-BE4B-9D5A203471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29E29-2B45-432E-9973-834A05BEFB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5EFAC-20DF-4A05-B74B-D9491ABF7D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8022C-688A-4018-96EA-358EE635E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786384-A0E1-4204-8388-609A1D82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4EE08C-45E0-4D68-9FED-F254419C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3FDE4D-0EF9-4580-897E-4AE7D693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C72111-7E4A-4D1B-BA15-00FA7593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BD9EA-0D39-4599-BFBD-1D780F9D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FC53EB-A25C-4781-B6D5-44D35EE7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75AA1-5C3C-4913-96EF-460C1EDA39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3DC70C-1135-4502-8315-A688855D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C2F0DF-A9D5-4CEE-8755-7A534FA7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577379-7E36-4FC2-A03F-69200254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8E2949-9D8B-40CE-8FEF-92E55B73F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01B93-8C87-43D1-A9E6-8BD708BDB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CA9FD-6441-4FBB-802A-CD439CD93A2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0D741B-E552-4E10-B0FF-909B9CEFF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21025D-66E8-403B-8EDF-C613D18D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BF6F92-F990-46F7-A5D8-68F41C4F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87FA0-C6B1-45CB-A258-B9BE71D66A7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295BBC-D890-48F2-A7CB-54F3695E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99A29C-4D47-484B-9838-589E3A2B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4E6B86-574D-4042-93AB-B04ED449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69AA52-470B-4AA6-A8E6-4C4A6D2F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3D1A7E-38E3-4663-9BBA-EC78E8AA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25B4E3-81B5-421B-A826-2CA8025D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76B24F-46C2-4FEA-A375-9379333E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297804-1095-4792-BCFB-C94CF9EFA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3DD9B0-90F0-411F-A8C6-9FE1EFD1E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1DAF11-7FC8-49C5-9C97-339EECEE0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B4863-CF39-4602-B9FE-22597784733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7FC30A-3068-49FA-B5AF-FDE37B8A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8641B8-030B-4264-B375-754AB9A8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BDD28C-0701-4ECE-8C09-84A30874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F8E897-1C2E-4375-8D46-5BD6AEBA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76AD48-44BC-4189-A672-D1174159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701DE9-3B7B-4396-823C-DB9018C2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B95B8F-F4AF-40D8-98A0-597002DF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C64EF4-71AD-4262-9998-3E44585C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8095D5-15E1-4F80-A7E3-A5789BB0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B4F991-2FAB-44F3-865C-F02E03451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61343-A5C0-46A6-879B-8CF06560EDD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34DE98-47BD-44A6-BDD5-C012C0C27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A8C533-14C6-4950-A83B-952CCE9D7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C28259-DD7A-4019-B223-C2192A19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DE121D-8F74-4E2A-8298-ED37F681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97CB80-7850-4355-BC3C-A16154E8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A2AE45-D451-433A-BC31-1AAD1C2C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4851B8-11EC-4856-91E5-E3CB76CD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DFE909-3C02-45AE-ABA6-54A2738D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AE5595-1B04-482B-BBE1-7408A125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85CBD6-7508-42BF-A938-751509A1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40A14-B586-4ECE-B4CC-29FD00AF401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21DEA8-3449-4408-AE7F-32E3D5B2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2B1D72-D206-4EA3-A1A7-0EB740E4A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DF0620-B9A7-48B5-968A-0D4B52F48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971C1-A2F9-421B-B99F-AEA2AFF3D2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96CF5-B89E-4B3D-B97E-48BE46402B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aa8b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36360" y="-27000"/>
            <a:ext cx="8353440" cy="6869160"/>
          </a:xfrm>
          <a:custGeom>
            <a:avLst/>
            <a:gdLst>
              <a:gd name="textAreaLeft" fmla="*/ 0 w 8353440"/>
              <a:gd name="textAreaRight" fmla="*/ 8353800 w 8353440"/>
              <a:gd name="textAreaTop" fmla="*/ 0 h 6869160"/>
              <a:gd name="textAreaBottom" fmla="*/ 6869520 h 6869160"/>
            </a:gdLst>
            <a:ahLst/>
            <a:rect l="textAreaLeft" t="textAreaTop" r="textAreaRight" b="textAreaBottom"/>
            <a:pathLst>
              <a:path w="5381" h="4327">
                <a:moveTo>
                  <a:pt x="4017" y="17"/>
                </a:moveTo>
                <a:cubicBezTo>
                  <a:pt x="4909" y="388"/>
                  <a:pt x="5372" y="1508"/>
                  <a:pt x="5351" y="2225"/>
                </a:cubicBezTo>
                <a:cubicBezTo>
                  <a:pt x="5381" y="2951"/>
                  <a:pt x="4783" y="3968"/>
                  <a:pt x="3892" y="4318"/>
                </a:cubicBezTo>
                <a:lnTo>
                  <a:pt x="4" y="4327"/>
                </a:lnTo>
                <a:lnTo>
                  <a:pt x="0" y="0"/>
                </a:lnTo>
                <a:lnTo>
                  <a:pt x="4017" y="17"/>
                </a:lnTo>
                <a:close/>
              </a:path>
            </a:pathLst>
          </a:custGeom>
          <a:gradFill rotWithShape="0">
            <a:gsLst>
              <a:gs pos="0">
                <a:srgbClr val="bdd3dd"/>
              </a:gs>
              <a:gs pos="50000">
                <a:srgbClr val="e4edf1"/>
              </a:gs>
              <a:gs pos="100000">
                <a:srgbClr val="bdd3dd"/>
              </a:gs>
            </a:gsLst>
            <a:lin ang="5400000"/>
          </a:gradFill>
          <a:ln w="0">
            <a:noFill/>
          </a:ln>
          <a:effectLst>
            <a:outerShdw dist="80486" dir="1110959" blurRad="0" rotWithShape="0">
              <a:srgbClr val="8ea8a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-36360" y="4019400"/>
            <a:ext cx="9189720" cy="2951280"/>
          </a:xfrm>
          <a:custGeom>
            <a:avLst/>
            <a:gdLst>
              <a:gd name="textAreaLeft" fmla="*/ 0 w 9189720"/>
              <a:gd name="textAreaRight" fmla="*/ 9190080 w 9189720"/>
              <a:gd name="textAreaTop" fmla="*/ 0 h 2951280"/>
              <a:gd name="textAreaBottom" fmla="*/ 2951640 h 2951280"/>
            </a:gdLst>
            <a:ahLst/>
            <a:rect l="textAreaLeft" t="textAreaTop" r="textAreaRight" b="textAreaBottom"/>
            <a:pathLst>
              <a:path w="6272" h="1859">
                <a:moveTo>
                  <a:pt x="6252" y="0"/>
                </a:moveTo>
                <a:cubicBezTo>
                  <a:pt x="5993" y="312"/>
                  <a:pt x="5343" y="907"/>
                  <a:pt x="4292" y="1159"/>
                </a:cubicBezTo>
                <a:cubicBezTo>
                  <a:pt x="3246" y="1409"/>
                  <a:pt x="1125" y="1500"/>
                  <a:pt x="16" y="1464"/>
                </a:cubicBezTo>
                <a:cubicBezTo>
                  <a:pt x="16" y="1600"/>
                  <a:pt x="0" y="1859"/>
                  <a:pt x="2" y="1831"/>
                </a:cubicBezTo>
                <a:cubicBezTo>
                  <a:pt x="2" y="1831"/>
                  <a:pt x="3103" y="1790"/>
                  <a:pt x="6272" y="1808"/>
                </a:cubicBezTo>
                <a:cubicBezTo>
                  <a:pt x="6262" y="953"/>
                  <a:pt x="6256" y="379"/>
                  <a:pt x="6252" y="0"/>
                </a:cubicBezTo>
                <a:close/>
              </a:path>
            </a:pathLst>
          </a:custGeom>
          <a:solidFill>
            <a:srgbClr val="a6c4d2"/>
          </a:solidFill>
          <a:ln w="0">
            <a:noFill/>
          </a:ln>
          <a:effectLst>
            <a:outerShdw dist="107932" dir="13500000" blurRad="0" rotWithShape="0">
              <a:srgbClr val="8ea8a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-47520" y="-33480"/>
            <a:ext cx="9190080" cy="1230480"/>
          </a:xfrm>
          <a:custGeom>
            <a:avLst/>
            <a:gdLst>
              <a:gd name="textAreaLeft" fmla="*/ 0 w 9190080"/>
              <a:gd name="textAreaRight" fmla="*/ 9190440 w 9190080"/>
              <a:gd name="textAreaTop" fmla="*/ 0 h 1230480"/>
              <a:gd name="textAreaBottom" fmla="*/ 1230480 h 1230480"/>
            </a:gdLst>
            <a:ahLst/>
            <a:rect l="textAreaLeft" t="textAreaTop" r="textAreaRight" b="textAreaBottom"/>
            <a:pathLst>
              <a:path w="6272" h="775">
                <a:moveTo>
                  <a:pt x="5" y="775"/>
                </a:moveTo>
                <a:cubicBezTo>
                  <a:pt x="263" y="647"/>
                  <a:pt x="1003" y="398"/>
                  <a:pt x="2054" y="295"/>
                </a:cubicBezTo>
                <a:cubicBezTo>
                  <a:pt x="3102" y="192"/>
                  <a:pt x="5151" y="145"/>
                  <a:pt x="6260" y="160"/>
                </a:cubicBezTo>
                <a:cubicBezTo>
                  <a:pt x="6260" y="104"/>
                  <a:pt x="6272" y="0"/>
                  <a:pt x="6270" y="11"/>
                </a:cubicBezTo>
                <a:cubicBezTo>
                  <a:pt x="6270" y="11"/>
                  <a:pt x="3178" y="11"/>
                  <a:pt x="8" y="4"/>
                </a:cubicBezTo>
                <a:cubicBezTo>
                  <a:pt x="17" y="355"/>
                  <a:pt x="0" y="619"/>
                  <a:pt x="5" y="775"/>
                </a:cubicBezTo>
                <a:close/>
              </a:path>
            </a:pathLst>
          </a:custGeom>
          <a:solidFill>
            <a:srgbClr val="a6c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547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c628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C955-6152-4CD6-8B40-06134129DA19}" type="slidenum">
              <a:rPr b="0" lang="ru-RU" sz="1400" spc="-1" strike="noStrike">
                <a:solidFill>
                  <a:srgbClr val="2c628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C1C7-7430-434C-BDD9-4DB8779F704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1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2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0" descr="731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0912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aa8bc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4"/>
          <p:cNvSpPr/>
          <p:nvPr/>
        </p:nvSpPr>
        <p:spPr>
          <a:xfrm>
            <a:off x="-12600" y="4010040"/>
            <a:ext cx="9182160" cy="2892240"/>
          </a:xfrm>
          <a:custGeom>
            <a:avLst/>
            <a:gdLst>
              <a:gd name="textAreaLeft" fmla="*/ 0 w 9182160"/>
              <a:gd name="textAreaRight" fmla="*/ 9182520 w 9182160"/>
              <a:gd name="textAreaTop" fmla="*/ 0 h 2892240"/>
              <a:gd name="textAreaBottom" fmla="*/ 2892240 h 2892240"/>
            </a:gdLst>
            <a:ahLst/>
            <a:rect l="textAreaLeft" t="textAreaTop" r="textAreaRight" b="textAreaBottom"/>
            <a:pathLst>
              <a:path w="5784" h="1822">
                <a:moveTo>
                  <a:pt x="5760" y="0"/>
                </a:moveTo>
                <a:cubicBezTo>
                  <a:pt x="5521" y="312"/>
                  <a:pt x="4917" y="913"/>
                  <a:pt x="3947" y="1165"/>
                </a:cubicBezTo>
                <a:cubicBezTo>
                  <a:pt x="2981" y="1415"/>
                  <a:pt x="1023" y="1506"/>
                  <a:pt x="0" y="1470"/>
                </a:cubicBezTo>
                <a:cubicBezTo>
                  <a:pt x="0" y="1606"/>
                  <a:pt x="14" y="1822"/>
                  <a:pt x="16" y="1794"/>
                </a:cubicBezTo>
                <a:cubicBezTo>
                  <a:pt x="1818" y="1819"/>
                  <a:pt x="4180" y="1803"/>
                  <a:pt x="5784" y="1802"/>
                </a:cubicBezTo>
                <a:cubicBezTo>
                  <a:pt x="5776" y="989"/>
                  <a:pt x="5763" y="370"/>
                  <a:pt x="5760" y="0"/>
                </a:cubicBezTo>
                <a:close/>
              </a:path>
            </a:pathLst>
          </a:custGeom>
          <a:gradFill rotWithShape="0">
            <a:gsLst>
              <a:gs pos="0">
                <a:srgbClr val="6197af">
                  <a:alpha val="58039"/>
                </a:srgbClr>
              </a:gs>
              <a:gs pos="100000">
                <a:srgbClr val="1a708e"/>
              </a:gs>
            </a:gsLst>
            <a:lin ang="0"/>
          </a:gradFill>
          <a:ln w="0">
            <a:noFill/>
          </a:ln>
          <a:effectLst>
            <a:outerShdw dist="107932" dir="13500000" blurRad="0" rotWithShape="0">
              <a:srgbClr val="c2d7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5"/>
          <p:cNvSpPr/>
          <p:nvPr/>
        </p:nvSpPr>
        <p:spPr>
          <a:xfrm>
            <a:off x="-25560" y="-39600"/>
            <a:ext cx="9185400" cy="2181240"/>
          </a:xfrm>
          <a:custGeom>
            <a:avLst/>
            <a:gdLst>
              <a:gd name="textAreaLeft" fmla="*/ 0 w 9185400"/>
              <a:gd name="textAreaRight" fmla="*/ 9185400 w 9185400"/>
              <a:gd name="textAreaTop" fmla="*/ 0 h 2181240"/>
              <a:gd name="textAreaBottom" fmla="*/ 2181600 h 2181240"/>
            </a:gdLst>
            <a:ahLst/>
            <a:rect l="textAreaLeft" t="textAreaTop" r="textAreaRight" b="textAreaBottom"/>
            <a:pathLst>
              <a:path w="5786" h="1374">
                <a:moveTo>
                  <a:pt x="8" y="1374"/>
                </a:moveTo>
                <a:cubicBezTo>
                  <a:pt x="246" y="1148"/>
                  <a:pt x="942" y="721"/>
                  <a:pt x="1912" y="538"/>
                </a:cubicBezTo>
                <a:cubicBezTo>
                  <a:pt x="2879" y="356"/>
                  <a:pt x="4761" y="262"/>
                  <a:pt x="5784" y="288"/>
                </a:cubicBezTo>
                <a:cubicBezTo>
                  <a:pt x="5784" y="190"/>
                  <a:pt x="5786" y="5"/>
                  <a:pt x="5784" y="25"/>
                </a:cubicBezTo>
                <a:cubicBezTo>
                  <a:pt x="5784" y="25"/>
                  <a:pt x="2926" y="12"/>
                  <a:pt x="0" y="0"/>
                </a:cubicBezTo>
                <a:cubicBezTo>
                  <a:pt x="9" y="620"/>
                  <a:pt x="3" y="1099"/>
                  <a:pt x="8" y="1374"/>
                </a:cubicBezTo>
                <a:close/>
              </a:path>
            </a:pathLst>
          </a:custGeom>
          <a:gradFill rotWithShape="0">
            <a:gsLst>
              <a:gs pos="0">
                <a:srgbClr val="1a708e"/>
              </a:gs>
              <a:gs pos="100000">
                <a:srgbClr val="6197af">
                  <a:alpha val="58039"/>
                </a:srgbClr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c2d7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Карта области4"/>
          <p:cNvPicPr/>
          <p:nvPr/>
        </p:nvPicPr>
        <p:blipFill>
          <a:blip r:embed="rId3"/>
          <a:stretch/>
        </p:blipFill>
        <p:spPr>
          <a:xfrm>
            <a:off x="2195640" y="189000"/>
            <a:ext cx="4564080" cy="6497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547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9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0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3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772A-FCF6-4CED-86CA-17A7594871F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9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0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93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8C8E-E902-4565-B817-7D67ADB66BD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C45D-7817-4321-AD7B-EBE03E591C7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Бюджет для граждан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82" name="Рисунок 5" descr=""/>
          <p:cNvPicPr/>
          <p:nvPr/>
        </p:nvPicPr>
        <p:blipFill>
          <a:blip r:embed="rId2"/>
          <a:stretch/>
        </p:blipFill>
        <p:spPr>
          <a:xfrm>
            <a:off x="1403280" y="1916280"/>
            <a:ext cx="6384960" cy="43891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 rot="21109200">
            <a:off x="3226320" y="2271600"/>
            <a:ext cx="115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6228"/>
                </a:solidFill>
                <a:latin typeface="Arial"/>
              </a:rPr>
              <a:t>Бюджет                для гражд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6228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4f6228"/>
                </a:solidFill>
                <a:latin typeface="Arial"/>
              </a:rPr>
              <a:t>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Box 3"/>
          <p:cNvSpPr/>
          <p:nvPr/>
        </p:nvSpPr>
        <p:spPr>
          <a:xfrm>
            <a:off x="179280" y="189000"/>
            <a:ext cx="186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Источники формир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4"/>
          <p:cNvSpPr/>
          <p:nvPr/>
        </p:nvSpPr>
        <p:spPr>
          <a:xfrm>
            <a:off x="3492360" y="189000"/>
            <a:ext cx="266400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БЮДЖЕТ СЕЛЬСКОГО сов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250920" y="1773360"/>
          <a:ext cx="1944720" cy="457200"/>
        </p:xfrm>
        <a:graphic>
          <a:graphicData uri="http://schemas.openxmlformats.org/drawingml/2006/table">
            <a:tbl>
              <a:tblPr/>
              <a:tblGrid>
                <a:gridCol w="194472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Налоговые и неналоговые дохо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3348000" y="2565360"/>
          <a:ext cx="1665360" cy="2103480"/>
        </p:xfrm>
        <a:graphic>
          <a:graphicData uri="http://schemas.openxmlformats.org/drawingml/2006/table">
            <a:tbl>
              <a:tblPr/>
              <a:tblGrid>
                <a:gridCol w="1665360"/>
              </a:tblGrid>
              <a:tr h="2103480">
                <a:tc>
                  <a:txBody>
                    <a:bodyPr anchor="t">
                      <a:noAutofit/>
                    </a:bodyPr>
                    <a:p>
                      <a:pPr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отаци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убсиди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убвенции на исполнение государственных полномочий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2843280" y="1773360"/>
          <a:ext cx="1657440" cy="457200"/>
        </p:xfrm>
        <a:graphic>
          <a:graphicData uri="http://schemas.openxmlformats.org/drawingml/2006/table">
            <a:tbl>
              <a:tblPr/>
              <a:tblGrid>
                <a:gridCol w="1657440"/>
              </a:tblGrid>
              <a:tr h="4590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Безвозмездные поступ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  <p:sp>
        <p:nvSpPr>
          <p:cNvPr id="334" name="TextBox 14"/>
          <p:cNvSpPr/>
          <p:nvPr/>
        </p:nvSpPr>
        <p:spPr>
          <a:xfrm>
            <a:off x="6804000" y="189000"/>
            <a:ext cx="201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Направления исполь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5292720" y="1700280"/>
          <a:ext cx="3714840" cy="500040"/>
        </p:xfrm>
        <a:graphic>
          <a:graphicData uri="http://schemas.openxmlformats.org/drawingml/2006/table">
            <a:tbl>
              <a:tblPr/>
              <a:tblGrid>
                <a:gridCol w="3714840"/>
              </a:tblGrid>
              <a:tr h="5000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Осуществление части государственных полномочий, переданных органам МС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336" name="TextBox 17"/>
          <p:cNvSpPr/>
          <p:nvPr/>
        </p:nvSpPr>
        <p:spPr>
          <a:xfrm>
            <a:off x="5292720" y="2205000"/>
            <a:ext cx="3714840" cy="824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Arial"/>
              </a:rPr>
              <a:t>Исполнение государственного полномочия на осуществление первичного воинского учета на территориях, где отсутствуют военные комиссари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5292720" y="3068640"/>
          <a:ext cx="3714840" cy="528480"/>
        </p:xfrm>
        <a:graphic>
          <a:graphicData uri="http://schemas.openxmlformats.org/drawingml/2006/table">
            <a:tbl>
              <a:tblPr/>
              <a:tblGrid>
                <a:gridCol w="3714840"/>
              </a:tblGrid>
              <a:tr h="5284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Расходы связанные с обеспечением задач местного зна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338" name="TextBox 19"/>
          <p:cNvSpPr/>
          <p:nvPr/>
        </p:nvSpPr>
        <p:spPr>
          <a:xfrm>
            <a:off x="5286240" y="3643200"/>
            <a:ext cx="3714840" cy="2284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Arial"/>
              </a:rPr>
              <a:t>Содержание органов местного само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Arial"/>
              </a:rPr>
              <a:t>Благоустройство территории муниципального образ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Arial"/>
              </a:rPr>
              <a:t>Расходы на исполнение полномочия по опубликованию муниципальных правовых актов, иной официальной информации в печатном С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Arial"/>
              </a:rPr>
              <a:t>Обеспечение первичных мер пожарной безопас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Arial"/>
              </a:rPr>
              <a:t>Обеспечение деятельности добровольных народных друж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79280" y="4923000"/>
          <a:ext cx="3600720" cy="1188720"/>
        </p:xfrm>
        <a:graphic>
          <a:graphicData uri="http://schemas.openxmlformats.org/drawingml/2006/table">
            <a:tbl>
              <a:tblPr/>
              <a:tblGrid>
                <a:gridCol w="3600720"/>
              </a:tblGrid>
              <a:tr h="1188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местные налоги и сборы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лог на имущество физических лиц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  <p:sp>
        <p:nvSpPr>
          <p:cNvPr id="340" name="AutoShape 80"/>
          <p:cNvSpPr/>
          <p:nvPr/>
        </p:nvSpPr>
        <p:spPr>
          <a:xfrm rot="3021600">
            <a:off x="1547280" y="1267920"/>
            <a:ext cx="43200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82"/>
          <p:cNvSpPr/>
          <p:nvPr/>
        </p:nvSpPr>
        <p:spPr>
          <a:xfrm>
            <a:off x="1908000" y="836640"/>
            <a:ext cx="144000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До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86"/>
          <p:cNvSpPr/>
          <p:nvPr/>
        </p:nvSpPr>
        <p:spPr>
          <a:xfrm>
            <a:off x="6156360" y="907920"/>
            <a:ext cx="144000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87"/>
          <p:cNvSpPr/>
          <p:nvPr/>
        </p:nvSpPr>
        <p:spPr>
          <a:xfrm rot="18948600">
            <a:off x="3249720" y="1273320"/>
            <a:ext cx="358560" cy="477720"/>
          </a:xfrm>
          <a:prstGeom prst="downArrow">
            <a:avLst>
              <a:gd name="adj1" fmla="val 50000"/>
              <a:gd name="adj2" fmla="val 333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79280" y="2565360"/>
          <a:ext cx="2952720" cy="2087640"/>
        </p:xfrm>
        <a:graphic>
          <a:graphicData uri="http://schemas.openxmlformats.org/drawingml/2006/table">
            <a:tbl>
              <a:tblPr/>
              <a:tblGrid>
                <a:gridCol w="2952720"/>
              </a:tblGrid>
              <a:tr h="2087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федеральные налоги и сборы, налоги, предусмотренные специальными налоговыми режимам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алог на доходы физических лиц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  <p:sp>
        <p:nvSpPr>
          <p:cNvPr id="345" name="AutoShape 100"/>
          <p:cNvSpPr/>
          <p:nvPr/>
        </p:nvSpPr>
        <p:spPr>
          <a:xfrm>
            <a:off x="3924360" y="2276640"/>
            <a:ext cx="28728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03"/>
          <p:cNvSpPr/>
          <p:nvPr/>
        </p:nvSpPr>
        <p:spPr>
          <a:xfrm>
            <a:off x="1042920" y="2276640"/>
            <a:ext cx="28728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147"/>
          <p:cNvSpPr/>
          <p:nvPr/>
        </p:nvSpPr>
        <p:spPr>
          <a:xfrm>
            <a:off x="6804000" y="1484280"/>
            <a:ext cx="28728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Box 3"/>
          <p:cNvSpPr/>
          <p:nvPr/>
        </p:nvSpPr>
        <p:spPr>
          <a:xfrm>
            <a:off x="2698920" y="476280"/>
            <a:ext cx="3744720" cy="916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оходы бюджета Плехо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ельсовет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539640" y="1773360"/>
          <a:ext cx="7686720" cy="4383000"/>
        </p:xfrm>
        <a:graphic>
          <a:graphicData uri="http://schemas.openxmlformats.org/drawingml/2006/table">
            <a:tbl>
              <a:tblPr/>
              <a:tblGrid>
                <a:gridCol w="2664000"/>
                <a:gridCol w="1206360"/>
                <a:gridCol w="1225800"/>
                <a:gridCol w="1295280"/>
                <a:gridCol w="1295280"/>
              </a:tblGrid>
              <a:tr h="671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62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оговые и неналоговые 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80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 налог на доходы физических л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6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6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8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 налоги на имущ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8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 прочие налоговы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возмездные поступ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8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7,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дох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7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1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Box 3"/>
          <p:cNvSpPr/>
          <p:nvPr/>
        </p:nvSpPr>
        <p:spPr>
          <a:xfrm>
            <a:off x="900000" y="189000"/>
            <a:ext cx="6985080" cy="642600"/>
          </a:xfrm>
          <a:prstGeom prst="rect">
            <a:avLst/>
          </a:prstGeom>
          <a:solidFill>
            <a:srgbClr val="f0f8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ходы бюджета Плеховского сельсовета Суджанского района Ку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539640" y="836640"/>
          <a:ext cx="8207640" cy="2500200"/>
        </p:xfrm>
        <a:graphic>
          <a:graphicData uri="http://schemas.openxmlformats.org/drawingml/2006/table">
            <a:tbl>
              <a:tblPr/>
              <a:tblGrid>
                <a:gridCol w="3643560"/>
                <a:gridCol w="1643040"/>
                <a:gridCol w="1428480"/>
                <a:gridCol w="14925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 расходов (тыс. руб.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т.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</a:tr>
              <a:tr h="520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щегосударственные воп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</a:tr>
              <a:tr h="520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циональная об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452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а, кинематограф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5471"/>
                </a:solidFill>
                <a:latin typeface="Arial"/>
              </a:rPr>
              <a:t>ПЕРЕЧЕНЬ </a:t>
            </a:r>
            <a:br>
              <a:rPr sz="2000"/>
            </a:br>
            <a:r>
              <a:rPr b="1" lang="ru-RU" sz="2000" spc="-1" strike="noStrike">
                <a:solidFill>
                  <a:srgbClr val="255471"/>
                </a:solidFill>
                <a:latin typeface="Arial"/>
              </a:rPr>
              <a:t>муниципальных программ муниципального образования «Плеховский сельсовет»</a:t>
            </a:r>
            <a:endParaRPr b="1" lang="en-US" sz="2000" spc="-1" strike="noStrike">
              <a:solidFill>
                <a:srgbClr val="255471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457200" y="1600200"/>
          <a:ext cx="8229600" cy="5924520"/>
        </p:xfrm>
        <a:graphic>
          <a:graphicData uri="http://schemas.openxmlformats.org/drawingml/2006/table">
            <a:tbl>
              <a:tblPr/>
              <a:tblGrid>
                <a:gridCol w="571680"/>
                <a:gridCol w="4572000"/>
                <a:gridCol w="308592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аименование муниципальных программ муниципального образова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«Плеховский сельсовет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Ответственный исполн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униципальная программа «Развитие культуры» муниципального образования Плеховский сельсовет Суджанского района Курской обла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инистрация Плеховского сель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униципальная программа «Управление муниципальным имуществом и земельными ресурсам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инистрация Плеховского сель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униципальная программа «Развитие муниципальной службы муниципального образования «Плеховский сельсовет» Суджанского района Курской обла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инистрация Плеховского сель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униципальная программа «Защита населения и территорий от чрезвычайных ситуаций, обеспечение пожарной безопасности и безопасности людей на водных объектах муниципального образования «Плеховский сельсовет» Суджанского района Курской обла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инистрация Плеховского сель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униципальная программа «Обеспечение доступным и комфортным жильем и коммунальными услугами граждан в муниципального образования «Плеховский сельсовет» Суджанского района Курской обла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инистрация Плеховского сель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грамма комплексного развития транспортной инфраструктуры Плеховского сельсовета Суджанского района  Курской обла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инистрация Плеховского сель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униципаль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я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программ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Комплексные меры противодействия злоупотребле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ркотиками и их незаконному оборот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инистрация Плеховского сель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4FDE-55FF-45F7-9EDC-18977C088E75}" type="slidenum">
              <a:rPr b="0" lang="ru-RU" sz="1400" spc="-1" strike="noStrike">
                <a:solidFill>
                  <a:srgbClr val="2c628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Прямоугольник с двумя скругленными соседними углами 2"/>
          <p:cNvGrpSpPr/>
          <p:nvPr/>
        </p:nvGrpSpPr>
        <p:grpSpPr>
          <a:xfrm>
            <a:off x="1200240" y="1158840"/>
            <a:ext cx="6669000" cy="4791240"/>
            <a:chOff x="1200240" y="1158840"/>
            <a:chExt cx="6669000" cy="4791240"/>
          </a:xfrm>
        </p:grpSpPr>
        <p:pic>
          <p:nvPicPr>
            <p:cNvPr id="356" name="Прямоугольник с двумя скругленными соседними углами 2" descr=""/>
            <p:cNvPicPr/>
            <p:nvPr/>
          </p:nvPicPr>
          <p:blipFill>
            <a:blip r:embed="rId1"/>
            <a:stretch/>
          </p:blipFill>
          <p:spPr>
            <a:xfrm>
              <a:off x="1200240" y="1158840"/>
              <a:ext cx="6669000" cy="479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1487520" y="1425600"/>
              <a:ext cx="6095880" cy="44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a3130"/>
                  </a:solidFill>
                  <a:latin typeface="Constantia"/>
                </a:rPr>
                <a:t>«Бюджет для граждан»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a3130"/>
                  </a:solidFill>
                  <a:latin typeface="Constantia"/>
                </a:rPr>
                <a:t>подготовлен </a:t>
              </a:r>
              <a:r>
                <a:rPr b="1" lang="ru-RU" sz="1400" spc="-1" strike="noStrike">
                  <a:solidFill>
                    <a:srgbClr val="9a3130"/>
                  </a:solidFill>
                  <a:latin typeface="Arial"/>
                </a:rPr>
                <a:t>отделом бухгалтерского уче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a3130"/>
                  </a:solidFill>
                  <a:latin typeface="Constantia"/>
                </a:rPr>
                <a:t>администрации </a:t>
              </a:r>
              <a:r>
                <a:rPr b="1" lang="ru-RU" sz="1400" spc="-1" strike="noStrike">
                  <a:solidFill>
                    <a:srgbClr val="9a3130"/>
                  </a:solidFill>
                  <a:latin typeface="Arial"/>
                </a:rPr>
                <a:t>Плеховского сельсовета Суджанского района Курской обла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Constantia"/>
                </a:rPr>
                <a:t>Администрация </a:t>
              </a: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леховского сельсовета</a:t>
              </a:r>
              <a:r>
                <a:rPr b="1" lang="ru-RU" sz="1800" spc="-1" strike="noStrike">
                  <a:solidFill>
                    <a:srgbClr val="ff0000"/>
                  </a:solidFill>
                  <a:latin typeface="Constantia"/>
                </a:rPr>
                <a:t> находится по адресу: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ул. Новая, дом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С. Плехово Суджанский район Курская область</a:t>
              </a:r>
              <a:r>
                <a:rPr b="1" lang="ru-RU" sz="1800" spc="-1" strike="noStrike">
                  <a:solidFill>
                    <a:srgbClr val="ff0000"/>
                  </a:solidFill>
                  <a:latin typeface="Constantia"/>
                </a:rPr>
                <a:t> Телефон 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8(47143)3-15-23</a:t>
              </a:r>
              <a:r>
                <a:rPr b="1" lang="ru-RU" sz="1800" spc="-1" strike="noStrike">
                  <a:solidFill>
                    <a:srgbClr val="ff0000"/>
                  </a:solidFill>
                  <a:latin typeface="Constantia"/>
                </a:rPr>
                <a:t> электронная почта 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dmplehovo@yandex.r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Constantia"/>
                </a:rPr>
                <a:t>Информацию о бюджете можно получить на официальном сайте Администрации </a:t>
              </a: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леховского сельсовета</a:t>
              </a:r>
              <a:r>
                <a:rPr b="1" lang="ru-RU" sz="1800" spc="-1" strike="noStrike">
                  <a:solidFill>
                    <a:srgbClr val="ff0000"/>
                  </a:solidFill>
                  <a:latin typeface="Constantia"/>
                </a:rPr>
                <a:t> по адресу: </a:t>
              </a:r>
              <a:r>
                <a:rPr b="1" lang="en-US" sz="1800" spc="-1" strike="noStrike">
                  <a:solidFill>
                    <a:srgbClr val="ff0000"/>
                  </a:solidFill>
                  <a:latin typeface="Constantia"/>
                </a:rPr>
                <a:t>http</a:t>
              </a:r>
              <a:r>
                <a:rPr b="1" lang="en-US" sz="1400" spc="-1" strike="noStrike">
                  <a:solidFill>
                    <a:srgbClr val="ff0000"/>
                  </a:solidFill>
                  <a:latin typeface="Constantia"/>
                </a:rPr>
                <a:t>://</a:t>
              </a: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леховский-сельсовет.р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Прямоугольник 3"/>
          <p:cNvGrpSpPr/>
          <p:nvPr/>
        </p:nvGrpSpPr>
        <p:grpSpPr>
          <a:xfrm>
            <a:off x="1920960" y="365040"/>
            <a:ext cx="5370480" cy="762120"/>
            <a:chOff x="1920960" y="365040"/>
            <a:chExt cx="5370480" cy="762120"/>
          </a:xfrm>
        </p:grpSpPr>
        <p:pic>
          <p:nvPicPr>
            <p:cNvPr id="359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920960" y="365040"/>
              <a:ext cx="53704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1979640" y="404640"/>
              <a:ext cx="52563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нтактная информа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5" name="TextBox 4" descr=""/>
          <p:cNvPicPr/>
          <p:nvPr/>
        </p:nvPicPr>
        <p:blipFill>
          <a:blip r:embed="rId2"/>
          <a:stretch/>
        </p:blipFill>
        <p:spPr>
          <a:xfrm>
            <a:off x="1619280" y="1557360"/>
            <a:ext cx="461016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Arial Narrow"/>
              </a:rPr>
              <a:t>ЧТО ТАКОЕ БЮДЖЕТ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Бюджет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(от старонормандского 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bougette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— кошелёк, сумка, мешок с деньгами) — схема доходов и расходов определённого объекта (семьи, бизнеса, организации, государства и т. д.), устанавливаемая на определённый период времен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TextBox 4" descr=""/>
          <p:cNvPicPr/>
          <p:nvPr/>
        </p:nvPicPr>
        <p:blipFill>
          <a:blip r:embed="rId2"/>
          <a:stretch/>
        </p:blipFill>
        <p:spPr>
          <a:xfrm>
            <a:off x="1979640" y="1700280"/>
            <a:ext cx="4968720" cy="4605120"/>
          </a:xfrm>
          <a:prstGeom prst="rect">
            <a:avLst/>
          </a:prstGeom>
          <a:ln w="0">
            <a:noFill/>
          </a:ln>
        </p:spPr>
      </p:pic>
      <p:pic>
        <p:nvPicPr>
          <p:cNvPr id="289" name="TextBox 3" descr=""/>
          <p:cNvPicPr/>
          <p:nvPr/>
        </p:nvPicPr>
        <p:blipFill>
          <a:blip r:embed="rId3"/>
          <a:stretch/>
        </p:blipFill>
        <p:spPr>
          <a:xfrm>
            <a:off x="749160" y="901800"/>
            <a:ext cx="764568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80596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1" name="Схема 3" descr=""/>
          <p:cNvPicPr/>
          <p:nvPr/>
        </p:nvPicPr>
        <p:blipFill>
          <a:blip r:embed="rId2"/>
          <a:stretch/>
        </p:blipFill>
        <p:spPr>
          <a:xfrm>
            <a:off x="725400" y="1195560"/>
            <a:ext cx="8431200" cy="5394240"/>
          </a:xfrm>
          <a:prstGeom prst="rect">
            <a:avLst/>
          </a:prstGeom>
          <a:ln w="0">
            <a:noFill/>
          </a:ln>
        </p:spPr>
      </p:pic>
      <p:sp>
        <p:nvSpPr>
          <p:cNvPr id="292" name="TextBox 5"/>
          <p:cNvSpPr/>
          <p:nvPr/>
        </p:nvSpPr>
        <p:spPr>
          <a:xfrm>
            <a:off x="3203640" y="1557360"/>
            <a:ext cx="5832360" cy="1098360"/>
          </a:xfrm>
          <a:prstGeom prst="rect">
            <a:avLst/>
          </a:prstGeom>
          <a:solidFill>
            <a:srgbClr val="c8e3fb"/>
          </a:solidFill>
          <a:ln w="38160">
            <a:solidFill>
              <a:srgbClr val="0b5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абота по составлению проекта бюджета сельского совета начинается за несколько месяцев до начала очередного финансового года. Администрация Плеховского сельского утверждает перечень мероприятий по разработке проекта бюджета, определяет ответственных исполнителей и сроки исполнения.</a:t>
            </a:r>
            <a:r>
              <a:rPr b="0" lang="ru-RU" sz="1100" spc="-1" strike="noStrike">
                <a:solidFill>
                  <a:srgbClr val="009dd9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Непосредственное составление проекта бюджета осуществляет финансовый отдел Администрации Плеховского сельсовета Суджанского района Курской области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7"/>
          <p:cNvSpPr/>
          <p:nvPr/>
        </p:nvSpPr>
        <p:spPr>
          <a:xfrm>
            <a:off x="3203640" y="3068640"/>
            <a:ext cx="5813280" cy="1600560"/>
          </a:xfrm>
          <a:prstGeom prst="rect">
            <a:avLst/>
          </a:prstGeom>
          <a:solidFill>
            <a:srgbClr val="ffe8d1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формированный проект бюджета сельского совета Глава вносит на рассмотрение Собрания депутатов не позднее 15 ноября текущего год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о проекту бюджета проводятся публичные слушания. Для этого проект бюджета размещается на официальном сайте сельского совета в сети «Интернет». В слушаниях участвуют граждане, проживающие на территории муниципального образования  и обладающие активным избирательным правом, а также представители организаций, осуществляющих деятельность на территории сельского совета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обрание депутатов рассматривает проект решения о бюджете в одном чтени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8"/>
          <p:cNvSpPr/>
          <p:nvPr/>
        </p:nvSpPr>
        <p:spPr>
          <a:xfrm>
            <a:off x="3203640" y="5300640"/>
            <a:ext cx="5832360" cy="1174320"/>
          </a:xfrm>
          <a:prstGeom prst="rect">
            <a:avLst/>
          </a:prstGeom>
          <a:solidFill>
            <a:srgbClr val="edf3db"/>
          </a:solidFill>
          <a:ln w="381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оект бюджета сельского совета утверждается Собранием депутатов Плеховского сельсовета в форме Решения о бюджете на очередной финансовый год и плановый период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нятое Собранием депутатов Решение о бюджете подлежит обнародованию путем опубликования его в средствах массовой информации и размещения на официальном сайте сельского совета в сети «Интернет»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TextBox 6" descr=""/>
          <p:cNvPicPr/>
          <p:nvPr/>
        </p:nvPicPr>
        <p:blipFill>
          <a:blip r:embed="rId3"/>
          <a:stretch/>
        </p:blipFill>
        <p:spPr>
          <a:xfrm>
            <a:off x="2771640" y="189000"/>
            <a:ext cx="598500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11280" y="45540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7" name="Picture 19" descr="wide blue arrow with fade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2816280" y="1557360"/>
            <a:ext cx="3429000" cy="38088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20"/>
          <p:cNvSpPr/>
          <p:nvPr/>
        </p:nvSpPr>
        <p:spPr>
          <a:xfrm>
            <a:off x="826920" y="1484280"/>
            <a:ext cx="6697800" cy="1313640"/>
          </a:xfrm>
          <a:prstGeom prst="rect">
            <a:avLst/>
          </a:prstGeom>
          <a:gradFill rotWithShape="0">
            <a:gsLst>
              <a:gs pos="0">
                <a:srgbClr val="d3d3ae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лание Президента Российской Федерации Федеральному Собранию Российской Федерации, определяющее бюджетную политику (требования к бюджетной политике) в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4"/>
          <p:cNvSpPr/>
          <p:nvPr/>
        </p:nvSpPr>
        <p:spPr>
          <a:xfrm>
            <a:off x="755640" y="3284640"/>
            <a:ext cx="7548480" cy="368280"/>
          </a:xfrm>
          <a:prstGeom prst="rect">
            <a:avLst/>
          </a:prstGeom>
          <a:gradFill rotWithShape="0">
            <a:gsLst>
              <a:gs pos="0">
                <a:srgbClr val="d3d3ae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ноз социально-экономического развития терри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4"/>
          <p:cNvSpPr/>
          <p:nvPr/>
        </p:nvSpPr>
        <p:spPr>
          <a:xfrm>
            <a:off x="755640" y="4292640"/>
            <a:ext cx="7548480" cy="705960"/>
          </a:xfrm>
          <a:prstGeom prst="rect">
            <a:avLst/>
          </a:prstGeom>
          <a:gradFill rotWithShape="0">
            <a:gsLst>
              <a:gs pos="0">
                <a:srgbClr val="d3d3ae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направления бюджет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налоговой поли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4"/>
          <p:cNvSpPr/>
          <p:nvPr/>
        </p:nvSpPr>
        <p:spPr>
          <a:xfrm>
            <a:off x="684360" y="5300640"/>
            <a:ext cx="7583400" cy="705960"/>
          </a:xfrm>
          <a:prstGeom prst="rect">
            <a:avLst/>
          </a:prstGeom>
          <a:gradFill rotWithShape="0">
            <a:gsLst>
              <a:gs pos="0">
                <a:srgbClr val="d3d3ae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ниципальные программы терри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TextBox 4" descr=""/>
          <p:cNvPicPr/>
          <p:nvPr/>
        </p:nvPicPr>
        <p:blipFill>
          <a:blip r:embed="rId3"/>
          <a:stretch/>
        </p:blipFill>
        <p:spPr>
          <a:xfrm>
            <a:off x="627120" y="0"/>
            <a:ext cx="851688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AutoShape 16"/>
          <p:cNvSpPr/>
          <p:nvPr/>
        </p:nvSpPr>
        <p:spPr>
          <a:xfrm>
            <a:off x="539640" y="1557360"/>
            <a:ext cx="8425080" cy="3311640"/>
          </a:xfrm>
          <a:prstGeom prst="horizontalScroll">
            <a:avLst>
              <a:gd name="adj" fmla="val 18791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юджет сельского совета– это ежегод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тверждаемый Решением Собрания депу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льского совета свод доходов и расходов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чередной финансовый год и планов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од (2 го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3"/>
          <p:cNvSpPr/>
          <p:nvPr/>
        </p:nvSpPr>
        <p:spPr>
          <a:xfrm>
            <a:off x="1258920" y="476280"/>
            <a:ext cx="727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7026"/>
                </a:solidFill>
                <a:latin typeface="Arial"/>
              </a:rPr>
              <a:t>БЮДЖ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7026"/>
                </a:solidFill>
                <a:latin typeface="Arial"/>
              </a:rPr>
              <a:t>Плеховского сельсовета Суджанского района Курской обла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Arial"/>
              </a:rPr>
              <a:t>Принципы формирования бюджет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684360" y="1916280"/>
          <a:ext cx="8351640" cy="4390920"/>
        </p:xfrm>
        <a:graphic>
          <a:graphicData uri="http://schemas.openxmlformats.org/drawingml/2006/table">
            <a:tbl>
              <a:tblPr/>
              <a:tblGrid>
                <a:gridCol w="8351640"/>
              </a:tblGrid>
              <a:tr h="923760">
                <a:tc>
                  <a:txBody>
                    <a:bodyPr lIns="81360" rIns="813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сбалансированности и устойчивости бюджетной систем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gradFill rotWithShape="0">
                      <a:gsLst>
                        <a:gs pos="0">
                          <a:srgbClr val="e0e0c2"/>
                        </a:gs>
                        <a:gs pos="50000">
                          <a:srgbClr val="ffffff"/>
                        </a:gs>
                        <a:gs pos="100000">
                          <a:srgbClr val="e0e0c2"/>
                        </a:gs>
                      </a:gsLst>
                      <a:lin ang="5400000"/>
                    </a:gradFill>
                  </a:tcPr>
                </a:tc>
              </a:tr>
              <a:tr h="1089720">
                <a:tc>
                  <a:txBody>
                    <a:bodyPr lIns="81360" rIns="813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ышение результативности бюджетных расходов, достижение установленных показателе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gradFill rotWithShape="0">
                      <a:gsLst>
                        <a:gs pos="0">
                          <a:srgbClr val="e0e0c2"/>
                        </a:gs>
                        <a:gs pos="50000">
                          <a:srgbClr val="ffffff"/>
                        </a:gs>
                        <a:gs pos="100000">
                          <a:srgbClr val="e0e0c2"/>
                        </a:gs>
                      </a:gsLst>
                      <a:lin ang="5400000"/>
                    </a:gradFill>
                  </a:tcPr>
                </a:tc>
              </a:tr>
              <a:tr h="2377800">
                <a:tc>
                  <a:txBody>
                    <a:bodyPr lIns="81360" rIns="813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прозрачности и открытости бюджетного процесса для гражда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ышение эффективности использова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ой собственности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gradFill rotWithShape="0">
                      <a:gsLst>
                        <a:gs pos="0">
                          <a:srgbClr val="e0e0c2"/>
                        </a:gs>
                        <a:gs pos="50000">
                          <a:srgbClr val="ffffff"/>
                        </a:gs>
                        <a:gs pos="100000">
                          <a:srgbClr val="e0e0c2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4617b"/>
                </a:solidFill>
                <a:latin typeface="Arial"/>
              </a:rPr>
              <a:t>Плеховский сельсовет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Скругленный прямоугольник 3"/>
          <p:cNvSpPr/>
          <p:nvPr/>
        </p:nvSpPr>
        <p:spPr>
          <a:xfrm>
            <a:off x="684360" y="981000"/>
            <a:ext cx="8064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1c6f7"/>
              </a:gs>
              <a:gs pos="100000">
                <a:srgbClr val="c8e3fb"/>
              </a:gs>
            </a:gsLst>
            <a:lin ang="5400000"/>
          </a:gra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1608"/>
                </a:solidFill>
                <a:latin typeface="Constantia"/>
              </a:rPr>
              <a:t>Расходы бюджета сопоставляются с доход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Скругленный прямоугольник 4"/>
          <p:cNvSpPr/>
          <p:nvPr/>
        </p:nvSpPr>
        <p:spPr>
          <a:xfrm>
            <a:off x="684360" y="2079720"/>
            <a:ext cx="1584000" cy="43164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nstantia"/>
              </a:rPr>
              <a:t>До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Скругленный прямоугольник 5"/>
          <p:cNvSpPr/>
          <p:nvPr/>
        </p:nvSpPr>
        <p:spPr>
          <a:xfrm>
            <a:off x="4435560" y="1857240"/>
            <a:ext cx="1727280" cy="9018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Дефи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Профи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Скругленный прямоугольник 6"/>
          <p:cNvSpPr/>
          <p:nvPr/>
        </p:nvSpPr>
        <p:spPr>
          <a:xfrm>
            <a:off x="2482920" y="2089080"/>
            <a:ext cx="1584360" cy="432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nstantia"/>
              </a:rPr>
              <a:t>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8"/>
          <p:cNvSpPr/>
          <p:nvPr/>
        </p:nvSpPr>
        <p:spPr>
          <a:xfrm>
            <a:off x="5003640" y="2033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9"/>
          <p:cNvSpPr/>
          <p:nvPr/>
        </p:nvSpPr>
        <p:spPr>
          <a:xfrm>
            <a:off x="4094280" y="2124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0"/>
          <p:cNvSpPr/>
          <p:nvPr/>
        </p:nvSpPr>
        <p:spPr>
          <a:xfrm>
            <a:off x="2268360" y="21114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13"/>
          <p:cNvSpPr/>
          <p:nvPr/>
        </p:nvSpPr>
        <p:spPr>
          <a:xfrm>
            <a:off x="6667560" y="1682640"/>
            <a:ext cx="2081160" cy="6127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Расходы </a:t>
            </a:r>
            <a:r>
              <a:rPr b="0" lang="en-US" sz="1800" spc="-1" strike="noStrike">
                <a:solidFill>
                  <a:srgbClr val="006600"/>
                </a:solidFill>
                <a:latin typeface="Constantia"/>
              </a:rPr>
              <a:t>больше</a:t>
            </a: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 до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14"/>
          <p:cNvSpPr/>
          <p:nvPr/>
        </p:nvSpPr>
        <p:spPr>
          <a:xfrm>
            <a:off x="6667560" y="2425680"/>
            <a:ext cx="2081160" cy="6969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Расходы </a:t>
            </a:r>
            <a:r>
              <a:rPr b="0" lang="en-US" sz="1800" spc="-1" strike="noStrike">
                <a:solidFill>
                  <a:srgbClr val="006600"/>
                </a:solidFill>
                <a:latin typeface="Constantia"/>
              </a:rPr>
              <a:t>меньше</a:t>
            </a: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 до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Группа 19"/>
          <p:cNvGrpSpPr/>
          <p:nvPr/>
        </p:nvGrpSpPr>
        <p:grpSpPr>
          <a:xfrm>
            <a:off x="725400" y="2903400"/>
            <a:ext cx="2592360" cy="2288520"/>
            <a:chOff x="725400" y="2903400"/>
            <a:chExt cx="2592360" cy="2288520"/>
          </a:xfrm>
        </p:grpSpPr>
        <p:sp>
          <p:nvSpPr>
            <p:cNvPr id="318" name="TextBox 17"/>
            <p:cNvSpPr/>
            <p:nvPr/>
          </p:nvSpPr>
          <p:spPr>
            <a:xfrm>
              <a:off x="725400" y="2903400"/>
              <a:ext cx="2592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020 г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ходы         Расходы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310,7         2310,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ефици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профицит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,0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Левая фигурная скобка 18"/>
            <p:cNvSpPr/>
            <p:nvPr/>
          </p:nvSpPr>
          <p:spPr>
            <a:xfrm rot="16200000">
              <a:off x="1815840" y="3136320"/>
              <a:ext cx="382320" cy="1871640"/>
            </a:xfrm>
            <a:custGeom>
              <a:avLst/>
              <a:gdLst>
                <a:gd name="textAreaLeft" fmla="*/ 244440 w 382320"/>
                <a:gd name="textAreaRight" fmla="*/ 382680 w 382320"/>
                <a:gd name="textAreaTop" fmla="*/ 9720 h 1871640"/>
                <a:gd name="textAreaBottom" fmla="*/ 1861920 h 18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84"/>
                    <a:pt x="10800" y="368"/>
                  </a:cubicBezTo>
                  <a:lnTo>
                    <a:pt x="10800" y="10432"/>
                  </a:lnTo>
                  <a:cubicBezTo>
                    <a:pt x="10800" y="10616"/>
                    <a:pt x="5400" y="10800"/>
                    <a:pt x="0" y="10800"/>
                  </a:cubicBezTo>
                  <a:cubicBezTo>
                    <a:pt x="5400" y="10800"/>
                    <a:pt x="10800" y="10984"/>
                    <a:pt x="10800" y="11168"/>
                  </a:cubicBezTo>
                  <a:lnTo>
                    <a:pt x="10800" y="21232"/>
                  </a:lnTo>
                  <a:cubicBezTo>
                    <a:pt x="10800" y="21416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b16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Группа 20"/>
          <p:cNvGrpSpPr/>
          <p:nvPr/>
        </p:nvGrpSpPr>
        <p:grpSpPr>
          <a:xfrm>
            <a:off x="3419640" y="3141720"/>
            <a:ext cx="2592360" cy="2288520"/>
            <a:chOff x="3419640" y="3141720"/>
            <a:chExt cx="2592360" cy="2288520"/>
          </a:xfrm>
        </p:grpSpPr>
        <p:sp>
          <p:nvSpPr>
            <p:cNvPr id="321" name="TextBox 21"/>
            <p:cNvSpPr/>
            <p:nvPr/>
          </p:nvSpPr>
          <p:spPr>
            <a:xfrm>
              <a:off x="3419640" y="3141720"/>
              <a:ext cx="2592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021г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ходы         Расход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016,8       1016,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ефици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профицит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,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Левая фигурная скобка 22"/>
            <p:cNvSpPr/>
            <p:nvPr/>
          </p:nvSpPr>
          <p:spPr>
            <a:xfrm rot="16200000">
              <a:off x="4510080" y="3374640"/>
              <a:ext cx="382320" cy="1871640"/>
            </a:xfrm>
            <a:custGeom>
              <a:avLst/>
              <a:gdLst>
                <a:gd name="textAreaLeft" fmla="*/ 244440 w 382320"/>
                <a:gd name="textAreaRight" fmla="*/ 382680 w 382320"/>
                <a:gd name="textAreaTop" fmla="*/ 9720 h 1871640"/>
                <a:gd name="textAreaBottom" fmla="*/ 1861920 h 18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84"/>
                    <a:pt x="10800" y="368"/>
                  </a:cubicBezTo>
                  <a:lnTo>
                    <a:pt x="10800" y="10432"/>
                  </a:lnTo>
                  <a:cubicBezTo>
                    <a:pt x="10800" y="10616"/>
                    <a:pt x="5400" y="10800"/>
                    <a:pt x="0" y="10800"/>
                  </a:cubicBezTo>
                  <a:cubicBezTo>
                    <a:pt x="5400" y="10800"/>
                    <a:pt x="10800" y="10984"/>
                    <a:pt x="10800" y="11168"/>
                  </a:cubicBezTo>
                  <a:lnTo>
                    <a:pt x="10800" y="21232"/>
                  </a:lnTo>
                  <a:cubicBezTo>
                    <a:pt x="10800" y="21416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1c1c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Группа 23"/>
          <p:cNvGrpSpPr/>
          <p:nvPr/>
        </p:nvGrpSpPr>
        <p:grpSpPr>
          <a:xfrm>
            <a:off x="6300720" y="3429000"/>
            <a:ext cx="2592360" cy="2288520"/>
            <a:chOff x="6300720" y="3429000"/>
            <a:chExt cx="2592360" cy="2288520"/>
          </a:xfrm>
        </p:grpSpPr>
        <p:sp>
          <p:nvSpPr>
            <p:cNvPr id="324" name="TextBox 24"/>
            <p:cNvSpPr/>
            <p:nvPr/>
          </p:nvSpPr>
          <p:spPr>
            <a:xfrm>
              <a:off x="6300720" y="3429000"/>
              <a:ext cx="2592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022 г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ходы         Расход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020,6          1020,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ефици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профицит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,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Левая фигурная скобка 25"/>
            <p:cNvSpPr/>
            <p:nvPr/>
          </p:nvSpPr>
          <p:spPr>
            <a:xfrm rot="16200000">
              <a:off x="7391160" y="3661920"/>
              <a:ext cx="382320" cy="1871640"/>
            </a:xfrm>
            <a:custGeom>
              <a:avLst/>
              <a:gdLst>
                <a:gd name="textAreaLeft" fmla="*/ 244440 w 382320"/>
                <a:gd name="textAreaRight" fmla="*/ 382680 w 382320"/>
                <a:gd name="textAreaTop" fmla="*/ 9720 h 1871640"/>
                <a:gd name="textAreaBottom" fmla="*/ 1861920 h 18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84"/>
                    <a:pt x="10800" y="368"/>
                  </a:cubicBezTo>
                  <a:lnTo>
                    <a:pt x="10800" y="10432"/>
                  </a:lnTo>
                  <a:cubicBezTo>
                    <a:pt x="10800" y="10616"/>
                    <a:pt x="5400" y="10800"/>
                    <a:pt x="0" y="10800"/>
                  </a:cubicBezTo>
                  <a:cubicBezTo>
                    <a:pt x="5400" y="10800"/>
                    <a:pt x="10800" y="10984"/>
                    <a:pt x="10800" y="11168"/>
                  </a:cubicBezTo>
                  <a:lnTo>
                    <a:pt x="10800" y="21232"/>
                  </a:lnTo>
                  <a:cubicBezTo>
                    <a:pt x="10800" y="21416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1c1c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TextBox 1"/>
          <p:cNvSpPr/>
          <p:nvPr/>
        </p:nvSpPr>
        <p:spPr>
          <a:xfrm>
            <a:off x="725400" y="1682640"/>
            <a:ext cx="11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Двойная стрелка влево/вправо 2"/>
          <p:cNvSpPr/>
          <p:nvPr/>
        </p:nvSpPr>
        <p:spPr>
          <a:xfrm>
            <a:off x="5873760" y="1914480"/>
            <a:ext cx="938160" cy="238320"/>
          </a:xfrm>
          <a:prstGeom prst="leftRightArrow">
            <a:avLst>
              <a:gd name="adj1" fmla="val 50000"/>
              <a:gd name="adj2" fmla="val 49954"/>
            </a:avLst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5400000"/>
          </a:gra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Двойная стрелка влево/вправо 27"/>
          <p:cNvSpPr/>
          <p:nvPr/>
        </p:nvSpPr>
        <p:spPr>
          <a:xfrm>
            <a:off x="5913360" y="2521080"/>
            <a:ext cx="858960" cy="210960"/>
          </a:xfrm>
          <a:prstGeom prst="leftRightArrow">
            <a:avLst>
              <a:gd name="adj1" fmla="val 50000"/>
              <a:gd name="adj2" fmla="val 50047"/>
            </a:avLst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5400000"/>
          </a:gra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3:13:38Z</dcterms:created>
  <dc:creator>trofimova_ey</dc:creator>
  <dc:description/>
  <dc:language>en-US</dc:language>
  <cp:lastModifiedBy>Computer</cp:lastModifiedBy>
  <cp:lastPrinted>2013-10-03T09:30:52Z</cp:lastPrinted>
  <dcterms:modified xsi:type="dcterms:W3CDTF">2019-12-30T08:49:01Z</dcterms:modified>
  <cp:revision>215</cp:revision>
  <dc:subject/>
  <dc:title>Слайд 1</dc:title>
</cp:coreProperties>
</file>