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2138-4EC9-41EB-8D3D-F05543834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94BC-829B-4FAB-ADE7-67F7EA177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74DF3-99D7-413E-9A95-6229884CC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24454-B92C-494E-9D7A-8214824FD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65DDB-344A-4BD4-8EBB-4683AB51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4F306-7FE5-48EF-B0DA-9C35D84E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B31EC-D546-4F4A-9011-35D3BF4A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8D516-5EE5-4EEE-8070-E475FA61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B8E94-A066-45CC-9C95-270B5053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970F8-962C-4698-BFE7-1432815B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C76E1-605B-4FC7-B3F0-781DFDF6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B550-7FFE-40C0-AD70-06D0D3D55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5C578-ABE0-4540-AB7E-FC551607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3BF2B-1692-4787-9586-046A1D9F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E6EDC-8E09-4E4C-876B-392BE4FA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3D221-C2F0-41DC-B08F-832033AE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D3C54-15A8-412B-86F2-0CB7A8C0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D1B15-B379-4E73-9085-9F1A3B6737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CA514E-E59B-4FDB-A898-689E1D6A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48A237-5270-47E4-8CCE-2903B670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9C1EEF-6CD2-4FAD-88A4-44A17FC8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5793-274A-409E-B427-C0BD409638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F307E8-36AA-4B97-B4FE-99D12014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4237EE-FC5E-4FF2-A77B-AF58D3DB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1A7DB5-B17A-4A46-8141-B32F2E7D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BD2062-D3D4-46F1-B558-ED4E6C9A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EC370D-324E-4F23-93E9-59F94414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FFCF0A-5DF6-44E1-BDC6-28819F08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CDBE56-4493-47A7-9B3B-E6CDDC38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E7DC9B-5FBF-4106-94AC-9A997A92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8F817D-F985-4FFA-9F1B-AF970E28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1EA775-65F7-4032-A57B-35E18262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7398-D5FB-4BE7-B9C8-41357581AEA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4A488E-EB04-42AA-B0BD-1F6807D1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AE90A9-CC47-420B-8B9B-8053D6D5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D53FFD-621C-4741-B246-419DE719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529B98-6B85-4E51-8450-7D41AB22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B943CD-7A3E-4D39-A85B-864E94AA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77E04B-5C56-45B2-A92B-61587B2D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39ECB1-B4DE-4EF7-BD54-305706A3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BF648B-6B69-4C05-90F9-B23C3EB3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3F3F89-1BAD-477E-84E3-766D8AA5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ECF7FE-6859-48CC-BD79-64964167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2A63-A1CE-4170-ABFD-F23BBDF3299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B470EE-C5BC-448D-B590-E39CE3C9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D0388A-F09A-4ED7-9941-AD119621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262EE7-8EC9-4DAA-9AC3-30F94955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047851-D1D8-446B-BCD2-08E9A441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CB5B14-0306-4E55-A2BA-DF203303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39ECA3-A855-4B83-B816-B5E9868C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389338-A18B-4EAE-B7FE-1CB530A2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7877E4-53E7-4EB8-BF87-6C05934A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CE6069-B44E-4BD2-A199-B9ECFF72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862623-4C98-409A-9092-7A7FA943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A7D8-0AFE-4752-9802-3D4B9FC0966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AAB2C3-DEFB-45F8-9C8B-574DCBB8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A4B766-178C-4F45-AF89-FEDDC89F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B04010-2F17-499D-AFEC-04DA0AB4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096E-4664-47FB-B936-88AEE6D65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D1CC1-9A88-44CA-B003-7E57EB14E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36360" y="-27000"/>
            <a:ext cx="8353440" cy="6869160"/>
          </a:xfrm>
          <a:custGeom>
            <a:avLst/>
            <a:gdLst>
              <a:gd name="textAreaLeft" fmla="*/ 0 w 8353440"/>
              <a:gd name="textAreaRight" fmla="*/ 8353800 w 83534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5381" h="4327">
                <a:moveTo>
                  <a:pt x="4017" y="17"/>
                </a:moveTo>
                <a:cubicBezTo>
                  <a:pt x="4909" y="388"/>
                  <a:pt x="5372" y="1508"/>
                  <a:pt x="5351" y="2225"/>
                </a:cubicBezTo>
                <a:cubicBezTo>
                  <a:pt x="5381" y="2951"/>
                  <a:pt x="4783" y="3968"/>
                  <a:pt x="3892" y="4318"/>
                </a:cubicBezTo>
                <a:lnTo>
                  <a:pt x="4" y="4327"/>
                </a:lnTo>
                <a:lnTo>
                  <a:pt x="0" y="0"/>
                </a:lnTo>
                <a:lnTo>
                  <a:pt x="4017" y="17"/>
                </a:lnTo>
                <a:close/>
              </a:path>
            </a:pathLst>
          </a:cu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80486" dir="1110959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-36360" y="4019400"/>
            <a:ext cx="9189720" cy="2951280"/>
          </a:xfrm>
          <a:custGeom>
            <a:avLst/>
            <a:gdLst>
              <a:gd name="textAreaLeft" fmla="*/ 0 w 9189720"/>
              <a:gd name="textAreaRight" fmla="*/ 9190080 w 918972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6272" h="1859">
                <a:moveTo>
                  <a:pt x="6252" y="0"/>
                </a:moveTo>
                <a:cubicBezTo>
                  <a:pt x="5993" y="312"/>
                  <a:pt x="5343" y="907"/>
                  <a:pt x="4292" y="1159"/>
                </a:cubicBezTo>
                <a:cubicBezTo>
                  <a:pt x="3246" y="1409"/>
                  <a:pt x="1125" y="1500"/>
                  <a:pt x="16" y="1464"/>
                </a:cubicBezTo>
                <a:cubicBezTo>
                  <a:pt x="16" y="1600"/>
                  <a:pt x="0" y="1859"/>
                  <a:pt x="2" y="1831"/>
                </a:cubicBezTo>
                <a:cubicBezTo>
                  <a:pt x="2" y="1831"/>
                  <a:pt x="3103" y="1790"/>
                  <a:pt x="6272" y="1808"/>
                </a:cubicBezTo>
                <a:cubicBezTo>
                  <a:pt x="6262" y="953"/>
                  <a:pt x="6256" y="379"/>
                  <a:pt x="6252" y="0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-47520" y="-33480"/>
            <a:ext cx="9190080" cy="1230480"/>
          </a:xfrm>
          <a:custGeom>
            <a:avLst/>
            <a:gdLst>
              <a:gd name="textAreaLeft" fmla="*/ 0 w 9190080"/>
              <a:gd name="textAreaRight" fmla="*/ 9190440 w 9190080"/>
              <a:gd name="textAreaTop" fmla="*/ 0 h 1230480"/>
              <a:gd name="textAreaBottom" fmla="*/ 1230480 h 1230480"/>
            </a:gdLst>
            <a:ahLst/>
            <a:rect l="textAreaLeft" t="textAreaTop" r="textAreaRight" b="textAreaBottom"/>
            <a:pathLst>
              <a:path w="6272" h="775">
                <a:moveTo>
                  <a:pt x="5" y="775"/>
                </a:moveTo>
                <a:cubicBezTo>
                  <a:pt x="263" y="647"/>
                  <a:pt x="1003" y="398"/>
                  <a:pt x="2054" y="295"/>
                </a:cubicBezTo>
                <a:cubicBezTo>
                  <a:pt x="3102" y="192"/>
                  <a:pt x="5151" y="145"/>
                  <a:pt x="6260" y="160"/>
                </a:cubicBezTo>
                <a:cubicBezTo>
                  <a:pt x="6260" y="104"/>
                  <a:pt x="6272" y="0"/>
                  <a:pt x="6270" y="11"/>
                </a:cubicBezTo>
                <a:cubicBezTo>
                  <a:pt x="6270" y="11"/>
                  <a:pt x="3178" y="11"/>
                  <a:pt x="8" y="4"/>
                </a:cubicBezTo>
                <a:cubicBezTo>
                  <a:pt x="17" y="355"/>
                  <a:pt x="0" y="619"/>
                  <a:pt x="5" y="775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08B7-8448-4177-B2F2-F776217D677B}" type="slidenum">
              <a:rPr b="0" lang="ru-RU" sz="1400" spc="-1" strike="noStrike">
                <a:solidFill>
                  <a:srgbClr val="2c62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E459-71B0-4ABF-B244-8A89ABB4332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2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4"/>
          <p:cNvSpPr/>
          <p:nvPr/>
        </p:nvSpPr>
        <p:spPr>
          <a:xfrm>
            <a:off x="-12600" y="4010040"/>
            <a:ext cx="9182160" cy="2892240"/>
          </a:xfrm>
          <a:custGeom>
            <a:avLst/>
            <a:gdLst>
              <a:gd name="textAreaLeft" fmla="*/ 0 w 9182160"/>
              <a:gd name="textAreaRight" fmla="*/ 9182520 w 9182160"/>
              <a:gd name="textAreaTop" fmla="*/ 0 h 2892240"/>
              <a:gd name="textAreaBottom" fmla="*/ 2892240 h 2892240"/>
            </a:gdLst>
            <a:ahLst/>
            <a:rect l="textAreaLeft" t="textAreaTop" r="textAreaRight" b="textAreaBottom"/>
            <a:pathLst>
              <a:path w="5784" h="1822">
                <a:moveTo>
                  <a:pt x="5760" y="0"/>
                </a:moveTo>
                <a:cubicBezTo>
                  <a:pt x="5521" y="312"/>
                  <a:pt x="4917" y="913"/>
                  <a:pt x="3947" y="1165"/>
                </a:cubicBezTo>
                <a:cubicBezTo>
                  <a:pt x="2981" y="1415"/>
                  <a:pt x="1023" y="1506"/>
                  <a:pt x="0" y="1470"/>
                </a:cubicBezTo>
                <a:cubicBezTo>
                  <a:pt x="0" y="1606"/>
                  <a:pt x="14" y="1822"/>
                  <a:pt x="16" y="1794"/>
                </a:cubicBezTo>
                <a:cubicBezTo>
                  <a:pt x="1818" y="1819"/>
                  <a:pt x="4180" y="1803"/>
                  <a:pt x="5784" y="1802"/>
                </a:cubicBezTo>
                <a:cubicBezTo>
                  <a:pt x="5776" y="989"/>
                  <a:pt x="5763" y="370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5"/>
          <p:cNvSpPr/>
          <p:nvPr/>
        </p:nvSpPr>
        <p:spPr>
          <a:xfrm>
            <a:off x="-25560" y="-39600"/>
            <a:ext cx="9185400" cy="2181240"/>
          </a:xfrm>
          <a:custGeom>
            <a:avLst/>
            <a:gdLst>
              <a:gd name="textAreaLeft" fmla="*/ 0 w 9185400"/>
              <a:gd name="textAreaRight" fmla="*/ 9185400 w 918540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5786" h="1374">
                <a:moveTo>
                  <a:pt x="8" y="1374"/>
                </a:moveTo>
                <a:cubicBezTo>
                  <a:pt x="246" y="1148"/>
                  <a:pt x="942" y="721"/>
                  <a:pt x="1912" y="538"/>
                </a:cubicBezTo>
                <a:cubicBezTo>
                  <a:pt x="2879" y="356"/>
                  <a:pt x="4761" y="262"/>
                  <a:pt x="5784" y="288"/>
                </a:cubicBezTo>
                <a:cubicBezTo>
                  <a:pt x="5784" y="190"/>
                  <a:pt x="5786" y="5"/>
                  <a:pt x="5784" y="25"/>
                </a:cubicBezTo>
                <a:cubicBezTo>
                  <a:pt x="5784" y="25"/>
                  <a:pt x="2926" y="12"/>
                  <a:pt x="0" y="0"/>
                </a:cubicBezTo>
                <a:cubicBezTo>
                  <a:pt x="9" y="620"/>
                  <a:pt x="3" y="1099"/>
                  <a:pt x="8" y="1374"/>
                </a:cubicBezTo>
                <a:close/>
              </a:path>
            </a:pathLst>
          </a:cu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DA51-0245-4046-AA8D-AE0087C8EDA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F539-DB69-4AF6-892B-269974BBF15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655A-0C00-4AB6-93CD-5649D2F2BB4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Бюджет для граждан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82" name="Рисунок 5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384960" cy="4389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 rot="20982600">
            <a:off x="3203280" y="227628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6228"/>
                </a:solidFill>
                <a:latin typeface="Arial"/>
              </a:rPr>
              <a:t>Бюджет для 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"/>
              </a:rPr>
              <a:t>201</a:t>
            </a:r>
            <a:r>
              <a:rPr b="0" lang="ru-RU" sz="1800" spc="-1" strike="noStrike">
                <a:solidFill>
                  <a:srgbClr val="4f6228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3"/>
          <p:cNvSpPr/>
          <p:nvPr/>
        </p:nvSpPr>
        <p:spPr>
          <a:xfrm>
            <a:off x="179280" y="189000"/>
            <a:ext cx="186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Источники форм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3492360" y="189000"/>
            <a:ext cx="266400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БЮДЖЕТ СЕЛЬСКОГО 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50920" y="1773360"/>
          <a:ext cx="1944720" cy="45720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Налоговые и неналоговые дох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3348000" y="2565360"/>
          <a:ext cx="1665360" cy="2103480"/>
        </p:xfrm>
        <a:graphic>
          <a:graphicData uri="http://schemas.openxmlformats.org/drawingml/2006/table">
            <a:tbl>
              <a:tblPr/>
              <a:tblGrid>
                <a:gridCol w="166536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от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убсид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убвенции на исполнение государственных полномочи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2843280" y="1773360"/>
          <a:ext cx="1657440" cy="45720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34" name="TextBox 14"/>
          <p:cNvSpPr/>
          <p:nvPr/>
        </p:nvSpPr>
        <p:spPr>
          <a:xfrm>
            <a:off x="6804000" y="189000"/>
            <a:ext cx="20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Направления исполь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292720" y="1700280"/>
          <a:ext cx="3714840" cy="500040"/>
        </p:xfrm>
        <a:graphic>
          <a:graphicData uri="http://schemas.openxmlformats.org/drawingml/2006/table">
            <a:tbl>
              <a:tblPr/>
              <a:tblGrid>
                <a:gridCol w="3714840"/>
              </a:tblGrid>
              <a:tr h="500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Осуществление части государственных полномочий, переданных органам МС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36" name="TextBox 17"/>
          <p:cNvSpPr/>
          <p:nvPr/>
        </p:nvSpPr>
        <p:spPr>
          <a:xfrm>
            <a:off x="5292720" y="2205000"/>
            <a:ext cx="3714840" cy="824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Arial"/>
              </a:rPr>
              <a:t>Исполнение государственного полномочия на осуществление первичного воинского учета на территориях, где отсутствуют военные комиссари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292720" y="3068640"/>
          <a:ext cx="3714840" cy="528480"/>
        </p:xfrm>
        <a:graphic>
          <a:graphicData uri="http://schemas.openxmlformats.org/drawingml/2006/table">
            <a:tbl>
              <a:tblPr/>
              <a:tblGrid>
                <a:gridCol w="3714840"/>
              </a:tblGrid>
              <a:tr h="528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Расходы связанные с обеспечением задач местного зна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38" name="TextBox 19"/>
          <p:cNvSpPr/>
          <p:nvPr/>
        </p:nvSpPr>
        <p:spPr>
          <a:xfrm>
            <a:off x="5286240" y="3643200"/>
            <a:ext cx="3714840" cy="2284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Содержание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Благоустройство территории муниципального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Расходы на исполнение полномочия по опубликованию муниципальных правовых актов, иной официальной информации в печатном С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Обеспечение первичных мер пожарной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Обеспечение деятельности добровольных народных друж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79280" y="4923000"/>
          <a:ext cx="3600720" cy="1188720"/>
        </p:xfrm>
        <a:graphic>
          <a:graphicData uri="http://schemas.openxmlformats.org/drawingml/2006/table">
            <a:tbl>
              <a:tblPr/>
              <a:tblGrid>
                <a:gridCol w="360072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местные налоги и сбор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лог на имущество физических лиц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40" name="AutoShape 80"/>
          <p:cNvSpPr/>
          <p:nvPr/>
        </p:nvSpPr>
        <p:spPr>
          <a:xfrm rot="3021600">
            <a:off x="1547280" y="1267920"/>
            <a:ext cx="432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82"/>
          <p:cNvSpPr/>
          <p:nvPr/>
        </p:nvSpPr>
        <p:spPr>
          <a:xfrm>
            <a:off x="1908000" y="836640"/>
            <a:ext cx="1440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86"/>
          <p:cNvSpPr/>
          <p:nvPr/>
        </p:nvSpPr>
        <p:spPr>
          <a:xfrm>
            <a:off x="6156360" y="907920"/>
            <a:ext cx="144000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87"/>
          <p:cNvSpPr/>
          <p:nvPr/>
        </p:nvSpPr>
        <p:spPr>
          <a:xfrm rot="18948600">
            <a:off x="3249720" y="1273320"/>
            <a:ext cx="358560" cy="477720"/>
          </a:xfrm>
          <a:prstGeom prst="downArrow">
            <a:avLst>
              <a:gd name="adj1" fmla="val 50000"/>
              <a:gd name="adj2" fmla="val 333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79280" y="2565360"/>
          <a:ext cx="2952720" cy="208764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208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едеральные налоги и сборы, налоги, предусмотренные специальными налоговыми режимам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алог на доходы физических лиц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45" name="AutoShape 100"/>
          <p:cNvSpPr/>
          <p:nvPr/>
        </p:nvSpPr>
        <p:spPr>
          <a:xfrm>
            <a:off x="3924360" y="2276640"/>
            <a:ext cx="287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03"/>
          <p:cNvSpPr/>
          <p:nvPr/>
        </p:nvSpPr>
        <p:spPr>
          <a:xfrm>
            <a:off x="1042920" y="2276640"/>
            <a:ext cx="287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47"/>
          <p:cNvSpPr/>
          <p:nvPr/>
        </p:nvSpPr>
        <p:spPr>
          <a:xfrm>
            <a:off x="6804000" y="1484280"/>
            <a:ext cx="2872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3"/>
          <p:cNvSpPr/>
          <p:nvPr/>
        </p:nvSpPr>
        <p:spPr>
          <a:xfrm>
            <a:off x="2698920" y="476280"/>
            <a:ext cx="3744720" cy="916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оходы бюджета Плех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ельсове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39640" y="1773360"/>
          <a:ext cx="7686720" cy="4383000"/>
        </p:xfrm>
        <a:graphic>
          <a:graphicData uri="http://schemas.openxmlformats.org/drawingml/2006/table">
            <a:tbl>
              <a:tblPr/>
              <a:tblGrid>
                <a:gridCol w="2664000"/>
                <a:gridCol w="1206360"/>
                <a:gridCol w="1225800"/>
                <a:gridCol w="1295280"/>
                <a:gridCol w="1295280"/>
              </a:tblGrid>
              <a:tr h="671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2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и неналоговые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налог на доходы 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налоги на иму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0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7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7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7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прочие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возмездные поступ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о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3"/>
          <p:cNvSpPr/>
          <p:nvPr/>
        </p:nvSpPr>
        <p:spPr>
          <a:xfrm>
            <a:off x="900000" y="189000"/>
            <a:ext cx="6985080" cy="642600"/>
          </a:xfrm>
          <a:prstGeom prst="rect">
            <a:avLst/>
          </a:prstGeom>
          <a:solidFill>
            <a:srgbClr val="f0f8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ходы бюджета Плеховского сельсовета Суджа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39640" y="836640"/>
          <a:ext cx="8207640" cy="2500200"/>
        </p:xfrm>
        <a:graphic>
          <a:graphicData uri="http://schemas.openxmlformats.org/drawingml/2006/table">
            <a:tbl>
              <a:tblPr/>
              <a:tblGrid>
                <a:gridCol w="3643560"/>
                <a:gridCol w="1643040"/>
                <a:gridCol w="1428480"/>
                <a:gridCol w="14925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расходов (тыс. руб.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  <a:tr h="520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5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, кинемат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5471"/>
                </a:solidFill>
                <a:latin typeface="Arial"/>
              </a:rPr>
              <a:t>ПЕРЕЧЕНЬ </a:t>
            </a:r>
            <a:br>
              <a:rPr sz="2000"/>
            </a:br>
            <a:r>
              <a:rPr b="1" lang="ru-RU" sz="2000" spc="-1" strike="noStrike">
                <a:solidFill>
                  <a:srgbClr val="255471"/>
                </a:solidFill>
                <a:latin typeface="Arial"/>
              </a:rPr>
              <a:t>муниципальных программ муниципального образования «Плеховский сельсовет»</a:t>
            </a:r>
            <a:endParaRPr b="1" lang="en-US" sz="2000" spc="-1" strike="noStrike">
              <a:solidFill>
                <a:srgbClr val="255471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57200" y="1600200"/>
          <a:ext cx="8229600" cy="5924520"/>
        </p:xfrm>
        <a:graphic>
          <a:graphicData uri="http://schemas.openxmlformats.org/drawingml/2006/table">
            <a:tbl>
              <a:tblPr/>
              <a:tblGrid>
                <a:gridCol w="571680"/>
                <a:gridCol w="4572000"/>
                <a:gridCol w="30859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именование муниципальных программ муниципального образов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Плеховский сельсове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тветственный исполн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Развитие культуры» муниципального образования Плеховский сельсовет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Управление муниципальным имуществом и земельными ресурсам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Развитие муниципальной службы муниципального образования «Плеховский сельсовет»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Защита населения и территорий от чрезвычайных ситуаций, обеспечение пожарной безопасности и безопасности людей на водных объектах муниципального образования «Плеховский сельсовет»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го образования «Плеховский сельсовет» Суджанского района Курской 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рамм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комплексного развития транспортной инфраструктуры Плеховского сельсовета Суджанского района  Курской област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я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программ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Комплексные меры противодействия злоупотреб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котиками и их незаконному оборот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9C37-C65D-4EC4-8BAE-A560BC43623D}" type="slidenum">
              <a:rPr b="0" lang="ru-RU" sz="1400" spc="-1" strike="noStrike">
                <a:solidFill>
                  <a:srgbClr val="2c628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Прямоугольник с двумя скругленными соседними углами 2"/>
          <p:cNvGrpSpPr/>
          <p:nvPr/>
        </p:nvGrpSpPr>
        <p:grpSpPr>
          <a:xfrm>
            <a:off x="1200240" y="1158840"/>
            <a:ext cx="6669000" cy="4791240"/>
            <a:chOff x="1200240" y="1158840"/>
            <a:chExt cx="6669000" cy="4791240"/>
          </a:xfrm>
        </p:grpSpPr>
        <p:pic>
          <p:nvPicPr>
            <p:cNvPr id="356" name="Прямоугольник с двумя скругленными соседними углами 2" descr=""/>
            <p:cNvPicPr/>
            <p:nvPr/>
          </p:nvPicPr>
          <p:blipFill>
            <a:blip r:embed="rId1"/>
            <a:stretch/>
          </p:blipFill>
          <p:spPr>
            <a:xfrm>
              <a:off x="1200240" y="1158840"/>
              <a:ext cx="6669000" cy="47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487520" y="1425600"/>
              <a:ext cx="6095880" cy="44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«Бюджет для граждан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подготовлен </a:t>
              </a:r>
              <a:r>
                <a:rPr b="1" lang="ru-RU" sz="1400" spc="-1" strike="noStrike">
                  <a:solidFill>
                    <a:srgbClr val="9a3130"/>
                  </a:solidFill>
                  <a:latin typeface="Arial"/>
                </a:rPr>
                <a:t>отделом бухгалтерского уче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администрации </a:t>
              </a:r>
              <a:r>
                <a:rPr b="1" lang="ru-RU" sz="1400" spc="-1" strike="noStrike">
                  <a:solidFill>
                    <a:srgbClr val="9a3130"/>
                  </a:solidFill>
                  <a:latin typeface="Arial"/>
                </a:rPr>
                <a:t>Плеховского сельсовета Суджанского района Курской обла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Администрация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ого сельсовета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находится по адресу: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ул. Новая, дом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С. Плехово Суджанский район Курская область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Телефон 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8(47143)3-15-23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электронная почта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dmplehovo@yandex.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Информацию о бюджете можно получить на официальном сайте Администрации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ого сельсовета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по адресу: </a:t>
              </a:r>
              <a:r>
                <a:rPr b="1" lang="en-US" sz="1800" spc="-1" strike="noStrike">
                  <a:solidFill>
                    <a:srgbClr val="ff0000"/>
                  </a:solidFill>
                  <a:latin typeface="Constantia"/>
                </a:rPr>
                <a:t>http</a:t>
              </a:r>
              <a:r>
                <a:rPr b="1" lang="en-US" sz="1400" spc="-1" strike="noStrike">
                  <a:solidFill>
                    <a:srgbClr val="ff0000"/>
                  </a:solidFill>
                  <a:latin typeface="Constantia"/>
                </a:rPr>
                <a:t>://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ий-сельсовет.р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Прямоугольник 3"/>
          <p:cNvGrpSpPr/>
          <p:nvPr/>
        </p:nvGrpSpPr>
        <p:grpSpPr>
          <a:xfrm>
            <a:off x="1920960" y="365040"/>
            <a:ext cx="5370480" cy="762120"/>
            <a:chOff x="1920960" y="365040"/>
            <a:chExt cx="5370480" cy="762120"/>
          </a:xfrm>
        </p:grpSpPr>
        <p:pic>
          <p:nvPicPr>
            <p:cNvPr id="359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920960" y="365040"/>
              <a:ext cx="53704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979640" y="404640"/>
              <a:ext cx="52563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тактная информ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TextBox 4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461016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 Narrow"/>
              </a:rPr>
              <a:t>ЧТО ТАКОЕ БЮДЖЕТ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юдж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(от старонормандского 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bougett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— кошелёк, сумка, мешок с деньгами) — схема доходов и расходов определённого объекта (семьи, бизнеса, организации, государства и т. д.), устанавливаемая на определённый период време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4" descr=""/>
          <p:cNvPicPr/>
          <p:nvPr/>
        </p:nvPicPr>
        <p:blipFill>
          <a:blip r:embed="rId2"/>
          <a:stretch/>
        </p:blipFill>
        <p:spPr>
          <a:xfrm>
            <a:off x="1979640" y="1700280"/>
            <a:ext cx="4968720" cy="4605120"/>
          </a:xfrm>
          <a:prstGeom prst="rect">
            <a:avLst/>
          </a:prstGeom>
          <a:ln w="0">
            <a:noFill/>
          </a:ln>
        </p:spPr>
      </p:pic>
      <p:pic>
        <p:nvPicPr>
          <p:cNvPr id="289" name="TextBox 3" descr=""/>
          <p:cNvPicPr/>
          <p:nvPr/>
        </p:nvPicPr>
        <p:blipFill>
          <a:blip r:embed="rId3"/>
          <a:stretch/>
        </p:blipFill>
        <p:spPr>
          <a:xfrm>
            <a:off x="749160" y="901800"/>
            <a:ext cx="764568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8059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1" name="Схема 3" descr=""/>
          <p:cNvPicPr/>
          <p:nvPr/>
        </p:nvPicPr>
        <p:blipFill>
          <a:blip r:embed="rId2"/>
          <a:stretch/>
        </p:blipFill>
        <p:spPr>
          <a:xfrm>
            <a:off x="725400" y="1195560"/>
            <a:ext cx="8431200" cy="53942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"/>
          <p:cNvSpPr/>
          <p:nvPr/>
        </p:nvSpPr>
        <p:spPr>
          <a:xfrm>
            <a:off x="3203640" y="1557360"/>
            <a:ext cx="5832360" cy="1098360"/>
          </a:xfrm>
          <a:prstGeom prst="rect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бота по составлению проекта бюджета сельского совета начинается за несколько месяцев до начала очередного финансового года. Администрация Плеховского сельского утверждает перечень мероприятий по разработке проекта бюджета, определяет ответственных исполнителей и сроки исполнения.</a:t>
            </a:r>
            <a:r>
              <a:rPr b="0" lang="ru-RU" sz="1100" spc="-1" strike="noStrike">
                <a:solidFill>
                  <a:srgbClr val="009dd9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епосредственное составление проекта бюджета осуществляет финансовый отдел Администрации Плеховского сельсовета Суджанского района Курской област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3203640" y="3068640"/>
            <a:ext cx="5813280" cy="1600560"/>
          </a:xfrm>
          <a:prstGeom prst="rect">
            <a:avLst/>
          </a:prstGeom>
          <a:solidFill>
            <a:srgbClr val="ffe8d1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формированный проект бюджета сельского совета Глава вносит на рассмотрение Собрания депутатов не позднее 15 ноября текущего го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 проекту бюджета проводятся публичные слушания. Для этого проект бюджета размещается на официальном сайте сельского совета в сети «Интернет». В слушаниях участвуют граждане, проживающие на территории муниципального образования  и обладающие активным избирательным правом, а также представители организаций, осуществляющих деятельность на территории сельского совета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обрание депутатов рассматривает проект решения о бюджете в одном чтен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3203640" y="5300640"/>
            <a:ext cx="5832360" cy="1174320"/>
          </a:xfrm>
          <a:prstGeom prst="rect">
            <a:avLst/>
          </a:prstGeom>
          <a:solidFill>
            <a:srgbClr val="edf3db"/>
          </a:solidFill>
          <a:ln w="381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оект бюджета сельского совета утверждается Собранием депутатов Плеховского сельсовета в форме Решения о бюджете на очередной финансовый год и плановый период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нятое Собранием депутатов Решение о бюджете подлежит обнародованию путем опубликования его в средствах массовой информации и размещения на официальном сайте сельского совета в сети «Интернет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TextBox 6" descr=""/>
          <p:cNvPicPr/>
          <p:nvPr/>
        </p:nvPicPr>
        <p:blipFill>
          <a:blip r:embed="rId3"/>
          <a:stretch/>
        </p:blipFill>
        <p:spPr>
          <a:xfrm>
            <a:off x="2771640" y="189000"/>
            <a:ext cx="598500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7" name="Picture 19" descr="wide blue arrow with fade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2816280" y="1557360"/>
            <a:ext cx="3429000" cy="380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20"/>
          <p:cNvSpPr/>
          <p:nvPr/>
        </p:nvSpPr>
        <p:spPr>
          <a:xfrm>
            <a:off x="826920" y="1484280"/>
            <a:ext cx="6697800" cy="131364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ание Президента Российской Федерации Федеральному Собранию Российской Федерации, определяющее бюджетную политику (требования к бюджетной политике)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755640" y="3284640"/>
            <a:ext cx="7548480" cy="36828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ноз социально-экономического развития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4"/>
          <p:cNvSpPr/>
          <p:nvPr/>
        </p:nvSpPr>
        <p:spPr>
          <a:xfrm>
            <a:off x="755640" y="4292640"/>
            <a:ext cx="7548480" cy="70596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 бюдже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алоговой поли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4"/>
          <p:cNvSpPr/>
          <p:nvPr/>
        </p:nvSpPr>
        <p:spPr>
          <a:xfrm>
            <a:off x="684360" y="5300640"/>
            <a:ext cx="7583400" cy="70596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ые программы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TextBox 4" descr=""/>
          <p:cNvPicPr/>
          <p:nvPr/>
        </p:nvPicPr>
        <p:blipFill>
          <a:blip r:embed="rId3"/>
          <a:stretch/>
        </p:blipFill>
        <p:spPr>
          <a:xfrm>
            <a:off x="627120" y="0"/>
            <a:ext cx="85168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16"/>
          <p:cNvSpPr/>
          <p:nvPr/>
        </p:nvSpPr>
        <p:spPr>
          <a:xfrm>
            <a:off x="539640" y="1557360"/>
            <a:ext cx="8425080" cy="3311640"/>
          </a:xfrm>
          <a:prstGeom prst="horizontalScroll">
            <a:avLst>
              <a:gd name="adj" fmla="val 18791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юджет сельского совета– это ежего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верждаемый Решением Собрания депу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льского совета свод доходов и расходов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редной финансовый год и плано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од (2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3"/>
          <p:cNvSpPr/>
          <p:nvPr/>
        </p:nvSpPr>
        <p:spPr>
          <a:xfrm>
            <a:off x="1258920" y="4762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7026"/>
                </a:solidFill>
                <a:latin typeface="Arial"/>
              </a:rPr>
              <a:t>БЮДЖ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7026"/>
                </a:solidFill>
                <a:latin typeface="Arial"/>
              </a:rPr>
              <a:t>Плеховского сельсовета Суджанского района Кур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Arial"/>
              </a:rPr>
              <a:t>Принципы формирования бюдже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84360" y="1916280"/>
          <a:ext cx="8351640" cy="439092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92376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сбалансированности и устойчивости бюджетной систе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108972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результативности бюджетных расходов, достижение установленных показателе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237780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прозрачности и открытости бюджетного процесса для гражда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эффективности исполь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ой собственности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Arial"/>
              </a:rPr>
              <a:t>Плеховский сельсовет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Скругленный прямоугольник 3"/>
          <p:cNvSpPr/>
          <p:nvPr/>
        </p:nvSpPr>
        <p:spPr>
          <a:xfrm>
            <a:off x="684360" y="981000"/>
            <a:ext cx="8064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c6f7"/>
              </a:gs>
              <a:gs pos="100000">
                <a:srgbClr val="c8e3fb"/>
              </a:gs>
            </a:gsLst>
            <a:lin ang="5400000"/>
          </a:gra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1608"/>
                </a:solidFill>
                <a:latin typeface="Constantia"/>
              </a:rPr>
              <a:t>Расходы бюджета сопоставляются с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кругленный прямоугольник 4"/>
          <p:cNvSpPr/>
          <p:nvPr/>
        </p:nvSpPr>
        <p:spPr>
          <a:xfrm>
            <a:off x="684360" y="2079720"/>
            <a:ext cx="1584000" cy="431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кругленный прямоугольник 5"/>
          <p:cNvSpPr/>
          <p:nvPr/>
        </p:nvSpPr>
        <p:spPr>
          <a:xfrm>
            <a:off x="4435560" y="1857240"/>
            <a:ext cx="1727280" cy="9018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кругленный прямоугольник 6"/>
          <p:cNvSpPr/>
          <p:nvPr/>
        </p:nvSpPr>
        <p:spPr>
          <a:xfrm>
            <a:off x="2482920" y="2089080"/>
            <a:ext cx="1584360" cy="432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5003640" y="2033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9"/>
          <p:cNvSpPr/>
          <p:nvPr/>
        </p:nvSpPr>
        <p:spPr>
          <a:xfrm>
            <a:off x="4094280" y="2124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0"/>
          <p:cNvSpPr/>
          <p:nvPr/>
        </p:nvSpPr>
        <p:spPr>
          <a:xfrm>
            <a:off x="2268360" y="2111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13"/>
          <p:cNvSpPr/>
          <p:nvPr/>
        </p:nvSpPr>
        <p:spPr>
          <a:xfrm>
            <a:off x="6667560" y="1682640"/>
            <a:ext cx="2081160" cy="6127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Расходы </a:t>
            </a:r>
            <a:r>
              <a:rPr b="0" lang="en-US" sz="1800" spc="-1" strike="noStrike">
                <a:solidFill>
                  <a:srgbClr val="006600"/>
                </a:solidFill>
                <a:latin typeface="Constantia"/>
              </a:rPr>
              <a:t>больше</a:t>
            </a: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4"/>
          <p:cNvSpPr/>
          <p:nvPr/>
        </p:nvSpPr>
        <p:spPr>
          <a:xfrm>
            <a:off x="6667560" y="2425680"/>
            <a:ext cx="2081160" cy="696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Расходы </a:t>
            </a:r>
            <a:r>
              <a:rPr b="0" lang="en-US" sz="1800" spc="-1" strike="noStrike">
                <a:solidFill>
                  <a:srgbClr val="006600"/>
                </a:solidFill>
                <a:latin typeface="Constantia"/>
              </a:rPr>
              <a:t>меньше</a:t>
            </a: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Группа 19"/>
          <p:cNvGrpSpPr/>
          <p:nvPr/>
        </p:nvGrpSpPr>
        <p:grpSpPr>
          <a:xfrm>
            <a:off x="725400" y="2903400"/>
            <a:ext cx="2592360" cy="2288520"/>
            <a:chOff x="725400" y="2903400"/>
            <a:chExt cx="2592360" cy="2288520"/>
          </a:xfrm>
        </p:grpSpPr>
        <p:sp>
          <p:nvSpPr>
            <p:cNvPr id="318" name="TextBox 17"/>
            <p:cNvSpPr/>
            <p:nvPr/>
          </p:nvSpPr>
          <p:spPr>
            <a:xfrm>
              <a:off x="725400" y="290340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19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921,2         1921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,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Левая фигурная скобка 18"/>
            <p:cNvSpPr/>
            <p:nvPr/>
          </p:nvSpPr>
          <p:spPr>
            <a:xfrm rot="16200000">
              <a:off x="1815840" y="313632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b16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Группа 20"/>
          <p:cNvGrpSpPr/>
          <p:nvPr/>
        </p:nvGrpSpPr>
        <p:grpSpPr>
          <a:xfrm>
            <a:off x="3419640" y="3141720"/>
            <a:ext cx="2592360" cy="2288520"/>
            <a:chOff x="3419640" y="3141720"/>
            <a:chExt cx="2592360" cy="2288520"/>
          </a:xfrm>
        </p:grpSpPr>
        <p:sp>
          <p:nvSpPr>
            <p:cNvPr id="321" name="TextBox 21"/>
            <p:cNvSpPr/>
            <p:nvPr/>
          </p:nvSpPr>
          <p:spPr>
            <a:xfrm>
              <a:off x="3419640" y="314172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0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894,4        864,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9,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Левая фигурная скобка 22"/>
            <p:cNvSpPr/>
            <p:nvPr/>
          </p:nvSpPr>
          <p:spPr>
            <a:xfrm rot="16200000">
              <a:off x="4510080" y="337464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Группа 23"/>
          <p:cNvGrpSpPr/>
          <p:nvPr/>
        </p:nvGrpSpPr>
        <p:grpSpPr>
          <a:xfrm>
            <a:off x="6300720" y="3429000"/>
            <a:ext cx="2592360" cy="2288520"/>
            <a:chOff x="6300720" y="3429000"/>
            <a:chExt cx="2592360" cy="2288520"/>
          </a:xfrm>
        </p:grpSpPr>
        <p:sp>
          <p:nvSpPr>
            <p:cNvPr id="324" name="TextBox 24"/>
            <p:cNvSpPr/>
            <p:nvPr/>
          </p:nvSpPr>
          <p:spPr>
            <a:xfrm>
              <a:off x="6300720" y="342900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1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880,0           880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,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Левая фигурная скобка 25"/>
            <p:cNvSpPr/>
            <p:nvPr/>
          </p:nvSpPr>
          <p:spPr>
            <a:xfrm rot="16200000">
              <a:off x="7391160" y="366192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Box 1"/>
          <p:cNvSpPr/>
          <p:nvPr/>
        </p:nvSpPr>
        <p:spPr>
          <a:xfrm>
            <a:off x="725400" y="1682640"/>
            <a:ext cx="11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Двойная стрелка влево/вправо 2"/>
          <p:cNvSpPr/>
          <p:nvPr/>
        </p:nvSpPr>
        <p:spPr>
          <a:xfrm>
            <a:off x="5873760" y="1914480"/>
            <a:ext cx="938160" cy="238320"/>
          </a:xfrm>
          <a:prstGeom prst="leftRightArrow">
            <a:avLst>
              <a:gd name="adj1" fmla="val 50000"/>
              <a:gd name="adj2" fmla="val 49954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Двойная стрелка влево/вправо 27"/>
          <p:cNvSpPr/>
          <p:nvPr/>
        </p:nvSpPr>
        <p:spPr>
          <a:xfrm>
            <a:off x="5913360" y="2521080"/>
            <a:ext cx="858960" cy="210960"/>
          </a:xfrm>
          <a:prstGeom prst="leftRightArrow">
            <a:avLst>
              <a:gd name="adj1" fmla="val 50000"/>
              <a:gd name="adj2" fmla="val 50047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Computer</cp:lastModifiedBy>
  <cp:lastPrinted>2013-10-03T09:30:52Z</cp:lastPrinted>
  <dcterms:modified xsi:type="dcterms:W3CDTF">2019-06-19T08:26:11Z</dcterms:modified>
  <cp:revision>213</cp:revision>
  <dc:subject/>
  <dc:title>Слайд 1</dc:title>
</cp:coreProperties>
</file>