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201E-81AD-4604-8015-FEB6FBE69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1C4B-B58E-4266-9A3A-7FDBF819B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3EA1-9F1B-4F9D-A40F-9367C9477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F7EA-A53D-4E15-A31E-5B9D6C551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9370B-E1E7-4435-9A6B-FA8FEDBF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DEFBB-AFC4-415A-A496-1A010107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01D0D-A390-499E-B885-CFACE777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57211-0305-4EE3-AEDA-FC0AA425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FFE0A-EB24-4E4B-A871-AAF40E31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5FB30-4A36-476F-B5DD-A4E39C8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1B7C2-6A49-433A-AFF4-02D9E83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A501-2840-4C5A-B69A-E50E213C9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493D0-A400-4E0F-A0CD-36F9F12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DB89F-5930-4274-9906-FEC1A452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48222-A58A-47A3-A149-439C3F8A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2ADBA-149F-4FFE-95C0-B88062D8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72D51-0DCA-479A-A34B-08DED2E5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ECEB-D361-4AF8-8A37-514FEF7B72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680FD-C0F9-4CA1-88D8-272A3E43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7FFE9-B1EE-4E5B-B3F3-9307A89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B74C5-BA09-47F3-B60C-0FB61882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2006-11FD-4DEA-BC6C-548C6B69F4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6DBCF-FDEB-4777-A2CD-C3E7D55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DBEBB-8624-4989-8FBD-E598151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63C93-9E17-408D-8926-2E796167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0072C-64EE-45DF-8B98-2BA2CB0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ADA53A-C2AC-4EA9-B408-E5933541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2C673-6104-426A-854D-3B603882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C2611-0F42-4310-858E-70C4730F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846B0-514E-42FF-9BC0-47532490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76FCC-2826-4494-B632-A6E75FA1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E21F2-7982-4F1F-BDD7-4B967859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61EB-6D86-4D4E-A33C-585AD23126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0357F-1E71-49C5-BC00-F7892580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36376-12B6-4757-B8B1-BD491BA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1AE78-DBF7-4102-B21C-0A8F7524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2DAB7-8826-4F4D-9249-90BFFEFB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40995-5CAA-45DA-AA4E-366AF1A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20E4AE-9727-4731-B372-BC7C4CA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D8EC7-E6D1-4691-946C-B46F01C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20A41-CC2C-442C-A653-075E572F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A91F3-C5C5-4E83-8D05-5F0A6007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1E07C-7A08-4B8C-B1CA-A3FCDDF2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B5B2-E2B8-494A-84E9-EE5E2F4AC7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43CAE-8D9C-4033-907B-DE0F2017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3579A-B087-4629-ABF0-DDDC2DFB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225ABB-BEB7-4904-9750-59305DE3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557B7-3E42-4064-93B0-0741C944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FE074-09E5-43C1-9561-2887022F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444BC-2709-4E5B-8DAE-5E79D62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7E195-2599-4D62-B3FF-65E3D9EE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D61BE-E387-41D4-8B46-D922ACAB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80B3CE-85B4-4779-9ED1-E2BBB79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6C01D6-729A-4F96-B06A-2C6AA95F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47D7-020A-474F-BC6D-3A0C2E1E0C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6446B-6A54-4A90-8526-262772A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10A23D-5B95-4680-83ED-04D6E133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62C904-2569-4DA1-B9D6-48FC40F5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DC47-2C17-4E6B-9B9F-A5DDDCA8E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A16A-769B-4FF2-AB50-8C4E455D7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950-8827-42FF-AD0B-F9393F660627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7A5D-1260-4E13-8A7C-0F269B65A7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0E22-284A-45FB-A004-6430E29F0E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B8B7-1225-45EE-933D-FFD9E791CF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8BA-9B4B-456C-97D2-EC57DEE360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rot="20982600">
            <a:off x="3203280" y="22762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Бюджет для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"/>
              </a:rPr>
              <a:t>201</a:t>
            </a: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07640" cy="2500200"/>
        </p:xfrm>
        <a:graphic>
          <a:graphicData uri="http://schemas.openxmlformats.org/drawingml/2006/table">
            <a:tbl>
              <a:tblPr/>
              <a:tblGrid>
                <a:gridCol w="3643560"/>
                <a:gridCol w="1643040"/>
                <a:gridCol w="1428480"/>
                <a:gridCol w="14925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92452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комплексного развития транспортной инфраструктуры Плеховского сельсовета Суджанского района  Курской облас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7AE-A727-4CE5-A75E-C2C20942D6C0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4610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968720" cy="460512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3"/>
          <a:stretch/>
        </p:blipFill>
        <p:spPr>
          <a:xfrm>
            <a:off x="749160" y="901800"/>
            <a:ext cx="76456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2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3"/>
          <a:stretch/>
        </p:blipFill>
        <p:spPr>
          <a:xfrm>
            <a:off x="2771640" y="189000"/>
            <a:ext cx="5985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3"/>
          <a:stretch/>
        </p:blipFill>
        <p:spPr>
          <a:xfrm>
            <a:off x="627120" y="0"/>
            <a:ext cx="8516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en-US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en-US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19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921,2         192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0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94,4        864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9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1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80,0           88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omputer</cp:lastModifiedBy>
  <cp:lastPrinted>2013-10-03T09:30:52Z</cp:lastPrinted>
  <dcterms:modified xsi:type="dcterms:W3CDTF">2019-06-19T08:26:11Z</dcterms:modified>
  <cp:revision>213</cp:revision>
  <dc:subject/>
  <dc:title>Слайд 1</dc:title>
</cp:coreProperties>
</file>