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4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19.png" ContentType="image/png"/>
  <Override PartName="/ppt/media/image17.png" ContentType="image/png"/>
  <Override PartName="/ppt/media/image20.wmf" ContentType="image/x-wmf"/>
  <Override PartName="/ppt/media/image21.jpeg" ContentType="image/jpeg"/>
  <Override PartName="/ppt/media/image24.jpeg" ContentType="image/jpeg"/>
  <Override PartName="/ppt/media/image22.png" ContentType="image/png"/>
  <Override PartName="/ppt/media/image2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B548-09B7-4FCE-8147-5F5FF66E20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7367-9ABA-4F06-8EA4-2D5E261085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662E-7D04-4ED9-A0EC-DF96A2AD29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ыполнение плана по доходам произошло по всем видам доходов и составило 117% к план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сего в суммовом выражении 980, т.р. Которые перешли на 2013г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НДФЛ план -2974,8 т.р. Факт 3452,9т.р. – 11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.на имущ. План 549,7т.р. Факт 691,2т.р. – 1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.налог план 400,0т.р. Факт 507,4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нда земли план 492,4т.р. Факт 575,6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жа имущ. План 475,0т.р. Факт-480,5т.р. – 10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BE6A-AF1D-4B22-B9B2-F77ECBCEFE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безвозмездных поступлений большую часть занимает поступление из ФСР на программу «сельское жилье» (37455,0т.р) и безвозмездные перечисления от организаций для участия в этой программе 11645,0т.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5477-8CD8-46E1-845B-F04DD287A1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6614-BE59-4FF1-BE48-C5B57E1E66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6CD-9994-42F7-8D56-B2523052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182-769E-4112-A375-B8393D9E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F87-B4AA-4E08-95CC-F8FDA125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320-1958-454B-A43F-8EE19990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054-12F8-43B9-A8B0-B98603F2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980-1649-4847-85A2-AA052093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D32-9B12-4D7E-A7E8-9480BEE2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F51-792E-405C-AFC5-7281BD43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1D5-048D-4388-AF87-3440C0BF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BD9-C845-4D3E-B40E-7D91B2F5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A12-275A-4C08-9F7A-1BBA0CB1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E7F-A415-481B-831E-4B799551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A019-1E41-4B2E-9928-22E63DE84E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826920" y="4581360"/>
            <a:ext cx="77058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ОБ ИСПОЛНЕНИИ БЮДЖЕТА МО «Плеховский сельсовет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за 2022 ГО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6384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Диаграмма 1"/>
          <p:cNvGraphicFramePr/>
          <p:nvPr/>
        </p:nvGraphicFramePr>
        <p:xfrm>
          <a:off x="219240" y="857160"/>
          <a:ext cx="872460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857160"/>
                    <a:ext cx="87246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поступления  доходов 20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http://cdn.fishki.net/upload/post/201504/28/1516231/skachannye-fajly.jpg"/>
          <p:cNvPicPr/>
          <p:nvPr/>
        </p:nvPicPr>
        <p:blipFill>
          <a:blip r:embed="rId3"/>
          <a:stretch/>
        </p:blipFill>
        <p:spPr>
          <a:xfrm>
            <a:off x="155520" y="4149720"/>
            <a:ext cx="71532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упление собственных доходов в 2022 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Диаграмма 1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619776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 и фактическое поступл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ы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ходов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22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Диаграмма 1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619776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50920" y="2997360"/>
          <a:ext cx="7172280" cy="2009520"/>
        </p:xfrm>
        <a:graphic>
          <a:graphicData uri="http://schemas.openxmlformats.org/drawingml/2006/table">
            <a:tbl>
              <a:tblPr/>
              <a:tblGrid>
                <a:gridCol w="5864040"/>
                <a:gridCol w="130824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лог на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1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Рисунок 9" descr=""/>
          <p:cNvPicPr/>
          <p:nvPr/>
        </p:nvPicPr>
        <p:blipFill>
          <a:blip r:embed="rId1"/>
          <a:stretch/>
        </p:blipFill>
        <p:spPr>
          <a:xfrm>
            <a:off x="2987640" y="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39" name="Заголовок 1"/>
          <p:cNvSpPr/>
          <p:nvPr/>
        </p:nvSpPr>
        <p:spPr>
          <a:xfrm>
            <a:off x="5435640" y="31680"/>
            <a:ext cx="3240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Налоговые и неналоговые доходы 2022 г. (тыс. 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4A81-679E-455F-AE6F-869DCC0002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ttp://pyriatyn.org.ua/data/photomanager/1485340793_big.jpg"/>
          <p:cNvPicPr/>
          <p:nvPr/>
        </p:nvPicPr>
        <p:blipFill>
          <a:blip r:embed="rId2"/>
          <a:stretch/>
        </p:blipFill>
        <p:spPr>
          <a:xfrm>
            <a:off x="0" y="189000"/>
            <a:ext cx="536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оступления безвозмездных перечислений в 2022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http://gztslovo.ru/byudzhejpg"/>
          <p:cNvPicPr/>
          <p:nvPr/>
        </p:nvPicPr>
        <p:blipFill>
          <a:blip r:embed="rId1"/>
          <a:stretch/>
        </p:blipFill>
        <p:spPr>
          <a:xfrm>
            <a:off x="0" y="476280"/>
            <a:ext cx="2987640" cy="2592360"/>
          </a:xfrm>
          <a:prstGeom prst="rect">
            <a:avLst/>
          </a:prstGeom>
          <a:ln w="0">
            <a:noFill/>
          </a:ln>
        </p:spPr>
      </p:pic>
      <p:pic>
        <p:nvPicPr>
          <p:cNvPr id="144" name="Диаграмма 2" descr=""/>
          <p:cNvPicPr/>
          <p:nvPr/>
        </p:nvPicPr>
        <p:blipFill>
          <a:blip r:embed="rId2"/>
          <a:stretch/>
        </p:blipFill>
        <p:spPr>
          <a:xfrm>
            <a:off x="2289240" y="2154240"/>
            <a:ext cx="636588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Заголовок 1"/>
          <p:cNvSpPr/>
          <p:nvPr/>
        </p:nvSpPr>
        <p:spPr>
          <a:xfrm>
            <a:off x="3654360" y="31680"/>
            <a:ext cx="446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Финансирование муницип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9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10"/>
          <p:cNvSpPr/>
          <p:nvPr/>
        </p:nvSpPr>
        <p:spPr>
          <a:xfrm>
            <a:off x="252360" y="1160640"/>
            <a:ext cx="863928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Финансирование муниципального учреждения осуществлялось на основании «Дорожной карты», утвержденной Постановлением Администрации Плеховского сельсовета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Муниципальныму  учреждению установлено муниципальное задание на оказание муниципальных услуг с указанием показателей объёма и качества его выполн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Перечень муниципальных услуг (работ), оказываемых (выполняемых) муниципальными учреждениями утверждён администрацией МО «Плеховский сельсовет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Муниципальные услуги (работы), оказываемые (выполняемые) муниципальным учреждением в рамках муниципального задания предоставлялись 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населению бесплатно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Финансирование органов местного самоуправления,  и казённого учреждения (Дом культуры) осуществлялось согласно бюджетных смет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85A8-B68C-4A30-9B78-CB935FF328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5292720" y="31680"/>
            <a:ext cx="35989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План и фактичекое исполнение  расходной части бюджета по разде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9640" y="2349360"/>
          <a:ext cx="8209080" cy="3322800"/>
        </p:xfrm>
        <a:graphic>
          <a:graphicData uri="http://schemas.openxmlformats.org/drawingml/2006/table">
            <a:tbl>
              <a:tblPr/>
              <a:tblGrid>
                <a:gridCol w="218880"/>
                <a:gridCol w="3778200"/>
                <a:gridCol w="1620720"/>
                <a:gridCol w="1368360"/>
                <a:gridCol w="1222920"/>
              </a:tblGrid>
              <a:tr h="70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именование разд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Утвержденные бюджетные 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спол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еисполненные 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щегосударственные 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6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обор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эконом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Благоустрой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ульту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2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7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оц.поли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того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9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1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DB75-25B5-4744-A45C-7BFC2EBFCC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http://infoption.ru/images/0fc08bea911527378f9beb410b5a4de8"/>
          <p:cNvPicPr/>
          <p:nvPr/>
        </p:nvPicPr>
        <p:blipFill>
          <a:blip r:embed="rId1"/>
          <a:stretch/>
        </p:blipFill>
        <p:spPr>
          <a:xfrm>
            <a:off x="0" y="0"/>
            <a:ext cx="5219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Заголовок 1"/>
          <p:cNvSpPr/>
          <p:nvPr/>
        </p:nvSpPr>
        <p:spPr>
          <a:xfrm>
            <a:off x="611280" y="31680"/>
            <a:ext cx="799308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Остаток средств на счетах администрации Плеховского сельсовета на 01.01.202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255600" y="1125360"/>
            <a:ext cx="8639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755640" y="1052640"/>
            <a:ext cx="76042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статок средств на едином счёте бюджета МО «Плеховского сельсовета» по состоянию на 1 января 2023 года составил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5,14 тыс. рубл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, из них целевых средств нет. Все средства свободные к  распределению в текущем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2862-ADA3-4702-B30E-C0A0D79599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http://ks-region69.com/wp-content/uploads/2015/03/bednye_zhiteli.jpg"/>
          <p:cNvPicPr/>
          <p:nvPr/>
        </p:nvPicPr>
        <p:blipFill>
          <a:blip r:embed="rId1"/>
          <a:stretch/>
        </p:blipFill>
        <p:spPr>
          <a:xfrm>
            <a:off x="90360" y="2637000"/>
            <a:ext cx="8934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Заголовок 1"/>
          <p:cNvSpPr/>
          <p:nvPr/>
        </p:nvSpPr>
        <p:spPr>
          <a:xfrm>
            <a:off x="712800" y="31680"/>
            <a:ext cx="74055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Итоговые показатели отчета об исполнении бюджета за 2022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8"/>
          <p:cNvSpPr/>
          <p:nvPr/>
        </p:nvSpPr>
        <p:spPr>
          <a:xfrm>
            <a:off x="255600" y="1125360"/>
            <a:ext cx="8639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712800" y="981000"/>
            <a:ext cx="76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892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сполнение доходной части бюджета составляет 2995,7 тыс. руб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сполнение расходной части бюджета составляет  3311,7 тыс. руб.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DEAF-AEDB-41A1-BA9B-1C5E74A21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http://static6.depositphotos.com/1058973/537/i/950/depositphotos_5378781-Money-under-magnifying-glass.jpg"/>
          <p:cNvPicPr/>
          <p:nvPr/>
        </p:nvPicPr>
        <p:blipFill>
          <a:blip r:embed="rId1"/>
          <a:stretch/>
        </p:blipFill>
        <p:spPr>
          <a:xfrm>
            <a:off x="395280" y="2924280"/>
            <a:ext cx="84978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5" descr=""/>
          <p:cNvPicPr/>
          <p:nvPr/>
        </p:nvPicPr>
        <p:blipFill>
          <a:blip r:embed="rId1"/>
          <a:stretch/>
        </p:blipFill>
        <p:spPr>
          <a:xfrm>
            <a:off x="15840" y="0"/>
            <a:ext cx="696960" cy="88416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2"/>
          <p:cNvSpPr/>
          <p:nvPr/>
        </p:nvSpPr>
        <p:spPr>
          <a:xfrm>
            <a:off x="250920" y="4149720"/>
            <a:ext cx="86407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Отчет для граждан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подготовлен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36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Администрацией  МО 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Плеховский сельсовет 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, расположенным по адресу: ул.Новая, дом 4 с. Плехово Суджанский район Кур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телефон/факс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8(47143) 3-15-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mail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 admplehovo@yandex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Отчет для граждан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подготовлен на основании решения собрания депутатов Плеховского сельсовета 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Об утверждении отчета об исполнении бюджета за 2022год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и размещён на сайте поселения по адресу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http://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плеховский-сельсовет.р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CEA0-7FE6-4286-9323-D86CBF4557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администрация"/>
          <p:cNvPicPr/>
          <p:nvPr/>
        </p:nvPicPr>
        <p:blipFill>
          <a:blip r:embed="rId2"/>
          <a:stretch/>
        </p:blipFill>
        <p:spPr>
          <a:xfrm>
            <a:off x="539640" y="189000"/>
            <a:ext cx="8128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258920" y="336600"/>
            <a:ext cx="6121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важаемые жители Плеховского сельсове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едставляем вашему вниманию «Отчет для граждан», который познакомит вас с основными положениями отчета об исполнении бюджета МО «Плеховский сельсовет » за 2022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нформация в доступной форме знакомит вас с основными характеристиками отчета МО «Плеховский сельсовет», достигнутыми целями и  выполненными задачами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Разработка информационного ресурса «Отчет для граждан» является одним из важных направлений бюджетной политики, нацеленной на повышение прозрачности, открытости бюджета и бюджетного проце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«Отчет для граждан» нацелен на получение обратной связи от населения, которому интересны проблемы и итоги деятельности муницип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611280" y="5805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Численность  населения (по регистрации) на 01.01.2023 года составила 602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троица"/>
          <p:cNvPicPr/>
          <p:nvPr/>
        </p:nvPicPr>
        <p:blipFill>
          <a:blip r:embed="rId1"/>
          <a:stretch/>
        </p:blipFill>
        <p:spPr>
          <a:xfrm>
            <a:off x="900000" y="115920"/>
            <a:ext cx="785016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3"/>
          <p:cNvSpPr/>
          <p:nvPr/>
        </p:nvSpPr>
        <p:spPr>
          <a:xfrm>
            <a:off x="123840" y="1052640"/>
            <a:ext cx="2976480" cy="1158840"/>
          </a:xfrm>
          <a:prstGeom prst="rect">
            <a:avLst/>
          </a:prstGeom>
          <a:solidFill>
            <a:srgbClr val="9bbb59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9"/>
          <p:cNvSpPr/>
          <p:nvPr/>
        </p:nvSpPr>
        <p:spPr>
          <a:xfrm>
            <a:off x="179280" y="1474920"/>
            <a:ext cx="2876760" cy="684000"/>
          </a:xfrm>
          <a:prstGeom prst="rect">
            <a:avLst/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E:\New Folder\самоуправление.png"/>
          <p:cNvPicPr/>
          <p:nvPr/>
        </p:nvPicPr>
        <p:blipFill>
          <a:blip r:embed="rId1"/>
          <a:stretch/>
        </p:blipFill>
        <p:spPr>
          <a:xfrm>
            <a:off x="284040" y="1428840"/>
            <a:ext cx="719280" cy="669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3"/>
          <p:cNvSpPr/>
          <p:nvPr/>
        </p:nvSpPr>
        <p:spPr>
          <a:xfrm>
            <a:off x="5164200" y="1052640"/>
            <a:ext cx="2976480" cy="1147680"/>
          </a:xfrm>
          <a:prstGeom prst="rect">
            <a:avLst/>
          </a:prstGeom>
          <a:solidFill>
            <a:srgbClr val="9bbb59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>
            <a:off x="5199120" y="1463760"/>
            <a:ext cx="2876400" cy="682560"/>
          </a:xfrm>
          <a:prstGeom prst="rect">
            <a:avLst/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5"/>
          <p:cNvSpPr/>
          <p:nvPr/>
        </p:nvSpPr>
        <p:spPr>
          <a:xfrm>
            <a:off x="828720" y="155268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1 орган местного само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5929200" y="156528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1 муниципа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E:\New Folder\муниципальное.png"/>
          <p:cNvPicPr/>
          <p:nvPr/>
        </p:nvPicPr>
        <p:blipFill>
          <a:blip r:embed="rId2"/>
          <a:stretch/>
        </p:blipFill>
        <p:spPr>
          <a:xfrm>
            <a:off x="5249880" y="1392120"/>
            <a:ext cx="887400" cy="824040"/>
          </a:xfrm>
          <a:prstGeom prst="rect">
            <a:avLst/>
          </a:prstGeom>
          <a:ln w="0">
            <a:noFill/>
          </a:ln>
        </p:spPr>
      </p:pic>
      <p:sp>
        <p:nvSpPr>
          <p:cNvPr id="62" name="Скругленный прямоугольник 40"/>
          <p:cNvSpPr/>
          <p:nvPr/>
        </p:nvSpPr>
        <p:spPr>
          <a:xfrm>
            <a:off x="5292720" y="234936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ввв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9"/>
          <p:cNvSpPr/>
          <p:nvPr/>
        </p:nvSpPr>
        <p:spPr>
          <a:xfrm>
            <a:off x="5292720" y="234936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1- Дом культуры      (1 филиа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ый треугольник 30"/>
          <p:cNvSpPr/>
          <p:nvPr/>
        </p:nvSpPr>
        <p:spPr>
          <a:xfrm rot="12911400">
            <a:off x="756720" y="2562120"/>
            <a:ext cx="1263960" cy="208080"/>
          </a:xfrm>
          <a:prstGeom prst="rtTriangl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ый треугольник 62"/>
          <p:cNvSpPr/>
          <p:nvPr/>
        </p:nvSpPr>
        <p:spPr>
          <a:xfrm rot="18925200">
            <a:off x="3665160" y="2139840"/>
            <a:ext cx="1263600" cy="208080"/>
          </a:xfrm>
          <a:prstGeom prst="rtTriangl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54"/>
          <p:cNvSpPr/>
          <p:nvPr/>
        </p:nvSpPr>
        <p:spPr>
          <a:xfrm>
            <a:off x="1798560" y="2700360"/>
            <a:ext cx="2352600" cy="2354400"/>
          </a:xfrm>
          <a:prstGeom prst="ellipse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64"/>
          <p:cNvSpPr/>
          <p:nvPr/>
        </p:nvSpPr>
        <p:spPr>
          <a:xfrm>
            <a:off x="2187720" y="2747880"/>
            <a:ext cx="2195280" cy="2195640"/>
          </a:xfrm>
          <a:prstGeom prst="ellipse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5"/>
          <p:cNvSpPr/>
          <p:nvPr/>
        </p:nvSpPr>
        <p:spPr>
          <a:xfrm>
            <a:off x="1473480" y="3638520"/>
            <a:ext cx="368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з бюджета МО «Плеховский сельсо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Финансиру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1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E:\New Folder\город.png"/>
          <p:cNvPicPr/>
          <p:nvPr/>
        </p:nvPicPr>
        <p:blipFill>
          <a:blip r:embed="rId3"/>
          <a:stretch/>
        </p:blipFill>
        <p:spPr>
          <a:xfrm>
            <a:off x="2674800" y="2921040"/>
            <a:ext cx="1265400" cy="73332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3654360" y="31680"/>
            <a:ext cx="4805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Сеть муницип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5" descr=""/>
          <p:cNvPicPr/>
          <p:nvPr/>
        </p:nvPicPr>
        <p:blipFill>
          <a:blip r:embed="rId4"/>
          <a:stretch/>
        </p:blipFill>
        <p:spPr>
          <a:xfrm>
            <a:off x="15840" y="0"/>
            <a:ext cx="1243080" cy="884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9" descr=""/>
          <p:cNvPicPr/>
          <p:nvPr/>
        </p:nvPicPr>
        <p:blipFill>
          <a:blip r:embed="rId5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720" y="1413000"/>
            <a:ext cx="446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Основные поня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B004-72F4-425B-B6B0-6C30FF137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252360" y="2637000"/>
            <a:ext cx="863928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Бюджет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Доходы бюджет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поступающие в бюджет денежные сред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Расходы бюджет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выплачиваемые из бюджета денежные сред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Дефицит бюджета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превышение расходов бюджета над его доход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Профицит бюджет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превышение доходов бюджета над его расход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files.kabobo.ru/tw_files2/urls_1632/9/d-8628/8628_html_m37268541.jpg"/>
          <p:cNvPicPr/>
          <p:nvPr/>
        </p:nvPicPr>
        <p:blipFill>
          <a:blip r:embed="rId2"/>
          <a:stretch/>
        </p:blipFill>
        <p:spPr>
          <a:xfrm>
            <a:off x="179280" y="0"/>
            <a:ext cx="3816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54000" y="31680"/>
            <a:ext cx="5310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Основные характеристики бюдж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63D1-117B-45FA-92DF-0361E732F3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7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ahmedova\Рабочий стол\New Folder\1.png"/>
          <p:cNvPicPr/>
          <p:nvPr/>
        </p:nvPicPr>
        <p:blipFill>
          <a:blip r:embed="rId2"/>
          <a:stretch/>
        </p:blipFill>
        <p:spPr>
          <a:xfrm>
            <a:off x="658800" y="995400"/>
            <a:ext cx="1866960" cy="207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ahmedova\Рабочий стол\New Folder\2.png"/>
          <p:cNvPicPr/>
          <p:nvPr/>
        </p:nvPicPr>
        <p:blipFill>
          <a:blip r:embed="rId3"/>
          <a:stretch/>
        </p:blipFill>
        <p:spPr>
          <a:xfrm>
            <a:off x="2282760" y="1190520"/>
            <a:ext cx="2001960" cy="233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ahmedova\Рабочий стол\New Folder\3.png"/>
          <p:cNvPicPr/>
          <p:nvPr/>
        </p:nvPicPr>
        <p:blipFill>
          <a:blip r:embed="rId4"/>
          <a:stretch/>
        </p:blipFill>
        <p:spPr>
          <a:xfrm>
            <a:off x="4711680" y="1179360"/>
            <a:ext cx="2130480" cy="2465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ahmedova\Рабочий стол\New Folder\4.png"/>
          <p:cNvPicPr/>
          <p:nvPr/>
        </p:nvPicPr>
        <p:blipFill>
          <a:blip r:embed="rId5"/>
          <a:stretch/>
        </p:blipFill>
        <p:spPr>
          <a:xfrm>
            <a:off x="7113600" y="1141560"/>
            <a:ext cx="1440000" cy="1780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7"/>
          <p:cNvSpPr/>
          <p:nvPr/>
        </p:nvSpPr>
        <p:spPr>
          <a:xfrm>
            <a:off x="867240" y="30672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2767680" y="377352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4967280" y="377352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7325280" y="306720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1"/>
          <p:cNvSpPr/>
          <p:nvPr/>
        </p:nvSpPr>
        <p:spPr>
          <a:xfrm>
            <a:off x="825480" y="4508640"/>
            <a:ext cx="3230640" cy="72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авильный пятиугольник 22"/>
          <p:cNvSpPr/>
          <p:nvPr/>
        </p:nvSpPr>
        <p:spPr>
          <a:xfrm rot="10800000">
            <a:off x="1511280" y="4586040"/>
            <a:ext cx="1873440" cy="1003320"/>
          </a:xfrm>
          <a:prstGeom prst="pentagon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1572840" y="4627440"/>
            <a:ext cx="175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Дефи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(расходы больш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до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4"/>
          <p:cNvSpPr/>
          <p:nvPr/>
        </p:nvSpPr>
        <p:spPr>
          <a:xfrm>
            <a:off x="304920" y="5595840"/>
            <a:ext cx="4286160" cy="89064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411120" y="5543640"/>
            <a:ext cx="4059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и превышении расходов над доходами принимается решение об источниках покрытия дефицита (привлечение кредитов, изменение остатков средст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6"/>
          <p:cNvSpPr/>
          <p:nvPr/>
        </p:nvSpPr>
        <p:spPr>
          <a:xfrm>
            <a:off x="5232240" y="4502160"/>
            <a:ext cx="3229200" cy="71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авильный пятиугольник 27"/>
          <p:cNvSpPr/>
          <p:nvPr/>
        </p:nvSpPr>
        <p:spPr>
          <a:xfrm rot="10800000">
            <a:off x="5916600" y="4566960"/>
            <a:ext cx="1874880" cy="1003320"/>
          </a:xfrm>
          <a:prstGeom prst="pentagon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8"/>
          <p:cNvSpPr/>
          <p:nvPr/>
        </p:nvSpPr>
        <p:spPr>
          <a:xfrm>
            <a:off x="6021360" y="4610160"/>
            <a:ext cx="166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офи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(доходы больш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с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9"/>
          <p:cNvSpPr/>
          <p:nvPr/>
        </p:nvSpPr>
        <p:spPr>
          <a:xfrm>
            <a:off x="4711680" y="5576760"/>
            <a:ext cx="4194360" cy="9208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0"/>
          <p:cNvSpPr/>
          <p:nvPr/>
        </p:nvSpPr>
        <p:spPr>
          <a:xfrm>
            <a:off x="4867200" y="5564160"/>
            <a:ext cx="397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и превышении доходов над расходами принимается решение , как их использовать (погашать долг, накапливать остатки, направлять на развит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3280" y="836280"/>
            <a:ext cx="352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Приоритеты бюдж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EA72-2972-441F-8DE3-1185146F5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250920" y="2924280"/>
          <a:ext cx="8496360" cy="3063600"/>
        </p:xfrm>
        <a:graphic>
          <a:graphicData uri="http://schemas.openxmlformats.org/drawingml/2006/table">
            <a:tbl>
              <a:tblPr/>
              <a:tblGrid>
                <a:gridCol w="360360"/>
                <a:gridCol w="3456000"/>
                <a:gridCol w="468000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сполнение действующих расходных обязательст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язательства муниципалитета по выплате заработной платы, начислений по оплате труда,  выполнены в полном объёме. Остальные расходы выполнены по факту потреб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ыполнение обязательств и задач, поставленных Указами Президента Российской Федерации от 07 мая 201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о Указу № 597 – показатели достигнут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ереход на программный бюдж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оля программ в бюджете за 2020 год составляет 55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32" descr="D:\Desktop\kakoy-nalog-vyibrat-pri-otkryitii-IP.jpg"/>
          <p:cNvPicPr/>
          <p:nvPr/>
        </p:nvPicPr>
        <p:blipFill>
          <a:blip r:embed="rId2"/>
          <a:stretch/>
        </p:blipFill>
        <p:spPr>
          <a:xfrm>
            <a:off x="0" y="163440"/>
            <a:ext cx="38512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3654360" y="31680"/>
            <a:ext cx="4950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Исполнение майских указов Президен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9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2"/>
          <p:cNvSpPr/>
          <p:nvPr/>
        </p:nvSpPr>
        <p:spPr>
          <a:xfrm>
            <a:off x="252360" y="2637000"/>
            <a:ext cx="863928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каз Президента Российской Федерации от 07 мая 2012 года № 597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«О мероприятиях по реализации государственной социальной политики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36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иняты «дорожные карты» (план развития) в сфере  культуры, согласно которым средняя заработная плата в МО «Плеховский сельсовет» 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28760" y="5027760"/>
          <a:ext cx="8208720" cy="1830240"/>
        </p:xfrm>
        <a:graphic>
          <a:graphicData uri="http://schemas.openxmlformats.org/drawingml/2006/table">
            <a:tbl>
              <a:tblPr/>
              <a:tblGrid>
                <a:gridCol w="2824200"/>
                <a:gridCol w="2692080"/>
                <a:gridCol w="269244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но средней заработной платы по экономике Курской области(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есяц (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 учреждения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31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31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21" descr="D:\Desktop\1424541652474.jpg"/>
          <p:cNvPicPr/>
          <p:nvPr/>
        </p:nvPicPr>
        <p:blipFill>
          <a:blip r:embed="rId2"/>
          <a:stretch/>
        </p:blipFill>
        <p:spPr>
          <a:xfrm>
            <a:off x="395280" y="115920"/>
            <a:ext cx="2952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1"/>
          <p:cNvSpPr/>
          <p:nvPr/>
        </p:nvSpPr>
        <p:spPr>
          <a:xfrm>
            <a:off x="3654360" y="31680"/>
            <a:ext cx="446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Доходы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TextBox 8"/>
          <p:cNvGrpSpPr/>
          <p:nvPr/>
        </p:nvGrpSpPr>
        <p:grpSpPr>
          <a:xfrm>
            <a:off x="195120" y="1859040"/>
            <a:ext cx="3084480" cy="3517920"/>
            <a:chOff x="195120" y="1859040"/>
            <a:chExt cx="3084480" cy="3517920"/>
          </a:xfrm>
        </p:grpSpPr>
        <p:pic>
          <p:nvPicPr>
            <p:cNvPr id="112" name="TextBox 8" descr=""/>
            <p:cNvPicPr/>
            <p:nvPr/>
          </p:nvPicPr>
          <p:blipFill>
            <a:blip r:embed="rId1"/>
            <a:stretch/>
          </p:blipFill>
          <p:spPr>
            <a:xfrm>
              <a:off x="195120" y="1859040"/>
              <a:ext cx="308448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52360" y="1895400"/>
              <a:ext cx="297036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алоговые дох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алог на доходы физических ли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алог на имущество физических ли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Земельный нало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Прямоугольник 19"/>
          <p:cNvGrpSpPr/>
          <p:nvPr/>
        </p:nvGrpSpPr>
        <p:grpSpPr>
          <a:xfrm>
            <a:off x="195120" y="1011240"/>
            <a:ext cx="8753760" cy="579600"/>
            <a:chOff x="195120" y="1011240"/>
            <a:chExt cx="8753760" cy="579600"/>
          </a:xfrm>
        </p:grpSpPr>
        <p:pic>
          <p:nvPicPr>
            <p:cNvPr id="115" name="Прямоугольник 19" descr=""/>
            <p:cNvPicPr/>
            <p:nvPr/>
          </p:nvPicPr>
          <p:blipFill>
            <a:blip r:embed="rId2"/>
            <a:stretch/>
          </p:blipFill>
          <p:spPr>
            <a:xfrm>
              <a:off x="195120" y="1011240"/>
              <a:ext cx="87537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52360" y="1044720"/>
              <a:ext cx="8639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ходы бюджет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Прямая соединительная линия 21"/>
          <p:cNvSpPr/>
          <p:nvPr/>
        </p:nvSpPr>
        <p:spPr>
          <a:xfrm>
            <a:off x="4724280" y="1476360"/>
            <a:ext cx="0" cy="42228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3"/>
          <p:cNvSpPr/>
          <p:nvPr/>
        </p:nvSpPr>
        <p:spPr>
          <a:xfrm flipV="1">
            <a:off x="1736640" y="1682640"/>
            <a:ext cx="0" cy="2160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5"/>
          <p:cNvSpPr/>
          <p:nvPr/>
        </p:nvSpPr>
        <p:spPr>
          <a:xfrm flipV="1">
            <a:off x="7758000" y="1703160"/>
            <a:ext cx="0" cy="2156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7"/>
          <p:cNvSpPr/>
          <p:nvPr/>
        </p:nvSpPr>
        <p:spPr>
          <a:xfrm flipV="1">
            <a:off x="1736640" y="1671120"/>
            <a:ext cx="6031080" cy="1116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TextBox 33"/>
          <p:cNvGrpSpPr/>
          <p:nvPr/>
        </p:nvGrpSpPr>
        <p:grpSpPr>
          <a:xfrm>
            <a:off x="3303720" y="1859040"/>
            <a:ext cx="2895480" cy="3560760"/>
            <a:chOff x="3303720" y="1859040"/>
            <a:chExt cx="2895480" cy="3560760"/>
          </a:xfrm>
        </p:grpSpPr>
        <p:pic>
          <p:nvPicPr>
            <p:cNvPr id="122" name="TextBox 33" descr=""/>
            <p:cNvPicPr/>
            <p:nvPr/>
          </p:nvPicPr>
          <p:blipFill>
            <a:blip r:embed="rId3"/>
            <a:stretch/>
          </p:blipFill>
          <p:spPr>
            <a:xfrm>
              <a:off x="3303720" y="1859040"/>
              <a:ext cx="289548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357720" y="1893960"/>
              <a:ext cx="2790720" cy="34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еналоговые дох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ходы от использование имущества, находящегося в муниципальной собстве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ходы от реализации имущества, находящегося в муниципальной собстве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Штрафы, санкции, возмещение ущерб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TextBox 34"/>
          <p:cNvGrpSpPr/>
          <p:nvPr/>
        </p:nvGrpSpPr>
        <p:grpSpPr>
          <a:xfrm>
            <a:off x="6272280" y="1859040"/>
            <a:ext cx="2712960" cy="3506040"/>
            <a:chOff x="6272280" y="1859040"/>
            <a:chExt cx="2712960" cy="3506040"/>
          </a:xfrm>
        </p:grpSpPr>
        <p:pic>
          <p:nvPicPr>
            <p:cNvPr id="125" name="TextBox 34" descr=""/>
            <p:cNvPicPr/>
            <p:nvPr/>
          </p:nvPicPr>
          <p:blipFill>
            <a:blip r:embed="rId4"/>
            <a:stretch/>
          </p:blipFill>
          <p:spPr>
            <a:xfrm>
              <a:off x="6272280" y="1859040"/>
              <a:ext cx="2712960" cy="34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326280" y="1893960"/>
              <a:ext cx="2565360" cy="34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Безвозмездные поступ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та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Субсид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Субвен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Иные межбюджетные трансфер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Прочие безвозмездные поступления от юридических и физических ли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Рисунок 14" descr=""/>
          <p:cNvPicPr/>
          <p:nvPr/>
        </p:nvPicPr>
        <p:blipFill>
          <a:blip r:embed="rId5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57E0-9A86-4C3E-A59B-1ECA065B3A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1:50:12Z</dcterms:created>
  <dc:creator>Валентина</dc:creator>
  <dc:description/>
  <dc:language>en-US</dc:language>
  <cp:lastModifiedBy>User</cp:lastModifiedBy>
  <dcterms:modified xsi:type="dcterms:W3CDTF">2023-02-22T08:33:04Z</dcterms:modified>
  <cp:revision>227</cp:revision>
  <dc:subject/>
  <dc:title>Исполнение бюджета фокинского сельского поселения</dc:title>
</cp:coreProperties>
</file>